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9A0D-62CC-4431-B7A3-EA333710B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6F0-273A-45B8-A341-0AA9E9C7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A57F-3687-413B-BE81-A66806A2C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81E-FF17-4D70-93B1-8E1DB4D2F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ECF-889D-4AD8-B71D-AE53A616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7DA-7FAE-4E19-BB30-F8309D64B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5E85-70F2-4811-8259-108B4F44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93FA-A1C2-4592-BFE2-2FE25EDF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804D-83DD-426C-AF7F-A0A1962A1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A787-247E-43F2-9672-F1CF2C75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47B-F4C3-430C-B16E-7C49E23ED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02F4-13AC-43C5-B16A-1FACC7BC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722-A776-4445-844E-31E79321A5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E187-0A51-49BA-AC71-8AD9B9DFE3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5C96-B1CC-4C80-A1D0-211F28AF5E8F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B3DE-4F08-46CD-8B49-9F4DCDE1B4E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1ACE-A599-400D-9446-A322BBBFBA1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935E-4E71-4C45-899F-E3A188F61579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C618-91A8-4F23-860A-1661177D7FB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2208-0297-42D4-96FC-6D9B7C0296B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5710-DD63-498E-B452-286EF5B46F77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1281-9F57-4BAC-AC0B-FAEBB1629A7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375-C7E8-4500-AA4C-8DF434B56EA3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893-7B7D-4FFE-A3BC-86C1DD25B23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A04C-9613-4263-9C60-74C39865D9F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34FF-3D39-473F-A20F-769E968D749F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4423-133B-4282-9A34-0E22EC6D7F88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42DF-20EE-40B9-9442-21829A95FAAB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9C72-3AA5-4755-A6F9-BA8F551ACF2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E0C9-FE0B-4D96-9B80-60B7E2DAC2D9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286-D008-422F-9497-0F1D212CCC0C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6431-3790-4B97-94B3-A93371B6066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975E-C5CC-43B6-A0CF-1C2CB8A3CE0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4A9B-4A1C-4947-80A0-42D2B1C6B6BB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7DF1-F551-45DB-B4B9-DFCB60BFC6E7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1538-1425-4B68-9FC4-787C0F935C9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CBD54-BEEF-4BE6-A4C9-42A949CC6E7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F350-5731-4CA3-8F32-C1E0451170F4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CC78-C3ED-4B0A-8A1C-0155B8B8E33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B3BA-022B-44E6-8D56-7A37193E381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59AF-343A-4AEE-8A6F-183E2FA297D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E63E-B4F1-42C4-AAE7-68EA9A80802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F5F8-B1F9-4544-804D-741B6479145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A444-7187-45D8-9234-0A03AFA3CEA6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A040-4395-407F-87A2-F0899C561951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9B3E-FE66-4BA9-995C-9B89FA5F6088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D080A-5681-4A83-8B99-08AABF869F1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A763-CB53-40FA-967A-64CB53B85C99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68D9-4464-4409-834A-74FA7C5EB24F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5BBD-76E0-4745-BFCA-A927344E486B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33FF-B58D-4DF9-8785-5190D22BEBE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A9FD-A049-40B6-A5CE-54562478418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7E69-7DCC-4F97-996D-36BAA65DF00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EFF6-6AC7-49A8-AAD9-58A3EBAECDB0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B825-E4D0-4598-BF44-41139D0BD117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F0D0-D8C5-4B73-97BA-7EBE58A80340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BD00-BA56-4BE5-9AA5-60B540C4728F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555D-BE7B-4979-88C0-695C75E13C6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97C0-3BD9-4FB5-BC83-4058FABC7074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9C5A-57A4-4523-BBF7-EC32DD72B107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E43-2E3F-4F7F-8F18-93C8047B52EB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15EF-EB75-4E17-BF41-BB66F61222A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E34A-AA4C-4C73-85DB-3D65AA1FA29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BD71-CF0F-49E6-8057-5CEE77DC38B6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4D9-DDB1-4837-8385-5F458D22933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4:23:38Z</dcterms:modified>
  <cp:revision>33</cp:revision>
  <dc:subject/>
  <dc:title>Blank Jeopardy</dc:title>
</cp:coreProperties>
</file>