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8BF9-36A9-45F5-BFA2-CD72269A7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92C1-530A-4E3B-81F5-A125982D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DAB2-B290-43F7-B57F-9209637D6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73BD-FF61-44D1-B2A7-54D5036A6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3711-9012-46F7-AE9A-0620EEE7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EA01-A45C-47B6-AB51-B42DC8CA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ACCE-6FD9-40D0-A5FB-0BE61684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9529-26F3-444F-9BDA-5EF5AE02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869D-6A18-4868-8326-9BB9E713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1586-C99A-4D29-93A5-CFC49CDF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CA82-46BD-41FD-8C98-8BEB8838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DA84-71CF-4108-8DCD-238D6986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EC6E-4F3F-4EEF-9375-2189A61EC0E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1957-DBCC-4CB8-8FD2-DCE692679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6.xml"/><Relationship Id="rId7" Type="http://schemas.openxmlformats.org/officeDocument/2006/relationships/slide" Target="slide18.xml"/><Relationship Id="rId8" Type="http://schemas.openxmlformats.org/officeDocument/2006/relationships/slide" Target="slide20.xml"/><Relationship Id="rId9" Type="http://schemas.openxmlformats.org/officeDocument/2006/relationships/slide" Target="slide26.xml"/><Relationship Id="rId10" Type="http://schemas.openxmlformats.org/officeDocument/2006/relationships/slide" Target="slide28.xml"/><Relationship Id="rId11" Type="http://schemas.openxmlformats.org/officeDocument/2006/relationships/slide" Target="slide30.xml"/><Relationship Id="rId12" Type="http://schemas.openxmlformats.org/officeDocument/2006/relationships/slide" Target="slide32.xml"/><Relationship Id="rId13" Type="http://schemas.openxmlformats.org/officeDocument/2006/relationships/slide" Target="slide34.xml"/><Relationship Id="rId14" Type="http://schemas.openxmlformats.org/officeDocument/2006/relationships/slide" Target="slide36.xml"/><Relationship Id="rId15" Type="http://schemas.openxmlformats.org/officeDocument/2006/relationships/slide" Target="slide40.xml"/><Relationship Id="rId16" Type="http://schemas.openxmlformats.org/officeDocument/2006/relationships/slide" Target="slide44.xml"/><Relationship Id="rId17" Type="http://schemas.openxmlformats.org/officeDocument/2006/relationships/slide" Target="slide44.xml"/><Relationship Id="rId18" Type="http://schemas.openxmlformats.org/officeDocument/2006/relationships/slide" Target="slide48.xml"/><Relationship Id="rId19" Type="http://schemas.openxmlformats.org/officeDocument/2006/relationships/slide" Target="slide50.xml"/><Relationship Id="rId20" Type="http://schemas.openxmlformats.org/officeDocument/2006/relationships/slide" Target="slide2.xml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9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0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1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2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4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5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6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7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8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9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0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cha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ype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ou Gues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t,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D02F-8EDF-4FC4-B677-F881D8C02DC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take away liquid as vap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5AB2-CFD1-485D-BE0E-421828F558F9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vapor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ABB5-74EB-4B1B-A853-76D1931CD4ED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stores information and allows the user to access webs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EDAC-F950-49D8-8DC0-E856498587CF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ompu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E5B1-24CF-4D42-81EC-C4AE004B9E0D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ny varieties, usually involving one to four whe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58E3-D512-428E-BEC4-69981EA2B740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icyc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3C9B-85B9-46A6-8D7F-0839B57228A3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d mainly to water dry 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188C-6346-4EE1-8B83-113D44A337C7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sprinkler or irrigation syst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A48E-B512-42C4-B04E-A58198DF74B5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has gears and is used to measure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33D6-90B0-451F-B12B-4AF562FCFBAA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lo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97CC-D18E-44BA-9C9A-0873FD73585E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group of objects that inter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2E62-2E28-48B3-93B0-21CCC198BF3B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de with a wooden spool, rubber band, and coffee stir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945C-E8EB-4FF9-9CD9-CB91F2F6DEFD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poolmobi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9E97-B5E8-41E9-A61F-98906D2B2DCC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s acted on or influencing each 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54C6-5BAF-4900-9304-CF09BF49ADD1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tera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25A5-717D-4D19-8CFF-10E351C8339F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disappear in liquid by stir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B1C0-60B1-4184-A325-B429F5FC5807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dissol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F13E-5522-43D5-AD12-1311E0DF235A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ergy used to make a spool-mobile tra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49B5-0780-42C2-B071-C6B9C68E3B6C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echanical energ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5371-B1F3-4DAD-AA90-F9AC59AB6B9A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olored or colorless liquid that is cloudy or milk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5FD3-6297-4A04-B677-FE3B60DC6C9A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uspen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7656-10E1-42FB-A478-11C7A845F5E5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D994-D94B-4311-9C9E-276CA55F4915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haracteristic or trait used to describe an ob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2CAF-F769-4389-965C-B1226411E8CF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roper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53B0-2854-4AB3-90E6-3420BD1AB77B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blood vessels and art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EB99-B555-4BFA-9C7A-C9593FCED22D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circulatory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A436-549D-48A8-8931-A145D0A49071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tibia, phalanges, and sp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ED89-C68C-4CA0-B45C-B00573C43E1B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skeletal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E446-FA09-40E7-8841-1EB408D221A5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esophagus, stomach and both large and small intest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DC7B-EAB7-4BEF-8D5D-B0BB9D90F043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digestive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D60E-1027-4FCB-A4DD-2AA03B34F738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deltoid, trapezius, and bice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5FB9-D8B5-46B1-9C13-EDEB835FF820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muscular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6BAD-0F29-412D-9DC9-DBD83EFA856F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thing that can be seen, touched, tasted or he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54E5-7B26-4934-BBED-9C84E615F6B6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lungs and the way we brea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4309-E5AA-48E6-8631-13C43968BDCA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respiratory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1AA9-BB83-441F-811D-48EB0E0561A2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ter made up of two or more parts that keep their own characteris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BE86-DCF5-432B-9E84-FA6C55E475B5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mix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0394-F836-491E-866E-C44AEFE1AACF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mixture of two or more materials, [a clear liquid system, can be colored or colorless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9535-C4EF-4B5F-8F26-1C32B0698F4B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olu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1A0C-BDF6-4B29-9ED0-04E1D8933D6C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DD00-E340-4EB2-8732-639E4C2672B9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o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D5E8-BACE-4A82-A4F2-B70B38806A4C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a gas or vapor changes to a liqu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3E98-86F4-4EDF-A704-469C99E075A6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condens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2348-5238-4146-999D-14F3A0F37CBB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obj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6201-BE21-4CA1-9F59-08776D63C784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dye that shows whether or not something is acid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47D5-33CA-42FC-B589-20BB438A7D0F}" type="slidenum">
              <a:t>50</a:t>
            </a:fld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T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88B8-E39D-469B-9A87-537FFD57C3E2}" type="slidenum">
              <a:t>51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educated guess as to what will happ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121F-618E-48EC-ABD4-41B8956134FD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redi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69C5-C792-4882-94FB-F2CE08D2C0D0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bility to do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E7BB-89B9-468B-841C-A5C20D752C30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nerg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736D-5698-4EB7-A500-11C0B71BA0A2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Donna Eustace</dc:creator>
  <dc:description/>
  <dc:language>en-US</dc:language>
  <cp:lastModifiedBy>LCSD</cp:lastModifiedBy>
  <dcterms:modified xsi:type="dcterms:W3CDTF">2009-11-03T14:23:38Z</dcterms:modified>
  <cp:revision>33</cp:revision>
  <dc:subject/>
  <dc:title>Blank Jeopardy</dc:title>
</cp:coreProperties>
</file>