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ED5-B068-4330-BA71-1FA4BB0D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8E1-2F8C-46F6-A2DD-54A96E9C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0F9-12E0-4271-8FB3-64347C29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42D-D5D1-4DEE-B804-FE598D4A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70C-E065-4B73-B194-6ABA362F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147-FF5A-404E-82E6-80538670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E06-AD40-4DED-AB28-9E7DE704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107-D01D-49FF-A104-A3B4B7CF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F3D-7E9D-45E1-9874-4BE9BF8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A4E-1A2D-4007-A601-756D579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543-B78B-4AC9-BFAD-803865D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455-F56A-4841-B455-22A20E4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E232-7B06-452D-B274-BFF820AE21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9E22-6C35-4C5C-A28A-D36F2ED40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FD4-3360-4A0D-92F1-A04533FF09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705-F0BC-44B6-A44A-69E6D839046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0AD-B08D-4028-93B8-574FD016FB8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685-8661-4F3C-9D80-7D1F2606D9C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461-DE3C-45C8-AD8E-D8EF77CB08A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410-4ADC-4F65-8AE2-C405FE41B05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948-8B56-43F8-B131-EBA9A98117D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D09-7306-451A-B39F-BF97201CEF6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0F1-F542-4B3F-8119-0A7AD3E22EA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370-677B-4C51-B6DC-42A5FCC9E6A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D47-CC99-4ACB-8776-29B4CF6658F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616-8475-4C0A-B736-EA50D8B6273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72E-574E-4E78-8D82-9C120567212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21E-DBBE-4C9F-B067-C8BCB33EB90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B11-8439-4166-A5F3-6F224C5AC43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1F5-2372-4D1B-A164-87FC664FC81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387-9116-4A98-8C44-50D77D76182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EBF-8563-4715-A3D9-A9E4AADDDA2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30C-85B2-49B3-B003-5534BC5BEFF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5ED-0331-49AB-BA5F-F09875DDB64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7FA-4352-41A2-9F15-710541665D7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A86-20EC-46DF-892D-2C4137792B6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81D-A3A1-467B-874D-D23F4FA54A5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BBA-0123-42A9-8412-48E36D153EA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D6B-9B72-4C62-AD22-2AD96F6D22EB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3D2-13E3-4DAF-B525-283A912A9DF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CD8-7BE7-4E63-917D-7D922CEFAB6E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E73-406D-49FF-AE75-F5330A81B7D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D0D-B791-4916-87C7-577EFFF2355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967-B565-424E-A4AC-7ADAB1D7F9E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94E-7BAB-4134-BAFF-BE5A71CB5C8E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E27-55C6-4F66-AB2D-5095E700CCDB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FE5-5C15-44B9-B6BD-65A5C2BCE87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BF9-DBA0-4209-B383-06D8126AB9A7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EFE-9B8C-464D-875F-400F2E62BF0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420-BB47-43E2-9F5E-849464CE70CD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A4C-D9AB-4A6B-916C-E04AC71C29E7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B9F-795B-4343-B744-36FC39E5A58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B72-EC8C-400B-AF37-3A5CCF004920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8CC-B5D6-4965-A5BC-826F8ECE386B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9A6-5399-4103-8600-1DF06F88F1DA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F8B-64A9-44A4-81AC-4F0BC51F5679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96D-B6E2-487E-B7AD-D6A122CDD154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27C-21DF-486E-B9F9-83D07DDEB253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8BE-9E34-4050-9D75-438EB72089FA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F0B-3109-494A-B25B-43DCAFF86B90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220-0703-4C03-B71A-F32A9EEC702C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F34-3040-4CE1-8AFA-418D3E9D70A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11B-9C06-42D4-A8D1-34FE8CD76E5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69E-07BD-43AD-8B92-1E934B088DE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813-110F-4158-ACC1-8EFBF247EFD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4:23:38Z</dcterms:modified>
  <cp:revision>33</cp:revision>
  <dc:subject/>
  <dc:title>Blank Jeopardy</dc:title>
</cp:coreProperties>
</file>