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85D6-15E1-4130-81F4-2E7CC3499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EF5-6220-4DF6-8637-E1FD3257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AA79-6AA5-470F-BC70-45763857B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35DE-EB7F-4487-95A8-09B609A93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0CCF-2356-4A46-AEAF-F9DB9392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24D6-F04C-40DE-8DA6-A7574A0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CB46-B2DB-4091-BB3F-42161235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1295-6F13-4173-B8E5-62ECFAABA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3E8-5391-452D-81AE-6C4C8BB8E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F097-9813-420F-B2EC-4DF02B42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77E7-96E6-4663-91A0-87968E1D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4CC9-F625-4FCE-9C09-5792766F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0C30-1443-4A5D-B769-8E54F7264D0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20A7-B2EA-46CA-9BC3-FD909A409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B0DB-F8D0-4EE5-9D85-5BE99836D1B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55841-5C9B-41D6-AFBD-AE9FBF80F30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3670-1C3E-46F6-814E-C6E771A2FF6E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DBFD-DFD7-4E75-949D-AFB2B68C75AF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973-D7C6-4FFD-89F3-C627AB1E42A6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364-B072-421A-8E45-D38A6BF725B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1FB-1949-4929-9D55-0E4BC645290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0591-8A6E-45F3-A38E-04E3556A7EA5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E866-E19F-411A-9079-0C8B3D2C5FC8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BF59-F76D-4095-B519-DE387E111CB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8937-CF3D-4C81-AC73-52CE5E443344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956-76A2-4CCA-B205-4A727AE47D4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145F-AF7F-4EE9-835A-8839BCA022E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3577-6CA9-4D5C-82BE-258D25D7D39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6743-C4FE-4506-832C-081F143E63C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877C-C738-4B44-BD23-4C2B9221857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0A9F-DECD-4BDD-9DD8-6AF1EDE898B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B06-6161-41A4-B10D-726D48DBC47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130-8233-4AA2-BD8B-5CCEBB590537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B4CF-43B1-4362-9D57-1F6EF200EF4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B61B-3A05-4A47-9E49-01B63253121D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33C-B712-48F7-9D6A-3C04FDAA474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21FF-B55F-479E-A9B7-7ED0A14386E2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422B-C6F4-4418-A887-586C0901987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F620-C9F8-4A4D-BB5A-C36C96F0070B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6B4C-5BCB-4636-B82E-470CED7BA2B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1312-BFB3-4B43-B26E-B511BE455EC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9330-ADC9-49BD-8365-8749BD08361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1B11-F33B-4D21-818E-C6D7E6A9E12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DC39-E120-46B6-9C2A-452CCCAFFFC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F23-955C-4CD8-ADC2-9BF4C889CC3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FDD-6519-4201-BB68-07F52A43E78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15C2-8031-431C-8582-53E561B83B0D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D0C5-466B-4009-837A-9F26D6F5965C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9569-DD19-4885-A29C-0D73C444ECEC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46C5-20F4-4CD4-B9CC-0996EB489A7F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0E60-A2AD-4CC1-BB29-1F090A1AE348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F4E-B11D-45FA-93B7-2A7AEDEF8E0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6AB8-98DD-4582-AB0A-F4D1102C0866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C82E-053F-4873-B92B-9F13B25F23EF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52F8-AACA-4B83-8627-219D08C8597A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2671-A5F3-4683-8731-9E0187061E4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98C0-AD99-415B-8F36-CCD7BBB4D1D3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3090-8BD3-49CA-A978-1BBE12731B8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0227-42BA-4EDB-8338-E9C665DC772A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CC45-8A55-4AEC-B464-7E40061C42E4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54C-5A31-4F54-973A-F617CCBDF8F8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2DE1-72F8-44AD-9596-826012474BF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8E5F-602B-4DC3-B204-35205BFBAB3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66DF-1403-408A-AC78-337423BB9EA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F2B9-D7F7-4A6F-B7DB-4EC7440B0D4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4:23:38Z</dcterms:modified>
  <cp:revision>33</cp:revision>
  <dc:subject/>
  <dc:title>Blank Jeopardy</dc:title>
</cp:coreProperties>
</file>