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A0E2-C2A9-4D73-B8FC-F6372374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972E-5DC0-4C01-B7EC-02A6BEF7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0E51-D304-427B-B17D-10768DBB4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B567-D512-4F1B-8C78-B41DEEB97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A857-D802-4F30-B125-FFD80C7C4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3753-B664-44A2-BA81-3CA194A7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DBDA-9653-4D96-8115-FD4F34585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B15-353F-4487-A489-9DF288BF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EDC5-BD44-4529-B7F6-A6ABD159E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2F68-403D-4573-870A-4B5D37817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F6B4-10E2-4B2E-A193-AF565A357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53D-43D2-447E-8516-29E558865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1757-A4D8-46FC-B6E3-B57696578CB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9F395-572E-4FB2-B27F-1C22F5759B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8.xml"/><Relationship Id="rId4" Type="http://schemas.openxmlformats.org/officeDocument/2006/relationships/slide" Target="slide10.xml"/><Relationship Id="rId5" Type="http://schemas.openxmlformats.org/officeDocument/2006/relationships/slide" Target="slide12.xml"/><Relationship Id="rId6" Type="http://schemas.openxmlformats.org/officeDocument/2006/relationships/slide" Target="slide16.xml"/><Relationship Id="rId7" Type="http://schemas.openxmlformats.org/officeDocument/2006/relationships/slide" Target="slide18.xml"/><Relationship Id="rId8" Type="http://schemas.openxmlformats.org/officeDocument/2006/relationships/slide" Target="slide20.xml"/><Relationship Id="rId9" Type="http://schemas.openxmlformats.org/officeDocument/2006/relationships/slide" Target="slide26.xml"/><Relationship Id="rId10" Type="http://schemas.openxmlformats.org/officeDocument/2006/relationships/slide" Target="slide28.xml"/><Relationship Id="rId11" Type="http://schemas.openxmlformats.org/officeDocument/2006/relationships/slide" Target="slide30.xml"/><Relationship Id="rId12" Type="http://schemas.openxmlformats.org/officeDocument/2006/relationships/slide" Target="slide32.xml"/><Relationship Id="rId13" Type="http://schemas.openxmlformats.org/officeDocument/2006/relationships/slide" Target="slide34.xml"/><Relationship Id="rId14" Type="http://schemas.openxmlformats.org/officeDocument/2006/relationships/slide" Target="slide36.xml"/><Relationship Id="rId15" Type="http://schemas.openxmlformats.org/officeDocument/2006/relationships/slide" Target="slide40.xml"/><Relationship Id="rId16" Type="http://schemas.openxmlformats.org/officeDocument/2006/relationships/slide" Target="slide44.xml"/><Relationship Id="rId17" Type="http://schemas.openxmlformats.org/officeDocument/2006/relationships/slide" Target="slide44.xml"/><Relationship Id="rId18" Type="http://schemas.openxmlformats.org/officeDocument/2006/relationships/slide" Target="slide48.xml"/><Relationship Id="rId19" Type="http://schemas.openxmlformats.org/officeDocument/2006/relationships/slide" Target="slide50.xml"/><Relationship Id="rId20" Type="http://schemas.openxmlformats.org/officeDocument/2006/relationships/slide" Target="slide2.xml"/><Relationship Id="rId2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4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5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6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7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8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0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1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4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5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16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17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18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9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0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echa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o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ype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You Gues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t,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cabul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6589-1284-497B-AC23-6526BDBCD47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take away liquid as vap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E6BC-A0FF-41FB-A2AB-3632F553E72B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vapo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155-2F87-4300-879D-5576F6ACC82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stores information and allows the user to access webs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0C40-5D08-4F20-8F8A-2B3D1F4CDE6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omput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16D-5212-4CD4-BF4F-E8E093E1993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ny varieties, usually involving one to four whee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B6D8-09E6-4A92-A6E2-EED54B937A63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icyc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BCD-8A98-47A5-9D7F-5658F658EA78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ed mainly to water dry 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71DB-4F49-4B14-BC59-7FF6D0E37D19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a sprinkler or irrigation system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258F-5FCD-4A30-B40B-7CC38C4209B4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t has gears and is used to measure t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15B8-63CD-46C2-9250-B2727E0F1CAE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clock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FB38-F6F4-42AB-BC1D-15C5B3CBE009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group of objects that intera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E44-DCA7-410F-90BC-C6FD58F104E7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de with a wooden spool, rubber band, and coffee stirr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F946-25E9-4242-9BDF-517100B1A653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poolmobil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53D-4528-4DDC-9885-3DFD007AFC5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bjects acted on or influencing each oth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79D9-7077-46B7-914A-9FBFE7199C0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tera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6BB-D808-45DC-8068-DB079084E75D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disappear in liquid by stir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6D5E-EA30-4BD1-956C-2D2206201B98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dissolv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39EF-7BFD-486E-84E3-7ED23E98F2F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nergy used to make a spool-mobile tra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AACD-8DDB-4B6C-BB4D-1E98B598F6E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echanical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779-1CCA-4BA3-AED1-F5BE8D584560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olored or colorless liquid that is cloudy or milk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219E-AEF7-42A2-8C6F-864E8C6428AB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uspen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E7CD-2657-43EA-A677-8B1C81FCE358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CC9-C7E2-426D-AEBF-A9AEB94DABC4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characteristic or trait used to describe an obje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7911-DA27-4CCB-B42D-EEDF7C3122C9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proper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009-8B31-4714-8256-51664562C1E7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blood vessels and art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5E84-21A2-424B-BAD8-6833BD93147D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circul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7012-DBDC-4365-9E8C-82D07349DF21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tibia, phalanges, and spi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6500-1543-4C4C-888B-087D65E85A79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skeletal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E23-36F0-4470-93B1-6EF394DD1454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esophagus, stomach and both large and small intesti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7E16-2173-4E05-951A-72A7A33C38A4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digestive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2B50F-AE00-480E-A0E9-2289ED488C06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deltoid, trapezius, and bice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31AA-170B-47FC-88C7-14445286A73E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muscular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635-1614-4015-AB0E-7F5C846B392E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omething that can be seen, touched, tasted or hea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8E3B-0DFB-413F-ADFE-837088B2EE73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is system includes the lungs and the way we brea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2672-3064-439A-B792-A882B100E26D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the respiratory syste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6B87-58B5-4565-AA72-8461D92932BC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tter made up of two or more parts that keep their own characteristi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03D9-816B-495D-B01C-916824FFCEF4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mixtu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6356-DEE0-4B04-BC0C-5F6CD160F503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ixture of two or more materials, [a clear liquid system, can be colored or colorless]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1C067-7CC3-4C6D-8D5D-7C112A59F71D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olu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57D9-C087-4803-A422-CC959FBF9DF3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4C89-763B-4E57-8B7E-0BB7C033533F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mo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E87B-A78B-4F68-BC1F-2837E7D0D0A5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a gas or vapor changes to a liqu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474A-C2DA-4E35-83B4-D8002CCD7C80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condens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D8C5-56F9-4E24-ABAB-0BDDE8BFB58F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n obj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267C-2E1B-462B-95CD-59F263565F32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dye that shows whether or not something is acid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8805-F8B8-495D-B2BE-0B5374024A0E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T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629F-7265-453E-B92D-5612F227E8D1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 educated guess as to what will happ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1EB-2F42-4317-A4B1-5E5895218264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predic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1544-B182-4F8A-91B6-322F41E5E9D8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bility to do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C34B-6306-46E6-9F60-72BF5F21EF57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energ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8240-B732-4AB9-A96D-246B4118F270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14Z</dcterms:modified>
  <cp:revision>33</cp:revision>
  <dc:subject/>
  <dc:title>Blank Jeopardy</dc:title>
</cp:coreProperties>
</file>