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37B-6FAA-45B6-A00D-D6E0B2E9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41CC-ED3F-4B62-AD14-2B5BEB8C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C2B-078E-4BF5-8490-B5394405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FFB-1D3D-4777-B08B-62197895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C9C-62E4-4A30-8789-B106560F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E58E-2F3D-4943-9B12-383C6BEE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93F-3C44-4138-9DF0-B62643E5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630-A581-4B1F-9E38-CFB48C2B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0263-1A30-4464-B648-46D735BE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A4C-8373-4472-B6E5-C41CD7F8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411-8544-4801-B0EE-910C95C2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CDA-0E60-4984-9446-C45074C1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2388-4456-47F9-89B2-DF2A713CEC6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3E76-6223-4C89-9DC7-1F1C02E0F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6.xml"/><Relationship Id="rId10" Type="http://schemas.openxmlformats.org/officeDocument/2006/relationships/slide" Target="slide28.xml"/><Relationship Id="rId11" Type="http://schemas.openxmlformats.org/officeDocument/2006/relationships/slide" Target="slide30.xml"/><Relationship Id="rId12" Type="http://schemas.openxmlformats.org/officeDocument/2006/relationships/slide" Target="slide32.xml"/><Relationship Id="rId13" Type="http://schemas.openxmlformats.org/officeDocument/2006/relationships/slide" Target="slide34.xml"/><Relationship Id="rId14" Type="http://schemas.openxmlformats.org/officeDocument/2006/relationships/slide" Target="slide36.xml"/><Relationship Id="rId15" Type="http://schemas.openxmlformats.org/officeDocument/2006/relationships/slide" Target="slide40.xml"/><Relationship Id="rId16" Type="http://schemas.openxmlformats.org/officeDocument/2006/relationships/slide" Target="slide44.xml"/><Relationship Id="rId17" Type="http://schemas.openxmlformats.org/officeDocument/2006/relationships/slide" Target="slide44.xml"/><Relationship Id="rId18" Type="http://schemas.openxmlformats.org/officeDocument/2006/relationships/slide" Target="slide48.xml"/><Relationship Id="rId19" Type="http://schemas.openxmlformats.org/officeDocument/2006/relationships/slide" Target="slide50.xml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Gue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,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42B-B4F6-46AA-B7D6-5A464029D9C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take away liquid as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701-7D0F-46F8-80CA-A3210394ABF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050F-2857-4DAA-AE9F-1822BC78D5EC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stores information and allows the user to access web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A0A-2EF4-4EEE-829C-325D077EFEC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F402-EBEF-4978-AD60-A04FE40E9F75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varieties, usually involving one to four whe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FD4-C996-4D06-A416-661741BEBF72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cyc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F18-A57D-41FD-BDD0-DE0CCBCF1AC3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mainly to water dry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688-C045-4AAC-BAE9-810EB8568526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sprinkler or irrigation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B9D-144A-4D1F-9E8F-E0F538548B3D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has gears and is used to measure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0A0-648E-4AF4-A95F-28D1AC43B68E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4C3B-FC9B-4CDB-9767-5C6663F319B7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objects that inte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7F0-A7ED-4A8D-A1CB-68004E40111C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e with a wooden spool, rubber band, and coffee stir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E91D-CE09-43B7-A485-9D9A38F5D6F5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poolmob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FB5-5129-4480-BAE1-532B095C1ACB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s acted on or influencing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46A-F943-48E1-A3CB-2FB5A108D4A3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ter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569-9D62-44D1-9165-4BA9FBAC2F4A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disappear in liquid by stir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B0D-2840-4A84-A166-F7E22672EA03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ssol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59CD-F161-437E-9170-D25AB218F944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used to make a spool-mobile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1D9-BD0A-4D99-A87E-AE6B4441E725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2536-F7D9-42AA-A8EB-8B8CB3FA6C32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lored or colorless liquid that is cloudy or mil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C91-153B-44D1-A1F6-0E93CEBDED38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sp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090-948A-4ACC-B23F-30CEBBE204FA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C848-75AC-404A-B0A2-E34DFD0DB949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haracteristic or trait used to describe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C726-0EF4-469B-AB0F-8716090B7D31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pe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ABE5-0372-4E85-9088-E8910D17BDEE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blood vessels and art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77F9-CDF7-4EBE-8152-AF01024C73A7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ircul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ACF-53FC-446C-BCD0-0E8AEE72CA73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tibia, phalanges, and s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657B-FEE6-4CAB-83AC-DF2B608DB19F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keletal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8B9A-2616-4A5A-9FDE-4BBD907D1115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esophagus, stomach and both large and small intest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EB8-03BF-41D7-B352-3474D28AD0A9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digestive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6909-57E5-4B46-8BFD-0AE3FA9B3DB0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deltoid, trapezius, and bic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68E-FEF2-402C-9990-50FC14CF8630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muscular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C52-919F-4ECF-B6A2-A4873F24DC98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can be seen, touched, tasted or he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5E9-7C75-4A09-8E42-40477BBC6600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lungs and the way we brea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B707-F63F-4564-9079-3B68A8942C04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respir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CF1-B7EF-4C4B-BAA1-146FDBAF68F6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ter made up of two or more parts that keep their own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7C3-3F77-4E58-A632-61F7CDD6E7BD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ix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F5F-F77D-4145-B7F2-40576D76574F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ixture of two or more materials, [a clear liquid system, can be colored or colorles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34A-A131-4903-A741-B71A81A18325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28BC-B852-4F3C-B5F3-D7F7F711E8D2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8F2-32B0-4390-8BBB-D78E712D13F5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3A3-F47C-4267-ACA3-9584E361737D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gas or vapor changes to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AFAD-17DD-4830-8D59-A5537A543093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dens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9A7-0EA1-4DF6-AD4E-353327ED0FDF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689-F116-462D-A134-4E0AE669692E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ye that shows whether or not something is acid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A844-063C-4AB1-A63B-18D46FA2FFA7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T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720-C491-47F9-B3F7-C2BA65A64BCE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ducated guess as to what will hap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D02-5FF9-48E7-A35D-EDF73FBDAED9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di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C694-A04D-49EB-91BD-4271611B0426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ility to do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F76-E3AD-49B7-8880-D150263A1AAC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45AA-58DF-4568-8E49-741B7DCD5C34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 </cp:lastModifiedBy>
  <dcterms:modified xsi:type="dcterms:W3CDTF">2009-11-02T13:45:14Z</dcterms:modified>
  <cp:revision>33</cp:revision>
  <dc:subject/>
  <dc:title>Blank Jeopardy</dc:title>
</cp:coreProperties>
</file>