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6132-88B2-475B-B278-B721A0CFC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D004-31AD-4A8F-9860-CD1D616D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D9C8-EDF3-4BBC-B561-C98617C73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6FEB-FF95-4D90-B088-5DA9885E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5E8D-0530-4F01-AC70-93DD27D42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8D34-3ECA-4D6A-95A6-759D18BF4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79C0-2099-4784-B036-272FF1A6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73A1-6095-446E-853F-C9A780D6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1F09-827A-4EEC-9DB8-6FC047A7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9F1-DF58-4598-B86B-72B32BA6E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563A-E7B3-4251-8BAC-4254211C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6F39-7599-450E-9470-6C577CF06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55DA-C1AB-45B4-A3BD-24DFCC5D78B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A062E-A6CE-474F-9B47-2DD6BA2D4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1D24-412C-4636-B9D4-0D5139A89D70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C075-CE0F-4253-85B1-EF2239BA41EE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E5EF-3534-43ED-8367-B14DBA8043C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7151-D03A-4A6E-9C7C-6ECA5DDE607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764A-9ED3-446D-AFF0-E6548E472EAB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B49B-098A-4BDD-B261-BE1389735D46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1614-C235-4628-BE5B-81D6474D450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0AD-9090-46B5-A643-9E5B00C07584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AC26-1872-45EF-A96A-05E84853B267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C379-5C0C-4B4A-93E5-EEA18A42507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5D5-1312-4686-AED3-EA7FFEC6B52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79E5-E55B-4591-9626-84AC667AADFB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7E99-7BA3-41A2-B4C8-D0C365E20C74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2C66-0CF2-4E22-AD18-5F0178E0F0D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3738-9B9C-4BCE-B797-3FC3243E4140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2F61-20E6-4B5B-B570-83C859FEA10E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B105-117E-4CF0-8982-CF2ABD90E29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7DA2-C307-41F5-A8C3-B6FF1D2D27A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71F2-5375-45F5-BB93-FAB2D31CE103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A29-9F1F-4E9D-9B6C-28F1EA33AE0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50D2-9526-4072-A6EF-8F594CC88659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A67-09AE-444D-BB0E-EB65E179A8F7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8A34-E7E8-4CF9-93BF-D9F73D7DD3BF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DF2B-FA66-4AA3-AD2A-FEA863E33E8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6C16-A7D0-4091-B58B-C81E0EEAABF0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EE94-8F81-471C-A554-54BC308FF7D3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9207-A38B-4A95-8A7B-5A3F9238F4BA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4064-343A-4D6C-B2A5-864CA48C3B0F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934-1838-4AA0-889F-A3F60C9526AA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FA4D-07A2-4981-8AAB-C4DBF24A773C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6028-A3F8-40B7-B430-84FF142D7E3E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4A85-D8D6-4E2D-8BD4-18EE50B1118B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5ADB-8AED-4C98-B29B-1E6E6F05C53F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09B7-33A7-4468-A656-6AB31A0FBE88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981-86F8-4505-8F84-8F6AEB44250E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586-6B4C-44FE-BFA1-E202C591BEC5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B9CC-6FF6-4FD8-8A33-BFEB020C7F86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1958-95FA-4F20-9D1D-D99A73FE4192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622E-9B34-40A4-A9DF-A5C84392A4F9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1E6B6-4AF1-46DD-BB03-515ACBB11968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FE18-F396-4F61-A3DD-761AE603869D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CC40-9A5F-46D9-961D-333695BF65B5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246-9C52-49D0-9E2C-86CABC061E27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65B9-C54D-4C97-A913-798A66AF3FDA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EAC-21FF-4843-88D8-FA9AE362D080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B4F-0B4B-4324-9BA0-0DCD54BAEBFC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5B2-D8E0-4A8B-AC64-FF6085D5AEE3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3DFD-6BEA-481A-90DD-E07AA021C25E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596E-F8BC-4D86-AEDB-C042375A76A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6BC-854F-4C2C-8F60-668B1CA3E50C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E61D-01C0-4B13-B788-42C1498CA52D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14Z</dcterms:modified>
  <cp:revision>33</cp:revision>
  <dc:subject/>
  <dc:title>Blank Jeopardy</dc:title>
</cp:coreProperties>
</file>