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7EF9-4065-4553-99A9-4AADCA71C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7D41-FE8B-428C-82CE-F4CBAEEEC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880A-0DD7-4A2E-8CA1-AD1ED25F6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FB9E-A56E-48AD-9108-2B3B96A91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E85C-2F82-4EF8-86C1-A4377992E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3D46-F0A8-4850-B2D8-6B7D2E253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26B8-823F-4846-86D9-F86A93212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A7A4-507C-4AE0-823E-7EBD428C1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E1D4-6DD6-4FDB-9ED0-26FE0291C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1FBA-E23A-467F-BADE-4B1033E7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F107-B15A-47C9-AD42-41436F64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C088-E82A-473D-94C7-9A7264F1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8D46D-7D9C-490C-AC5D-39DBA6683FC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2DF1D-8644-426F-856B-DAAA3BA1FE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slide" Target="slide10.xml"/><Relationship Id="rId5" Type="http://schemas.openxmlformats.org/officeDocument/2006/relationships/slide" Target="slide12.xml"/><Relationship Id="rId6" Type="http://schemas.openxmlformats.org/officeDocument/2006/relationships/slide" Target="slide16.xml"/><Relationship Id="rId7" Type="http://schemas.openxmlformats.org/officeDocument/2006/relationships/slide" Target="slide18.xml"/><Relationship Id="rId8" Type="http://schemas.openxmlformats.org/officeDocument/2006/relationships/slide" Target="slide20.xml"/><Relationship Id="rId9" Type="http://schemas.openxmlformats.org/officeDocument/2006/relationships/slide" Target="slide26.xml"/><Relationship Id="rId10" Type="http://schemas.openxmlformats.org/officeDocument/2006/relationships/slide" Target="slide28.xml"/><Relationship Id="rId11" Type="http://schemas.openxmlformats.org/officeDocument/2006/relationships/slide" Target="slide30.xml"/><Relationship Id="rId12" Type="http://schemas.openxmlformats.org/officeDocument/2006/relationships/slide" Target="slide32.xml"/><Relationship Id="rId13" Type="http://schemas.openxmlformats.org/officeDocument/2006/relationships/slide" Target="slide34.xml"/><Relationship Id="rId14" Type="http://schemas.openxmlformats.org/officeDocument/2006/relationships/slide" Target="slide36.xml"/><Relationship Id="rId15" Type="http://schemas.openxmlformats.org/officeDocument/2006/relationships/slide" Target="slide40.xml"/><Relationship Id="rId16" Type="http://schemas.openxmlformats.org/officeDocument/2006/relationships/slide" Target="slide44.xml"/><Relationship Id="rId17" Type="http://schemas.openxmlformats.org/officeDocument/2006/relationships/slide" Target="slide44.xml"/><Relationship Id="rId18" Type="http://schemas.openxmlformats.org/officeDocument/2006/relationships/slide" Target="slide48.xml"/><Relationship Id="rId19" Type="http://schemas.openxmlformats.org/officeDocument/2006/relationships/slide" Target="slide50.xml"/><Relationship Id="rId20" Type="http://schemas.openxmlformats.org/officeDocument/2006/relationships/slide" Target="slide2.xml"/><Relationship Id="rId2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2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3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4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5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6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7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8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9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0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1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2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3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4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5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16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17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18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19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0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cabu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yp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echa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o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cabu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ype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ou Guess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t,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cabu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3497-EA85-4F84-9D61-1B3D493CFEB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take away liquid as vap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EE4E-6054-4E84-A4BF-458ABE5E2D13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evapor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8213-7A09-4479-A8B9-48A11752700C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stores information and allows the user to access webs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C114-D6C0-4427-8D61-C336CFCFC689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compu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7823-193B-4842-8BEB-60D56AACA16E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ny varieties, usually involving one to four whe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B935-1368-4A44-BE37-AD0D9ECC0B88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icyc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2207-567F-40C8-8FD6-F4AACA9C6DD5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d mainly to water dry 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9771-3640-4FA0-BC4E-3413434F165F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 sprinkler or irrigation syste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EA17-5F5B-4113-900F-ED348C7487E5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has gears and is used to measure ti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984C-84E4-464A-9C4D-3380044E1AFE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cloc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0261-51C2-4641-8538-595F3A037011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group of objects that inter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B4A6-7B95-4E8B-B093-71462EBAA821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de with a wooden spool, rubber band, and coffee stirr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5F83-F87E-4626-8402-3DB2BFFA27B3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poolmobi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5BBC-D733-4068-BAB3-F74B577C8D5B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bjects acted on or influencing each 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F9D5-DFBE-4425-BD1C-34D82A674050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terac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40DF-06C3-4E07-910C-6C525E8547AD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disappear in liquid by stir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40B6-E160-4CF3-B384-F00CAFA5B376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dissol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19D0-5503-42BB-9C03-54967AF07DD9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ergy used to make a spool-mobile tra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48C6-02D6-458C-A678-F7B1C6B80537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mechanical energ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23DD-C973-47EC-83B9-0837CC4AC880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colored or colorless liquid that is cloudy or milk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4AEE-5363-4FFC-9AA8-9C494F6473AE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suspens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2425-AB0E-4384-996B-606AAF2AAF94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0450-87AB-4E33-8DDE-39B4DE6D7147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characteristic or trait used to describe an ob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47E1-1346-4786-B42D-50CAD7FA2D04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propert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78BE-7969-42C8-88FE-67F44ADF951E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system includes blood vessels and arte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13EC-B1D4-4716-BA13-A5840B779717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circulatory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CBA2-09B3-449B-B3C5-5FB1F85EC20E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system includes the tibia, phalanges, and sp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8725-57C1-4E67-ACBF-92DD608EC33E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skeletal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2E47-CE44-4936-8DEB-54200F93B740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system includes the esophagus, stomach and both large and small intesti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9A52-75D6-45A8-99FA-ECD26E50A619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digestive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911F-6E1A-4BB4-B65D-BDBF3F54EA64}" type="slidenum">
              <a:t>37</a:t>
            </a:fld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system includes the deltoid, trapezius, and bice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AF9E-C71C-4216-80FB-3282F6EE1E6F}" type="slidenum">
              <a:t>38</a:t>
            </a:fld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muscular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5DC6-4999-48B6-965F-54C912FBC604}" type="slidenum">
              <a:t>39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mething that can be seen, touched, tasted or hea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0F4A-5661-40DE-8178-A308330BF9B4}" type="slidenum">
              <a:t>4</a:t>
            </a:fld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system includes the lungs and the way we brea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5378-6F23-4464-8AD7-39AC426892CA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respiratory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9191-9DC8-4BED-9F3E-5C207071ACE8}" type="slidenum">
              <a:t>41</a:t>
            </a:fld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tter made up of two or more parts that keep their own characterist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18CD-15A6-40FD-AC3A-6E6CC681E2AC}" type="slidenum">
              <a:t>42</a:t>
            </a:fld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mixtu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84D3-D0D4-4413-8980-4C26C327A76C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mixture of two or more materials, [a clear liquid system, can be colored or colorless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60AD-BD6A-445E-A058-A615A77B52DB}" type="slidenum">
              <a:t>44</a:t>
            </a:fld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olu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9AD3-3B62-431A-B705-42B377789A9C}" type="slidenum">
              <a:t>45</a:t>
            </a:fld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1FD7-98FB-4C3B-BAA7-7E0F6D349A4E}" type="slidenum">
              <a:t>46</a:t>
            </a:fld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mo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54BC-CE12-4464-BAB0-363BEC1D9985}" type="slidenum">
              <a:t>47</a:t>
            </a:fld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n a gas or vapor changes to a liqui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2FE3-7FAA-4395-A49E-A7A2E88DED4D}" type="slidenum">
              <a:t>48</a:t>
            </a:fld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condens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7515-51F8-400F-B333-DA5296DEDD02}" type="slidenum">
              <a:t>49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n obj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24D4-F20A-4B5A-A9B1-6199F2E0EEC1}" type="slidenum">
              <a:t>5</a:t>
            </a:fld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dye that shows whether or not something is acid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33FA-BE38-4FCE-9535-3F4D513BF679}" type="slidenum">
              <a:t>50</a:t>
            </a:fld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T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8277-3760-4224-88D3-1E1C5599E93B}" type="slidenum">
              <a:t>51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 educated guess as to what will happ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B8D2-A985-4128-99B7-6C107492A3C7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predic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1F2C-E022-43DC-8397-79BD0AC7D78E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bility to do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3DBF-3870-49DA-A241-FE3B5375DAB8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energ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68E5-995E-4080-8B37-5DC26BFA3522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Donna Eustace</dc:creator>
  <dc:description/>
  <dc:language>en-US</dc:language>
  <cp:lastModifiedBy> </cp:lastModifiedBy>
  <dcterms:modified xsi:type="dcterms:W3CDTF">2009-11-02T13:45:14Z</dcterms:modified>
  <cp:revision>33</cp:revision>
  <dc:subject/>
  <dc:title>Blank Jeopardy</dc:title>
</cp:coreProperties>
</file>