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967-53E9-4DB4-B499-7C079E4C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E4E2-0DA6-419E-B63F-84DF5D94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3B44-D558-4B0A-B718-57C0B8A8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5C04-40F0-42E4-AA39-2B62B13D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B516-EEE3-4B91-A2E1-67EAD126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8180-F860-485A-ACF2-0179F532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C9A3-4282-4D13-BC94-14628AE6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402C-403E-4883-B548-02EC8A8F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93E7-E987-438E-A0AA-7A6A87D2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1B27-B463-4858-BE52-B06BC074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9D5C-3BAA-40F0-B5D8-822BF310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C459-A91E-40AD-B666-E43F7ABC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661C-5F6C-493F-B27D-726063B56CB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7EFB-49A2-4D8F-978A-448486D08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6.xml"/><Relationship Id="rId10" Type="http://schemas.openxmlformats.org/officeDocument/2006/relationships/slide" Target="slide28.xml"/><Relationship Id="rId11" Type="http://schemas.openxmlformats.org/officeDocument/2006/relationships/slide" Target="slide30.xml"/><Relationship Id="rId12" Type="http://schemas.openxmlformats.org/officeDocument/2006/relationships/slide" Target="slide32.xml"/><Relationship Id="rId13" Type="http://schemas.openxmlformats.org/officeDocument/2006/relationships/slide" Target="slide34.xml"/><Relationship Id="rId14" Type="http://schemas.openxmlformats.org/officeDocument/2006/relationships/slide" Target="slide36.xml"/><Relationship Id="rId15" Type="http://schemas.openxmlformats.org/officeDocument/2006/relationships/slide" Target="slide40.xml"/><Relationship Id="rId16" Type="http://schemas.openxmlformats.org/officeDocument/2006/relationships/slide" Target="slide44.xml"/><Relationship Id="rId17" Type="http://schemas.openxmlformats.org/officeDocument/2006/relationships/slide" Target="slide44.xml"/><Relationship Id="rId18" Type="http://schemas.openxmlformats.org/officeDocument/2006/relationships/slide" Target="slide48.xml"/><Relationship Id="rId19" Type="http://schemas.openxmlformats.org/officeDocument/2006/relationships/slide" Target="slide50.xml"/><Relationship Id="rId20" Type="http://schemas.openxmlformats.org/officeDocument/2006/relationships/slide" Target="slide2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4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6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7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8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9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0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Gues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,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79D2-19F0-4B27-8FB8-28C16DD30AD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take away liquid as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4952-7932-4F6F-A3A1-FA18A2D71ACD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BBD7-84E5-44BB-B980-18C58AD1CB25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stores information and allows the user to access web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15BC-E4B9-4E05-BCEE-D529536457A9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u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3C5E-A715-4C55-9154-B14CC14E7C73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y varieties, usually involving one to four whe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1132-B12C-4B38-9EC4-D7C146D87156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icyc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4CED-C8E3-4790-8EA7-67285B0332F7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d mainly to water dry 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14FD-0B38-4CF4-9696-4BBC4CA8FDBC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sprinkler or irrigation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F7CA-ABCD-4E72-A604-F87415F42D33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has gears and is used to measure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D16F-3FF3-41F0-8341-B02148B6E32F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lo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4451-4A24-4B51-8AE7-FD391BFD85AE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roup of objects that inte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B648-1D0E-44B7-859C-CB461413DBBE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de with a wooden spool, rubber band, and coffee stir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7E5F-1DF5-439E-973B-969868B89A54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poolmob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24F2-C965-4F1F-A20F-32AA44254BF0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s acted on or influencing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1360-584D-4C43-AC46-6076A281EC12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tera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2CA7-35BB-4493-8767-DE0871906C61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disappear in liquid by stir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A3C6-28C8-4534-9A09-591F4A7CD5C6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issol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0DF4-1B9E-426B-902E-3590130EC9EB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used to make a spool-mobile tra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4308-C864-4C56-847B-6856FD865662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echanical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C148-4416-4C44-8E2A-4FC2C8DD8CA3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olored or colorless liquid that is cloudy or mil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DF34-2D6E-4DCF-91B4-3953754AE8D6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uspen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616E-6422-4A6A-A025-3629BA77CE37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7479-AD11-41D8-A555-972110DC26DA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haracteristic or trait used to describe an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204D-82B3-4D37-9CC2-AC0EF138DAF3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per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7712-653F-4B1F-B2B5-222EEC46B519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blood vessels and art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61AC-7973-42D6-A53A-6497C58C34E9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circul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4C7D-1372-4788-80CB-F313EF1E21BD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tibia, phalanges, and sp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634-D71C-47A4-9F25-F89ECDBB23C0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skeletal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C91C-2669-4552-9659-67C3D12986C8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esophagus, stomach and both large and small intest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F2FB-6750-425E-976E-E670FA283AFD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digestive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081C-D1B1-4C5F-956C-ECE7D4219CBE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deltoid, trapezius, and bic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8C55-36DA-47F3-8EB1-D6347E8A6AAA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muscular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9444-52DE-4E27-83A4-98B47FC73034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thing that can be seen, touched, tasted or he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F772-9A45-4AB4-8A9B-9584DC888DC1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lungs and the way we brea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D639-F5C9-4CAE-A5F4-93F90B4B14C7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respir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2D1F-9AD7-4989-8ABF-DF0B8E50B3EF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ter made up of two or more parts that keep their own character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DF3F-142B-4C99-BE00-04498108EA3E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ix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4702-2667-449C-BCD2-858A8497780A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mixture of two or more materials, [a clear liquid system, can be colored or colorless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1A4B-BCC6-4650-83C7-CB08107A0B86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3A81-770C-4B1D-B973-0EB2B5E99396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783A-4242-48BA-ADD4-1543891AADB2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o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AAEA-5E07-4EE3-ABF0-228117F53735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a gas or vapor changes to a liqu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1D46-12E7-472B-ABD2-FD06BA44C590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ondens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8159-48FF-49BA-8C06-F1EA5AAD6C86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obj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1D07-EB62-40B3-BCE2-92C6898E638F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dye that shows whether or not something is acid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035D-7021-45F8-9FEB-2D1DEAD1469C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T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E734-518D-4DEC-AB1E-46056BAF8FA2}" type="slidenum">
              <a:t>51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ducated guess as to what will happ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5859-8F5A-4022-A8B0-7D0B93942778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redi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FA9D-B957-4DB7-BA08-32E85696403D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bility to do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0E9C-F7C6-4F41-9C28-E4DBCE81C3E9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F7FF-C36E-4922-8396-87FEEF9F9C80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LCSD</cp:lastModifiedBy>
  <dcterms:modified xsi:type="dcterms:W3CDTF">2009-11-03T15:18:36Z</dcterms:modified>
  <cp:revision>33</cp:revision>
  <dc:subject/>
  <dc:title>Blank Jeopardy</dc:title>
</cp:coreProperties>
</file>