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3F8-2AB0-4258-8CE7-4F0293EE2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605-5137-4340-A170-A741D4574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CDC-8D2D-44F2-8D8A-35C91DA54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D4D61-1436-424F-A426-A439E6954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1C76-1E45-4C64-8A4B-4D0E47F3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E786-7DE5-4917-9102-A4AD8813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2B5D-55FA-4AE1-BE37-FEBAB3E5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B719-6CE8-4D81-83E8-EC8E9F0E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534-C0CE-43D0-B56D-7C983617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9FCC-EE0D-4365-9C8E-5DA768108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EB1D-8C85-4497-9F17-DB4FBC04C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35E3-58B2-4679-A4C3-5762AECB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29D9F-86C8-4C11-8A39-9A3F8D4BA0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9B2C3-142A-4509-9ABF-F3B0A8F28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D7863-706B-43A0-8FD7-5F8AF8737083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9F4-D0E0-4AE2-BCA4-ED671043CEB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97E9-7191-400D-A05B-19D656268577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916-5430-48DA-BBF2-5D9812C1EBE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EB6-F393-460E-A702-07C343DE39F9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5F6B-CE6D-4407-B3B5-E28CFF7A107E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44AF-E3D9-4745-B3E8-4189C02B1786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9FB6-05BC-4C3F-8A3A-7935CDB03543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B557-9E44-4CD4-8572-0D18865D355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794B-F098-4466-8AE1-234C17BE018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3698-E307-43DC-8EFB-40E6E0D36828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21C-246E-4C4C-ADB1-48E1C071F31A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2C8-3063-4F76-A656-5E33E7E1DCA7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3729-94ED-4BF6-9CEE-9DF768B5D7E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3B35-268E-4E16-AD92-FBA62A839D7A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9450-F972-4DE0-818B-D44FAE389D0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E62-110B-4B0B-A430-E2313DB443E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35AF-41E4-4722-9BF4-6F63BAD179B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EE02-FE7A-43B3-995B-8D414AEC58A1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E662-8C8C-4556-ABAF-64E6681D1B26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EBD0-28B0-4C71-9FE0-3BE2D9DDDBD8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515-503A-4E4E-9798-3CBA8E3529F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A6E-77C9-45DD-8296-5420DF4C65E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05AE-C3C3-475B-A03B-D8656111A09E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5634-E0AE-4035-9EF8-5F0A8E84724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60D-78AC-448A-94ED-B7820C184DF0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BA38-C292-443C-8B64-3A245DFE3CB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A7E5-78C3-4F0A-8C8E-819DC6B1C848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7D14-5F79-442E-8881-582A7C2B8C99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88D3-9E26-4FC1-AAB6-2AB13B4B29AE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B299-EE2E-4324-8242-ECCC584CF55D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4414-3688-4778-8935-098E874FC407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E6BD-EE63-40E3-8FAD-03DDC5FF2FEF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13E3-4F02-49D7-B4B1-C744869DE64B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AFCE-36CF-4D3F-B627-68E5936A1AD6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4EBA-3D72-4150-8D55-1DF837A50B9C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4960-12FC-478B-AAF9-B84A4E4E69CF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3B7C-AA29-421B-914F-2E0F94C3D1FC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8D8C-224C-4FA9-B63D-10C9D6C98496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6D0-92D6-4CBF-9CBA-1BCD47C200FF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52B9-7F02-4696-A8E1-9690ED30D7AB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C77-E490-4EF7-943E-9E33C1F12F58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3E3-A930-4B3E-9C3E-911DA88DE67B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844-FE9B-4E49-A253-16C9AD499A8D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D94F-5018-49CC-8091-653CCD965C78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9900-29D2-4E75-B546-54B654F4D746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27A-27B9-4E1F-B4ED-250274B80CBF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A817-F05A-4D46-944B-59FCC5BD964A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19A6-79B6-4C96-A283-39F355F36A7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F3CD-6D28-4EED-9EED-AD64F715113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55DA-0055-42A2-B236-9BCFBA0D6941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LCSD</cp:lastModifiedBy>
  <dcterms:modified xsi:type="dcterms:W3CDTF">2009-11-03T15:18:36Z</dcterms:modified>
  <cp:revision>33</cp:revision>
  <dc:subject/>
  <dc:title>Blank Jeopardy</dc:title>
</cp:coreProperties>
</file>