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2A2-0664-4996-98ED-C31934C2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8A4-3742-4A59-9796-7E1FA508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75F-D3BE-4090-90B6-A8E9B3A1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2C4-EFB2-426C-8319-C6F16D06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E2A-7009-414D-9983-734F11C7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444-CD95-4B24-B53D-DDC98B88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CD8-CE8A-4BC6-AE2E-163DFDB3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E93-A98E-4513-B72A-129EEF1F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03C-4BBC-4B3A-AB65-65C9470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E59-44B9-404D-98F1-3A6EC106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2D6-43AC-4CFD-BB9A-98D7484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9C1-9F61-42CC-8588-D669BDE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AB0E-A73A-4E76-8483-1B4F412C3E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AFFF-4C78-4CE4-BB52-66C061701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C7B-6B7E-461D-8EAA-F957DB2139B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616-BEE0-4E87-BC96-4B1FB58B931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8BE-B11E-400A-9889-5149E167179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48A-5BAF-4D7C-A949-6625DCDA9CB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BB5-9012-4100-B10E-456934095B9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FD4-D28C-43FC-B312-F8E3D8C28EC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3EA-0059-451B-91F3-4FCBA990D07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F21-E2BD-48CD-B722-36ED399C56D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6A1-B871-428A-9640-14B1EBFD033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B66-6000-4940-9868-F90E11163CB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C0A-47E2-416E-9972-7F5E81D7412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415-B529-47F5-BFD7-B56D62020D3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4B0-B644-4D2E-A2F0-7B20EF83930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888-02F4-4FB7-ABBF-EFCCFFFBB99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4FA-AA45-42A4-B309-5A72633E81B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46C-DEFC-4B86-843A-4C68179069B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2CA-DFE8-446B-8C14-02E0CC06190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2D6-0916-407F-BE1D-DD5D8220134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4AA-C413-4C7B-BA6C-779804EF89F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BD8-A2D4-4557-911C-B197D180DC0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347-1EDD-4900-97C0-7F67C8F9178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CB3-A2E9-4E1B-BD3A-4311351155F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516-CBEB-41DF-B3D7-DC63741F06F2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9A5-D79B-4F82-AB1A-F5F33A01547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890-07C6-4C75-A60D-69D47DD82B1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A72-5464-4438-B79F-784426376581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167-62FB-47DD-A5D7-45CC42F49D1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036-3621-4862-9CCE-728CECB4A1B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66B-9BF3-4F58-80E1-CA21E7ABA9A2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EFB-DC38-4E94-B857-6DF027F8628C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FC6-7EF6-4375-AF58-9C18A8111FD0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EB5-78A6-4B62-9E45-87720AA3166B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615-3CA0-4C31-A51E-24E7C0E695ED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BDE-B507-45EE-965E-B3BBA4F29805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EA1-152F-42BA-9A7F-3BDDBE31A98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685-B790-4315-B77C-7397741D3117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181-B06D-43CA-A976-AC5E7C02254A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899-2B27-461B-92EE-287CE3CAA616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D5F-4BDE-42B8-A09F-B5A9C0004BB1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E5B-61FD-45E6-BACF-E3228A211AC1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431-3574-4C74-B54F-07AE4844AB86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CED-38C6-4C73-AA0F-B73F190D8D3E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88B-C3C3-4EC5-B622-38AA1FF78FEE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5BC-77BD-44AD-8D9F-FA6F4978D65B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A46-3BF9-4350-A0CD-154DBE1E985C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7E9-6873-45B8-9CCD-0086699C9AC2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FDF-633D-4CA8-A902-6C5B7403ACA5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AA6-8644-4BD8-A7BC-5ED728A0589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C5A-7F36-4DB7-A944-6976DECB6C8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BF6-7A3A-4936-BB47-8E56DFA921A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394-389F-45F0-96ED-59B65B6953F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Elaine &amp; Jon Fantini</cp:lastModifiedBy>
  <dcterms:modified xsi:type="dcterms:W3CDTF">2009-11-01T16:12:54Z</dcterms:modified>
  <cp:revision>32</cp:revision>
  <dc:subject/>
  <dc:title>Blank Jeopardy</dc:title>
</cp:coreProperties>
</file>