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FB92-EC20-4AA8-B197-75426D61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E4D-739F-40FC-84D6-869B8C439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8A9-D639-45D7-B3D0-894DFFFE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BC7-5D21-456F-91DB-3466CB8C7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892D-D269-4E36-8E8F-16F7DF416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AB13-CB7A-4B64-B512-F016E67B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1A61-A84E-4EB8-B744-E46BDD65F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CEB2-1344-47D3-84E3-C443BE40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521F-4E22-47A3-BFAE-15420EC25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45B-57B0-492D-A22E-AD433D613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16E8-36F1-4DE4-83A9-63AFD8CD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014-B299-4B64-BBB2-C5DCF3D2B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2B7E-9D3B-4599-AA44-867F9776B33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41B1-5B14-4935-B9EF-EF04557FC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2.xml"/><Relationship Id="rId11" Type="http://schemas.openxmlformats.org/officeDocument/2006/relationships/slide" Target=""/><Relationship Id="rId12" Type="http://schemas.openxmlformats.org/officeDocument/2006/relationships/slide" Target="slide14.xml"/><Relationship Id="rId13" Type="http://schemas.openxmlformats.org/officeDocument/2006/relationships/slide" Target=""/><Relationship Id="rId14" Type="http://schemas.openxmlformats.org/officeDocument/2006/relationships/slide" Target="slide16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slide20.xml"/><Relationship Id="rId19" Type="http://schemas.openxmlformats.org/officeDocument/2006/relationships/slide" Target=""/><Relationship Id="rId20" Type="http://schemas.openxmlformats.org/officeDocument/2006/relationships/slide" Target="slide22.xml"/><Relationship Id="rId21" Type="http://schemas.openxmlformats.org/officeDocument/2006/relationships/slide" Target=""/><Relationship Id="rId22" Type="http://schemas.openxmlformats.org/officeDocument/2006/relationships/slide" Target=""/><Relationship Id="rId23" Type="http://schemas.openxmlformats.org/officeDocument/2006/relationships/slide" Target=""/><Relationship Id="rId24" Type="http://schemas.openxmlformats.org/officeDocument/2006/relationships/slide" Target=""/><Relationship Id="rId25" Type="http://schemas.openxmlformats.org/officeDocument/2006/relationships/slide" Target=""/><Relationship Id="rId26" Type="http://schemas.openxmlformats.org/officeDocument/2006/relationships/slide" Target=""/><Relationship Id="rId27" Type="http://schemas.openxmlformats.org/officeDocument/2006/relationships/slide" Target=""/><Relationship Id="rId28" Type="http://schemas.openxmlformats.org/officeDocument/2006/relationships/slide" Target=""/><Relationship Id="rId29" Type="http://schemas.openxmlformats.org/officeDocument/2006/relationships/slide" Target=""/><Relationship Id="rId30" Type="http://schemas.openxmlformats.org/officeDocument/2006/relationships/slide" Target=""/><Relationship Id="rId31" Type="http://schemas.openxmlformats.org/officeDocument/2006/relationships/slide" Target=""/><Relationship Id="rId32" Type="http://schemas.openxmlformats.org/officeDocument/2006/relationships/slide" Target=""/><Relationship Id="rId33" Type="http://schemas.openxmlformats.org/officeDocument/2006/relationships/slide" Target=""/><Relationship Id="rId34" Type="http://schemas.openxmlformats.org/officeDocument/2006/relationships/slide" Target=""/><Relationship Id="rId35" Type="http://schemas.openxmlformats.org/officeDocument/2006/relationships/slide" Target=""/><Relationship Id="rId3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22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23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24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25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26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27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28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9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0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3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2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33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34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35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4395-3AB9-4C90-9E6B-F6BE48E693D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4CE-BE1B-40E6-843C-93FECA2ED632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11EB-12BA-4210-9DE9-9FD77AB32826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AFFFD-5643-49CC-A718-C5151954E30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3200-72C7-4119-9A9F-A5B211AB5061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ADFB-1924-4528-B047-893088371744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07F2F-7928-492B-8F95-38AC70AD8FA4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5AB3-6408-496E-B02A-A15A49FA53B8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0479-CFA8-4C63-9E6D-D27DC1B546B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5F28-F215-45DE-A8D5-F4EA73D770C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C76F-1E95-4C93-9812-204DD56E477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1621-9A9B-4ADB-A856-419E9D4BB5E0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0E96-333E-4187-8244-ECB27F4FF6D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780E-043E-43C3-AF74-893180A0FBAC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47DC-7391-42BF-9BCA-A0EDAC8229C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C579-D880-4455-80F0-0B465B706347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42E2-22B3-468A-8CAB-0C27B6E1F8A9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7B7E-8DD7-458D-B598-6FCB99936CD7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8A5B-DC87-43EB-AFE8-B85E76A92C3A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7463-0843-44DA-B533-453BA19AB55D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457C-1F6E-4004-90DA-C75772B5DE75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0269-C33C-45A4-B8BE-F313712B712C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2B99-5BCF-4131-90E7-2845B17805FC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8370-0053-49FB-9D0A-E15C9CB6D719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3225-8F19-4ABF-8389-DE90DD40142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0020-8A4A-420C-86FE-16700B68037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DD711-BFE7-4A65-8FBD-F72E21ED8EF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CC8E-4FE3-4FD7-A2E0-11F028F0AA10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62B-06CA-4E45-9A0A-BDCB962E5B03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F5C5-3A56-4940-B0DD-DEB17122734F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46C8-14F1-4EEF-B537-F0717947F08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35C6-7A42-41F2-B426-28B0EE347FC9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0B4C-29BE-4FD2-8B1F-16E337A14D83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ED23-2CA8-4EC7-9601-F29EA8BF7B5A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71AD-CEDD-4A02-8E82-BDE49BA8ED8A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70FA-8BD7-41D7-A12F-751BE93632DC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21BDC-4B39-4383-9D1D-DBF78CBE3509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2888-AD31-4FE5-BF26-31281CDA3D1F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FEE-DE4C-4A83-952F-CD6A8ADDE331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5E87-74E6-4149-A751-24E00AF91E36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BD5A-306A-40AF-B1B0-CDD5806591E5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4F13-FBFD-423B-9208-3E5F27A9AA19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C53E5-97B6-4D9A-A37C-78718CA64307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1511-C3CB-4155-8AE6-F3CF26B30D07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032A-D12D-45BA-AFF0-220DFC9F6B57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80A5-B1D6-4C6C-8A97-744C58ED73FC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BAD2-328E-4A40-B59D-B6E11ECDCEFD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1D6-C6D6-4603-8CAF-E8C621A3334F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1675-1B16-4275-992E-9C823F193602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CB05-488C-4A31-AA1C-524418F74E1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3D19-FCE6-428E-973F-307D172EA54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Elaine &amp; Jon Fantini</cp:lastModifiedBy>
  <dcterms:modified xsi:type="dcterms:W3CDTF">2009-11-01T16:12:54Z</dcterms:modified>
  <cp:revision>32</cp:revision>
  <dc:subject/>
  <dc:title>Blank Jeopardy</dc:title>
</cp:coreProperties>
</file>