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B62-FC8F-42DF-9BD0-1F1990F4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09A-5786-4485-BB5A-22818FAB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9CC-A522-45CD-8570-6B9E9B0F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571-A8FE-4A75-AE1A-A8736FFD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300-F380-4FCB-B0DD-47803412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1AE-E9B4-4874-9FEA-F4C24EF3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97E-43F1-4419-94F0-579457D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743-E55C-4699-8E55-A21AF4CB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EAE-E8CB-4DA0-AD4F-8B57886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973-625B-4D59-9C99-D8F85A6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7E7-8E1B-4B2B-B21C-3CC5226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51F-2A16-4DD6-B01E-6E598F2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B310-0421-4AA5-BADE-FA4C17F3DE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9D0A-9DB6-468C-B734-3F87A1624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2F5-1A16-483F-A525-A75B0704E1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D36-2318-4A02-A8D4-28986D125C3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EFF-75EC-4D12-B747-FF8EACC8D1B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D79-9926-448C-9430-19BF2FA94F0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CD8-9ACB-42D7-B31B-2F19E4221D7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34D-BD40-418E-9BBC-8FBF85529B6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513-4CCC-4826-8C8E-22028933D2F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BF7-E12D-4A01-837E-76CB40591EE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1E9-D9C9-4FCD-8298-768CDCA243B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A8F-8DEC-43B5-B466-75DEDA27577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F14-4AD6-439D-AD14-691651CDE38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383-94C9-42BA-A884-61AA9C0DF41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98E-DCBF-4130-99D7-FE1583918B7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DB7-C8F9-4EDE-AEA8-1F719CBAFC6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198-3A7B-48E7-909A-2E688A5991E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297-A89D-4177-B774-CE05BAB75C0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49E-6163-46DB-A897-D82398F96D8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BDD-2CC7-4206-AE9F-3A340045A0D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913-4249-4C84-9C0E-9B9C6C9B370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D7E-D607-49D2-8558-0388C3749BD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D5A-EE70-4F17-A506-F56706C3D0A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F87-BAEF-436F-B4BB-E25970F92DA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FF7-A43C-490A-84DE-12E589C935C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7AC-D20B-49EE-8AE6-F4D3AC541C9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912-FE13-445B-A531-0365804C950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91C-BA50-486B-A9F1-F1F29B0B9CD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936-47E3-4224-AAF7-C2C3ED1F5DA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D6B-37C3-47CB-8CB4-26CDAE5DD81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7D1-1CCC-4DAD-8501-AE34F287DD0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D8D-1EB3-4067-BA19-8968A46D838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611-C268-445A-9F5B-F677604A9DB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8D7B-7AF9-4B70-AE53-140B91A624E7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3B8-A1F5-4045-A7B3-2D63756E9BD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225-6FD4-4935-8BD9-2144D28B342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002-AD4E-49F2-84A9-D89656294AC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985-56E1-4CAC-B97E-0429C7B1C237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A8F-9A43-4D25-830D-4C61FE02278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322-B79A-4EAE-BDF0-B5A76F43C744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D16-2603-45C0-93FB-8C5CB5AA0D3A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8BD-0E9B-4303-9ABE-169DE58C9B01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7C3-069C-4820-9463-C845AF8E4C51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BBA-3BBE-4BA9-9C64-1DE33BA608F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4F2-ED23-4A30-8109-247CDBCE1CF4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D9A-F501-414F-B680-C039E6DC684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C05-7E58-4DE2-A3C3-8E46BB188143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281-D7B3-478F-A060-CDAD8AD1000D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267-EE20-4D33-AAC8-463E584457C7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C94-21E1-4079-B969-D845297CF9F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15A-AA27-4A0E-B640-83F379FA1F7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22B-6E76-415F-B6EB-80318869819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610-79CB-47BC-9727-A8F9B056B31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Elaine &amp; Jon Fantini</cp:lastModifiedBy>
  <dcterms:modified xsi:type="dcterms:W3CDTF">2009-11-01T16:12:54Z</dcterms:modified>
  <cp:revision>32</cp:revision>
  <dc:subject/>
  <dc:title>Blank Jeopardy</dc:title>
</cp:coreProperties>
</file>