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CF91-38A1-4661-993C-E211E95D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4747-8B77-48EF-834B-7CED0557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7A5C-EE6D-4AD0-84E2-1650F6487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B2B8-A6EF-45FF-861A-84C59F9BB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A4B-53C5-4969-AF1C-64C73CF8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DC3-7D44-484C-9CE1-F90B690AD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C8B-BDCC-4FB7-B7E5-49073993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0BBB-E14C-422A-9B54-40E74FFF1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DA80-5B2E-4ACA-AD41-A9F9C8F3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E519-1E0A-4340-832F-8C63AF8BD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D37A-6F88-49C7-AC6B-510B59BE4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89E-3430-4C35-9CF6-9126E3FA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8A63-E612-4507-9D77-ADA3C89118C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A773F-8C16-4F07-8953-D48355A1B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AD5F-48F2-47DA-81C1-C3A1A4DABDB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CEB-DB31-4075-9816-926CB0C307C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2061-EB81-4DF1-A598-D988FBAFEFB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D96-39D8-4980-BC32-B1D1E3BE208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E2E8-E80B-478B-B84A-C683F4290E7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CEA4-6D15-46A4-8433-84E54EF2E138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EF1-7AD9-41D7-B3A0-717948FD5CC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28C-6673-4107-9886-2B9EB864285B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C1E8-4D2C-4F13-AACC-F23DCDE13A3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C688B-434E-47D8-AEF2-D6C8964E07DA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3BD9F-ABB4-4548-9316-F73D6B528E37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380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5AEF-DBD6-4846-A8E2-C94EE82D38F1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4935-182B-4F39-8036-2E6D04580179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3046-E2FC-489B-ADA5-BBCCE2C43C4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4F0B-CD23-4EE2-B94F-3A963186F6C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1FF-0A4A-4685-BBB4-635AB07D26E4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720-45C9-4153-BEEA-1DBBFACEE762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0C1A-DBB8-4C49-9E6A-C5E67394EFC9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344F-1C12-43DB-9DA2-AB4280AFCEB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252A-8F44-4DD1-9289-40631CDDAFF7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234-D617-42D6-AB41-DD4E66E2DEA0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7A59-44A3-43F5-984B-373B64FE721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E963-EDCC-4788-A512-A3EEE8385D17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067-0CD8-46F3-843D-DD17471127BB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E233-CF95-4B67-9B41-9239D42A538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616-F8FF-43A4-B4A3-F3856E31342A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7737-4594-4B79-87D8-D2A6E3622230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60AC-B99A-4CD6-AAD5-185CCF9F7644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DD9-4631-4AE9-A314-29427A5A9F80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EF5-B828-417B-B5C9-47D145AF6B4A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7DC1-18C6-47AE-A6BF-134A30685F2A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8504-C7FC-4D90-B745-ECAE25E671CF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884F-316F-4774-BED1-07EC752529CE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7E8F-BB45-4B32-A160-CE9DCB69FA0D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9819-8B84-4614-B36A-1CAFCD7F563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FCCA-22C0-4F7C-B8C6-7C86DE12A4BB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C5EE-6A45-455D-8C02-DCD9A6485C63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A553-0B71-4BC3-9A61-A36DF786997F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63B-7AF6-4221-BBE9-4F5459F49182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A74-35E9-474C-AAFB-77D5BC19BF87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F62-181A-42A0-9952-AE025A4BCCD7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885F-27FC-49FC-A98F-4E30DCF3D7DD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2549-E55A-4EBC-8977-A48476784279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6818-47DB-44DF-88D4-CD6EDF4551D7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3FB0-4E0D-4E2A-A5F6-6F109C0ABC01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DEE0-8B7F-4C1D-BB44-1C839B93D0DE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3EF-76E6-45CF-8163-3A5F3CC75DE7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49CA-4A05-453E-A965-01E0085D9C50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13AF-E54B-40E3-BD59-1826DC40FDAA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E0B-B218-4B81-BD56-60C6C75D584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7ACC-BB51-4066-A91F-91C4FF66175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Elaine &amp; Jon Fantini</cp:lastModifiedBy>
  <dcterms:modified xsi:type="dcterms:W3CDTF">2009-11-01T16:12:54Z</dcterms:modified>
  <cp:revision>32</cp:revision>
  <dc:subject/>
  <dc:title>Blank Jeopardy</dc:title>
</cp:coreProperties>
</file>