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6499-0A87-494A-BBC7-4967BBACB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7CE1-6625-4880-8760-190F70A65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8E75-6F5B-4542-A967-FE69597D7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13EB-D3AC-4C15-A1AD-4FFE1368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E51E-6DDE-4D90-B2A4-3FB6A0AA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F2E2-546E-4EBF-BFB9-FC7F50FA5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1C78-D237-461A-BE36-EBA15D80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2548-5943-4410-9A88-1B30EFAA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529C-1C82-48E9-871F-2AD2445F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37D4-A023-4161-A883-2898BD02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FB6-9A06-4910-89C9-246C08DD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3100-DD11-435A-B8EB-2D5541BF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17721-D576-4CFB-9B40-D3621C80F9C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FD11C-245F-49FB-8EDD-5F8F11436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24.xml"/><Relationship Id="rId13" Type="http://schemas.openxmlformats.org/officeDocument/2006/relationships/slide" Target="slide26.xml"/><Relationship Id="rId14" Type="http://schemas.openxmlformats.org/officeDocument/2006/relationships/slide" Target="slide28.xml"/><Relationship Id="rId15" Type="http://schemas.openxmlformats.org/officeDocument/2006/relationships/slide" Target="slide30.xml"/><Relationship Id="rId16" Type="http://schemas.openxmlformats.org/officeDocument/2006/relationships/slide" Target="slide32.xml"/><Relationship Id="rId17" Type="http://schemas.openxmlformats.org/officeDocument/2006/relationships/slide" Target="slide34.xml"/><Relationship Id="rId18" Type="http://schemas.openxmlformats.org/officeDocument/2006/relationships/slide" Target="slide36.xml"/><Relationship Id="rId19" Type="http://schemas.openxmlformats.org/officeDocument/2006/relationships/slide" Target="slide38.xml"/><Relationship Id="rId20" Type="http://schemas.openxmlformats.org/officeDocument/2006/relationships/slide" Target="slide40.xml"/><Relationship Id="rId21" Type="http://schemas.openxmlformats.org/officeDocument/2006/relationships/slide" Target="slide42.xml"/><Relationship Id="rId22" Type="http://schemas.openxmlformats.org/officeDocument/2006/relationships/slide" Target="slide44.xml"/><Relationship Id="rId23" Type="http://schemas.openxmlformats.org/officeDocument/2006/relationships/slide" Target="slide44.xml"/><Relationship Id="rId24" Type="http://schemas.openxmlformats.org/officeDocument/2006/relationships/slide" Target="slide48.xml"/><Relationship Id="rId25" Type="http://schemas.openxmlformats.org/officeDocument/2006/relationships/slide" Target="slide50.xml"/><Relationship Id="rId26" Type="http://schemas.openxmlformats.org/officeDocument/2006/relationships/slide" Target="slide2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5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6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6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E3EA-2F10-4028-AEB9-1A184BB9A16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AA09-EE18-4D3A-822A-C15971D9DDB8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FD74-9938-40A3-BB0A-7DCFE83B51E3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0C6F-F72D-4DBD-BBDF-7D9BB8201772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5B3B-20ED-4FCF-AC78-6195ADBD947B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6C26-C5C5-4AA7-924F-E7E3BBE91B4A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EB10-5B4B-4B79-A301-DBAF1A3DFC8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8288-28B1-4BA1-8D98-44FC9E52437D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20DC-3777-4B65-9EA6-9DBA95BC912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A1AD-95C4-46F4-B233-F3E45FE12229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81C6D-BA62-43F4-A966-F90240124AB1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3800" y="23274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1735-BBFF-4C57-A5C2-B49DD7CEE94A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7F6-2134-4F24-A410-014EB24A1B2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F209-0E8E-4833-A73E-D160AEC59577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C4D8-47AB-44A7-8C7B-CC36040CA53D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0698-050F-49A1-BAB2-FC5117780363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8E59-0FB8-4BAE-9FDD-334E81282F10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7FEE-4C15-400A-8DC2-1F1A9AB93550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639F-DDA4-4786-AA20-A897A32EDA55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8A8-ECF9-4FF5-91F9-70D816D4D0A3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AFBB-7A80-4250-8581-C103FD8A45E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0515-FE36-4389-BB4E-8FE24C71F8A9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C6D7-93FE-4DEF-AFB6-C8AE2372477A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7C6C-C4D3-4B35-B227-D8ED276EE9B0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66B3-F97F-4520-8A3B-FF6111B4CB43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E99A-92F5-42CC-8992-6A0F7EE8B065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349B-FD59-4779-BBF7-47908B87E9B8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50A5-7CDB-4D52-99E2-20416277B3BA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11A9-17BB-4A09-A50B-3E8F797FD7D5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EDCF-6F5D-4879-ABA9-22D496DE15AE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E029-8234-4028-BBBB-39E003BBBC1A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980E-40A9-4670-8A76-C6B98D568EE6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CA12-9498-4FD6-AD41-2F6E4E61E284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CA2A-9876-466E-8A0E-72B87605B65D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3FC7-0DFC-4E8C-AA51-F9FB01E88543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D290-CF50-41C7-9C9E-4076AE38D378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3D88-E639-4F7A-BF09-243E7494579C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4954-2B9F-41BF-972D-B010D30058EA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4405-0BAF-4F0E-8030-5C3B7B2948A6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98AB-6134-42C6-8A22-C9E446088665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D9B6-1510-4A01-99DD-4D7B520A0525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3620-BA62-4B18-B81F-B3AF8F0C1041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33D2-D5CC-47D6-81E1-698AA369ADDB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8DE8-1905-4623-BB46-98EA4C720FC5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D4A-757C-46CC-B603-C7C716B51BFD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42B6-9816-4D7F-BCE2-42652E22C80D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D861-814F-4A4A-9EA6-72FA01D744E3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FE9-68C7-4389-9117-0F1BE292F43E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BF3-D833-45F6-8F2D-4DEA6A14849F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FABD-D67C-490E-AB7C-1C2A0DF8413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6FD7-3CDE-444A-9535-C273FCBD969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 </cp:lastModifiedBy>
  <dcterms:modified xsi:type="dcterms:W3CDTF">2009-11-02T13:45:29Z</dcterms:modified>
  <cp:revision>32</cp:revision>
  <dc:subject/>
  <dc:title>Blank Jeopardy</dc:title>
</cp:coreProperties>
</file>