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02A-BEB6-4125-92E6-6A13446E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B630-A6EF-4E23-8C9B-8B7EB890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01C-6D50-4C55-A00F-9CEBF3D7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4733-5A22-4A1C-931B-E0303603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CF5C-00CF-499C-83A9-7D5EFD72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5F1-78B1-428D-8873-A829F99F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3A8-E53B-4793-8193-312B06D7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4EE-DD47-4A7D-B399-76A19DE6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38C6-3335-46AF-8FB0-8D7FF759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A2B1-B4F1-4A56-BF26-5C65E069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0257-CDBD-44ED-9FF3-FAD865A3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89E-F3A4-4DFC-96EF-FE317C31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A07A-AB12-4868-AF2F-06FB14AF91A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5FCE-1F93-487A-85F0-1022CC5E7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8.xml"/><Relationship Id="rId10" Type="http://schemas.openxmlformats.org/officeDocument/2006/relationships/slide" Target="slide20.xml"/><Relationship Id="rId11" Type="http://schemas.openxmlformats.org/officeDocument/2006/relationships/slide" Target="slide22.xml"/><Relationship Id="rId12" Type="http://schemas.openxmlformats.org/officeDocument/2006/relationships/slide" Target="slide24.xml"/><Relationship Id="rId13" Type="http://schemas.openxmlformats.org/officeDocument/2006/relationships/slide" Target="slide26.xml"/><Relationship Id="rId14" Type="http://schemas.openxmlformats.org/officeDocument/2006/relationships/slide" Target="slide28.xml"/><Relationship Id="rId15" Type="http://schemas.openxmlformats.org/officeDocument/2006/relationships/slide" Target="slide30.xml"/><Relationship Id="rId16" Type="http://schemas.openxmlformats.org/officeDocument/2006/relationships/slide" Target="slide32.xml"/><Relationship Id="rId17" Type="http://schemas.openxmlformats.org/officeDocument/2006/relationships/slide" Target="slide34.xml"/><Relationship Id="rId18" Type="http://schemas.openxmlformats.org/officeDocument/2006/relationships/slide" Target="slide36.xml"/><Relationship Id="rId19" Type="http://schemas.openxmlformats.org/officeDocument/2006/relationships/slide" Target="slide38.xml"/><Relationship Id="rId20" Type="http://schemas.openxmlformats.org/officeDocument/2006/relationships/slide" Target="slide40.xml"/><Relationship Id="rId21" Type="http://schemas.openxmlformats.org/officeDocument/2006/relationships/slide" Target="slide42.xml"/><Relationship Id="rId22" Type="http://schemas.openxmlformats.org/officeDocument/2006/relationships/slide" Target="slide44.xml"/><Relationship Id="rId23" Type="http://schemas.openxmlformats.org/officeDocument/2006/relationships/slide" Target="slide44.xml"/><Relationship Id="rId24" Type="http://schemas.openxmlformats.org/officeDocument/2006/relationships/slide" Target="slide48.xml"/><Relationship Id="rId25" Type="http://schemas.openxmlformats.org/officeDocument/2006/relationships/slide" Target="slide50.xml"/><Relationship Id="rId26" Type="http://schemas.openxmlformats.org/officeDocument/2006/relationships/slide" Target="slide2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5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6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7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8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5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6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6ED-89DC-4A82-9372-8D984B11242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CE2-BD3C-4095-9B14-B41A5A5DADC2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4E0-5D09-4011-8B90-A5BC3ABC6567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94E1-C217-4D32-A394-DE00449EEB0A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B0E-1357-4A1C-B5D1-95CC08CD6F7F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D487-E151-4C36-BC33-7FF81FFCE56A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764-6812-4991-B0FA-C6A9D69F39EC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31B-EAFA-49C2-AA9E-5391A45E23F5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716-6397-4C6A-B8B5-33AA362EA030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6CC9-771B-4136-B750-70115A34B98F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54EA-E795-4298-9090-3F4EB63C0D8F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3800" y="23274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30F-84D5-4E9B-A85D-215B890A862A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10F7-3B18-4448-91FF-BD9997F6C7DD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181-1FD3-442B-936D-DA2711118CFF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0EF7-4588-44A2-A824-59D5DF8A6C88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ACDA-800C-44DD-B7CB-70F43D9CC6B1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8A1-2714-4C2F-ACC2-67E3D02515D1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59F-F565-4281-80A9-B63927DD915A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A41-764C-4DE6-B974-17A578FBD8BA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016-DA8D-46E8-82C8-46B126108489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1DD9-392A-4BBB-B6D7-0150EBCA3515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E46-B5A7-4EE3-BB2A-ECC5E94DC6D3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945-AFD5-47EF-BBD2-7049C87FFF70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99C-E0AD-45BF-B958-5798C162E382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57F-FBD3-4AE3-9A91-40D232704362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999-8299-471F-873D-E95690FAB42C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D348-4F6D-4736-A43E-56295A8C020C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A2F7-8594-4974-8BF1-0E018F46EF9A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8DE-7DDF-4792-9080-9FE62AFEF687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A49D-C275-4825-BB9C-84D53FE99740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711-394E-4549-A6E6-0B634FEBC711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AB1-1D93-4E4D-A5BE-A58BCB2D84FA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92A-F392-47A4-A11D-8543DAFBC77D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9F3-F4D2-4BA5-83BE-230F8B7557D1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6D5-1865-401D-BE8D-66F88C36B9AD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C91-E1B4-493C-BECA-7AFC2C345B80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E61-FBA0-4DEF-8C0F-3B3735D43989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966-2CA3-4461-B2DA-AD33DEBB1D81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7D4E-D423-40A1-BC2C-DC9BDECF9240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9D5-7B6B-4685-B571-E4B2AA402DD0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52B8-FD44-4403-BF41-1133C93F8539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C09-6B30-42E2-8CE9-E7B42425658E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01E7-1EC2-4F73-8DFA-2D1E6011E1AB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7630-958B-4260-9587-A25ED31D5AF0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283D-AD05-4BD5-9D1A-34C4D014DD69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395D-175D-49C6-B1CD-5F57BD239E3B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F973-F4EC-4EB6-A75B-F4786A8AC012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06A-5D65-44E1-8D81-3CA9D446CD90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82D-77DB-432E-8B9D-F6FA34FC13F8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236-1788-4B0C-83CC-9E81057120F9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134-E2AC-47B4-B6AF-99AD9DCADBAD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 </cp:lastModifiedBy>
  <dcterms:modified xsi:type="dcterms:W3CDTF">2009-11-02T13:45:29Z</dcterms:modified>
  <cp:revision>32</cp:revision>
  <dc:subject/>
  <dc:title>Blank Jeopardy</dc:title>
</cp:coreProperties>
</file>