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56B-2893-4521-829E-DFACBCFB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62E-62D4-4E49-AF5E-5B99D179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CD7-6384-4F47-B4C2-8EE54745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6DB-205B-4CA3-8D4E-B7885F12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281-55D4-4314-A26C-47B4E074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683-1952-43B4-BCA8-DAE839EF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C1B-3200-4C40-A5A3-3358F851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304-BDC0-4D1D-9DD5-FA892074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324-1379-4F7B-8182-5D5DF6C8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D76-113E-46CF-94AD-11B2DD4D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79E-A81B-4086-9681-7C8F57D6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26D-0B4D-4EC3-A8E0-3DA3C5F4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9578-EB2A-4816-B5AB-280CC95F8A5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0D71-EED6-4CCD-A2D8-030A3C3B1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6.xml"/><Relationship Id="rId14" Type="http://schemas.openxmlformats.org/officeDocument/2006/relationships/slide" Target="slide28.xml"/><Relationship Id="rId15" Type="http://schemas.openxmlformats.org/officeDocument/2006/relationships/slide" Target="slide30.xml"/><Relationship Id="rId16" Type="http://schemas.openxmlformats.org/officeDocument/2006/relationships/slide" Target="slide32.xml"/><Relationship Id="rId17" Type="http://schemas.openxmlformats.org/officeDocument/2006/relationships/slide" Target="slide34.xml"/><Relationship Id="rId18" Type="http://schemas.openxmlformats.org/officeDocument/2006/relationships/slide" Target="slide36.xml"/><Relationship Id="rId19" Type="http://schemas.openxmlformats.org/officeDocument/2006/relationships/slide" Target="slide38.xml"/><Relationship Id="rId20" Type="http://schemas.openxmlformats.org/officeDocument/2006/relationships/slide" Target="slide40.xml"/><Relationship Id="rId21" Type="http://schemas.openxmlformats.org/officeDocument/2006/relationships/slide" Target="slide42.xml"/><Relationship Id="rId22" Type="http://schemas.openxmlformats.org/officeDocument/2006/relationships/slide" Target="slide44.xml"/><Relationship Id="rId23" Type="http://schemas.openxmlformats.org/officeDocument/2006/relationships/slide" Target="slide44.xml"/><Relationship Id="rId24" Type="http://schemas.openxmlformats.org/officeDocument/2006/relationships/slide" Target="slide48.xml"/><Relationship Id="rId25" Type="http://schemas.openxmlformats.org/officeDocument/2006/relationships/slide" Target="slide50.xml"/><Relationship Id="rId26" Type="http://schemas.openxmlformats.org/officeDocument/2006/relationships/slide" Target="slide2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5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6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6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EA6-E5CB-4B50-A9E9-8929126E474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AC55-3AE5-43E9-BBD8-E6892EE14708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9FE-42AC-4856-BB02-534B6D015ED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322-EF4F-4C84-84D8-20DB8D5B923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970-9823-4058-88D1-F600642F6C66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065-52DE-494A-898E-6273140C25A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6C0-9974-4749-8719-C2D70150AB83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D82-CDC8-4012-A332-F1F6416CE583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361-F2C6-40F4-A43A-331CE3D0E56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C46-601C-4BA1-9622-D6BF97AE289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31B-CBC1-4020-9ACE-334D1A0D9A6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3800" y="23274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7C7-DB0C-48A9-8D08-5CBA0C86F7B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05C-E579-4D73-A6D1-2CE2DE8CFD3F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66E-67FA-4B1E-8B1B-682C2A6DD05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D88-8A21-4CB7-A1BE-2343D595467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A28-EF5F-4F36-B0FB-9B6EA61E4834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4F9-7ABB-40AB-BF84-EF56DF8ADE8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5F2-3CF2-4ACF-A4B2-ACFF232C07B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C76-A246-4549-AD08-23817AFAE511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317-A38E-4DC5-86A3-C87069205DC7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EB8-DA87-4F3E-8795-5F4C9BB6DCE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BDA-F8F4-4FCF-BE3C-A0D58931AABE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464-4E52-43C3-BFCF-576CA9B98745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EF7-7157-43DF-AB6F-9230AE37AEA2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291-6219-45CF-86C9-1F9F2BC24AB2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091-CF07-4388-9B35-B91E7CA71981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CA8-D7BF-45CA-BDB6-E6085AFBEB97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C2A-A6F0-48BD-B712-3B83B8F520FF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92F-0B1C-4975-BDC7-8F8DED430D08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55D-A536-4AA0-9449-FFB258675E5D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E28-501D-4650-8C7E-CCBC5AAC8822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6BA-4286-44CA-BD44-687B03CFCEB3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A6D-C9B0-4461-B3E9-543CCE0651A4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09F-5508-4E92-A611-9BC43BE2FB78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22C-4237-44C9-8839-FCB5F4EB6C0C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FE3-CBF8-46CF-84C9-E450560E5704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F0F-A60E-41BF-BD18-BBCEEE2124F2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179-FDFA-42D6-B65B-21414F07229C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CDC-1142-4D7B-967F-03D2E80F948D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229-3E81-4684-B5E3-64000946E70B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1D47-768A-43D5-9A52-562519333C5D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059-CFDF-43A1-BEC8-600301D445A3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23D-011C-4946-BFE6-74793F1E6EDA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4B6-CE26-4A81-B08F-850323B75380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605-A506-4964-B94D-A54CE40EDDE8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025-574F-493C-AA91-16B436C79667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431-83B8-42FB-A75E-763DE21B0D72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4B4-FC19-4A1F-B003-D7B9982C2683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830-FCD3-4AF4-9DC5-6602AF67A6F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B33-E4AD-4149-B331-9CF9B80B3D30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0F6-41BD-4431-A423-61F2105BBBF9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 </cp:lastModifiedBy>
  <dcterms:modified xsi:type="dcterms:W3CDTF">2009-11-02T13:45:29Z</dcterms:modified>
  <cp:revision>32</cp:revision>
  <dc:subject/>
  <dc:title>Blank Jeopardy</dc:title>
</cp:coreProperties>
</file>