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A276-620E-441D-80FE-FCAE26689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E28-BB82-4DD0-B5CD-2276D271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8CC5-CD8A-44A6-BE20-A8014875A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F06C-8341-47EE-A8B4-25849E790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7FB7-9826-45A8-8D78-D41BBB1B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7903-7B31-4338-840F-02B18C589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4C0-F825-4738-B6C8-9C9D59C2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4BCD6-C9A6-4140-9852-F3AEA56D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BFF3-6C72-4F40-AB56-3438E079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AD7-44F7-4A63-8FFD-447922B9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EFD6-FB54-49B1-83A3-99633DC6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10CE-C228-4C87-A1BA-7233B792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7953-9610-4314-ABAE-06E0A32766F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7B275-83B2-4209-A913-0D820A9DBD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4.xml"/><Relationship Id="rId24" Type="http://schemas.openxmlformats.org/officeDocument/2006/relationships/slide" Target="slide48.xml"/><Relationship Id="rId25" Type="http://schemas.openxmlformats.org/officeDocument/2006/relationships/slide" Target="slide50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5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6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A65F-8EA6-4DC1-A537-51E6F55BF6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BF88-B22A-43B6-B3DA-A4302927E21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54A-1AE3-49AF-A27D-83C46FFA011A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C8E7-61E7-489D-BDB0-F4F929AFA38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465F-90DE-4B57-8B75-BB826B8D476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42C-41CE-4C19-882E-4A2BEA0EBD4F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0DE9-7181-4741-AA55-950B1D0535C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3B3-1107-423A-A330-862B658B69A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7310-DD70-45D8-8F15-930F7DB49DA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7699-8F80-4937-8794-9DB35ED78F7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27D8-ED0A-4DD2-A576-72ADEEE7244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3800" y="23274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85CD-F925-4ED8-A6BE-D6F4E8F15EF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0B3-D2C7-441D-ACA2-BA838505980F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3872-101E-444B-964F-9D80BBF3FE8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7459-5B81-4EED-80F5-72058957228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C061-077A-41DE-8AF5-782863E09330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B77-C911-4A46-BCC3-0B8D1F9C2B0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58A1-E1ED-4B75-8E3D-C5DF97963E94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009-38F3-4C63-96A6-092230A022F9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75FE-5A31-4310-8335-2839B84804AE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2448-F4FD-4629-B49D-5C1AF85DC8BA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36FE-A57D-499E-8AFB-77CEC015D8A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1209-9E0B-432C-BAC2-B0314DB71E6E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DD4-C2AF-49AD-B8D9-FF0FF493349C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BF88-5A6C-4281-831E-FAB1470CB2F0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495-C757-4A7A-A45B-228D637647D8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4289-5EE1-4612-8C3C-A55646D91A75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24ED-1638-4910-B0BF-849432364AEB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2E4B-7E85-41F7-9825-2D87FA8BB9FC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C808-EFCA-48B3-827B-64F78AE1D0B0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A55-364D-41B3-9982-FCE86F51AF19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3D16-1F92-4F17-B6E2-8CA5503E42D3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1D947-3DDA-410C-B3A4-6DDBB96189EB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6F9-7363-4A3A-B972-29B99DCEDC54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8A90-17A0-43E9-AE17-A77E4F541CD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06F6-FCB0-4080-8707-C822A2E15390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5571-3FB1-48A8-92E2-668D3E4B249E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D9DE-6249-4282-B1AE-BC9B588DDD84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F5B7-6410-480F-8AA0-0951B550ED6B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8E27-C127-4D3B-BB26-C40876A02318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987B-3044-4EFF-A186-60604D06A737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21E0-4465-493B-BB6F-B91A853FFA03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B63-5C70-4B57-84C6-F03B55A67521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EE72-8D0D-4019-9965-DF835070B196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E1F4-DFC5-4464-9463-8EA2C55CFA15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D867-8DAD-4275-ACF3-AA175DE6D453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2117-D221-446F-A3F1-E45ED4AEC0D6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DE4-4633-4433-A20B-7C33889CE2F3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E5484-E628-42FD-B8CF-5EE838406366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042-93BD-4305-AF29-2A0158ED4BA2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A0CD-9396-4964-B681-695AA764433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29Z</dcterms:modified>
  <cp:revision>32</cp:revision>
  <dc:subject/>
  <dc:title>Blank Jeopardy</dc:title>
</cp:coreProperties>
</file>