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4E3C-3554-4BBB-ACD5-34D83BB13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A57-5CFE-4E68-85B0-E50D6D4C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4BA2-9428-456B-BE3E-8465A932B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6615-606D-4254-98AC-03CE1B81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222-71C7-4092-8B72-8CAE22D13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E0DE-7DFA-4DF8-91B6-10C7BAD8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E5E1-C585-49D4-998F-0FE23BD70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0B7-C6DE-483F-B4C4-BD2526527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9CF9-F8CA-46F6-A864-7E0300B65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27D2-E495-4E3D-8976-36D925D8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9C85-C258-486B-BCF4-B01DFDC3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E3BF-7DCE-4352-94A6-13B04281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A4850-0DB9-4FF9-9FE6-9E0F7E31C5F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7D06-EF8F-426C-9BE8-9226966A75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8.xml"/><Relationship Id="rId5" Type="http://schemas.openxmlformats.org/officeDocument/2006/relationships/slide" Target="slide10.xml"/><Relationship Id="rId6" Type="http://schemas.openxmlformats.org/officeDocument/2006/relationships/slide" Target="slide12.xml"/><Relationship Id="rId7" Type="http://schemas.openxmlformats.org/officeDocument/2006/relationships/slide" Target="slide14.xml"/><Relationship Id="rId8" Type="http://schemas.openxmlformats.org/officeDocument/2006/relationships/slide" Target="slide16.xml"/><Relationship Id="rId9" Type="http://schemas.openxmlformats.org/officeDocument/2006/relationships/slide" Target="slide18.xml"/><Relationship Id="rId10" Type="http://schemas.openxmlformats.org/officeDocument/2006/relationships/slide" Target="slide20.xml"/><Relationship Id="rId11" Type="http://schemas.openxmlformats.org/officeDocument/2006/relationships/slide" Target="slide22.xml"/><Relationship Id="rId12" Type="http://schemas.openxmlformats.org/officeDocument/2006/relationships/slide" Target="slide24.xml"/><Relationship Id="rId13" Type="http://schemas.openxmlformats.org/officeDocument/2006/relationships/slide" Target="slide26.xml"/><Relationship Id="rId14" Type="http://schemas.openxmlformats.org/officeDocument/2006/relationships/slide" Target="slide28.xml"/><Relationship Id="rId15" Type="http://schemas.openxmlformats.org/officeDocument/2006/relationships/slide" Target="slide30.xml"/><Relationship Id="rId16" Type="http://schemas.openxmlformats.org/officeDocument/2006/relationships/slide" Target="slide32.xml"/><Relationship Id="rId17" Type="http://schemas.openxmlformats.org/officeDocument/2006/relationships/slide" Target="slide34.xml"/><Relationship Id="rId18" Type="http://schemas.openxmlformats.org/officeDocument/2006/relationships/slide" Target="slide36.xml"/><Relationship Id="rId19" Type="http://schemas.openxmlformats.org/officeDocument/2006/relationships/slide" Target="slide38.xml"/><Relationship Id="rId20" Type="http://schemas.openxmlformats.org/officeDocument/2006/relationships/slide" Target="slide40.xml"/><Relationship Id="rId21" Type="http://schemas.openxmlformats.org/officeDocument/2006/relationships/slide" Target="slide42.xml"/><Relationship Id="rId22" Type="http://schemas.openxmlformats.org/officeDocument/2006/relationships/slide" Target="slide44.xml"/><Relationship Id="rId23" Type="http://schemas.openxmlformats.org/officeDocument/2006/relationships/slide" Target="slide44.xml"/><Relationship Id="rId24" Type="http://schemas.openxmlformats.org/officeDocument/2006/relationships/slide" Target="slide48.xml"/><Relationship Id="rId25" Type="http://schemas.openxmlformats.org/officeDocument/2006/relationships/slide" Target="slide50.xml"/><Relationship Id="rId26" Type="http://schemas.openxmlformats.org/officeDocument/2006/relationships/slide" Target="slide2.xml"/><Relationship Id="rId2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5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6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7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8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9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0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1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2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1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24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0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25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2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6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5 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6869-D84E-4005-9129-9C6487C14CB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ACFE-A12D-4BD0-82F2-9D514F9FD920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1FC6-0655-4DC5-8C08-ACA868136BD0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DFD2-BE9D-40E2-9580-EFBEF7987A8B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A9A5-5728-4BCF-85C3-F95E27E969BF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E84F-8409-45E4-B352-F8789F7216AB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8CF0-9B39-4C3B-B9FE-14F6883637A3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9AC4-8D00-4F8A-AF05-9E158D96AA1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D20A-8D1F-4BE7-A2EB-B96A48F5607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AB0-FCCB-45FB-B7ED-1585B6991D08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460-149D-4F23-8847-55F12E3FB5CD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03800" y="232740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5CA-F5F3-4EAF-B2C5-6CDDECE3D5CE}" type="slidenum">
              <a:t>2</a:t>
            </a:fld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625F-C281-4155-823C-CCB25EE7B217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B516-978B-43A3-B7CA-FAF005CA39DE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7AEC-5810-43EA-88E8-8C156633ABA1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11E6-18CD-47C5-8A65-178855EF7316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29B3-0CE8-44EF-B117-96276DEFA86A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A7D2-4BCC-463D-93AF-75966406C89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0F46C-C3E2-452C-BBF0-2A993C045336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1969-E3EF-4822-A46A-E59B049AFB44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989-6202-4278-BEDA-A8531F61EF04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A811-A146-4A7D-BF8B-F7C7DC8E72E1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2F475-11B0-4E05-97A0-233D2414C280}" type="slidenum">
              <a:t>3</a:t>
            </a:fld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908-0DBD-4488-8ABE-AD315F3BB49D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9426-DAC9-4B43-87C7-92DBCD9E156F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C701-59A3-4F3C-A5E1-6DCAB7A5C1BE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3D6E-40FA-4BF8-8BFA-E1CC752121ED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054C-3BEF-4E4D-BF3A-78640BE9BABA}" type="slidenum">
              <a:t>34</a:t>
            </a:fld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ED33-38DC-419A-8FB3-2AC471614385}" type="slidenum">
              <a:t>35</a:t>
            </a:fld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E3E0-3FA4-4B22-8A69-52AB407D4D93}" type="slidenum">
              <a:t>36</a:t>
            </a:fld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1A87-1DF2-487B-9273-DB1314E46E08}" type="slidenum">
              <a:t>37</a:t>
            </a:fld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9A2-951F-4452-9207-ACA5278043AA}" type="slidenum">
              <a:t>38</a:t>
            </a:fld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38FE-E8DF-4BF8-8BC0-C1EC7240B58B}" type="slidenum">
              <a:t>39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005F-9E9A-4135-9EE5-FF9184EE9263}" type="slidenum">
              <a:t>4</a:t>
            </a:fld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87D7-C28E-4492-AE6C-53D344F480F9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F24D-0336-44F6-A515-EAC2BB21498C}" type="slidenum">
              <a:t>41</a:t>
            </a:fld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447920" y="30780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52D0-DF64-4101-BBA5-75F5ADB28884}" type="slidenum">
              <a:t>42</a:t>
            </a:fld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447920" y="3079800"/>
            <a:ext cx="624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4F38-A25A-46FB-B58C-5A5BD88BBD70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EBCF-FEBA-4357-A4A4-F28FC9E8DA31}" type="slidenum">
              <a:t>44</a:t>
            </a:fld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F366-78DA-4E8F-A9A3-8A89699B7CB0}" type="slidenum">
              <a:t>45</a:t>
            </a:fld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A994-A82C-4E5F-9B3B-CD90EA2D8C89}" type="slidenum">
              <a:t>46</a:t>
            </a:fld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4AB8-4AA3-4963-A3AE-7DD8149D68B5}" type="slidenum">
              <a:t>47</a:t>
            </a:fld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16AB-C660-418C-BAA7-7E25AD2330C7}" type="slidenum">
              <a:t>48</a:t>
            </a:fld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89DB-A424-4B42-9405-650DEAF1FA8E}" type="slidenum">
              <a:t>49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5382-A5D6-48EC-8DD2-2E72116EB7F0}" type="slidenum">
              <a:t>5</a:t>
            </a:fld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E379-21B5-4DDC-9DC6-7406ED4AA068}" type="slidenum">
              <a:t>50</a:t>
            </a:fld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447920" y="3173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93F3-3471-460F-B360-79832D7A771B}" type="slidenum">
              <a:t>51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C322-F2F0-42CC-8E19-059B00D0B03B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7C5-9474-444E-B705-2DB1F3399DF7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44A5-6C50-42C4-94C8-936DFABB5C79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AB-D872-4F8D-A1DD-3DB2DC0BA4F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Donna Eustace</dc:creator>
  <dc:description/>
  <dc:language>en-US</dc:language>
  <cp:lastModifiedBy> </cp:lastModifiedBy>
  <dcterms:modified xsi:type="dcterms:W3CDTF">2009-11-02T13:45:29Z</dcterms:modified>
  <cp:revision>32</cp:revision>
  <dc:subject/>
  <dc:title>Blank Jeopardy</dc:title>
</cp:coreProperties>
</file>