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E5F-3F2E-49DF-AEC5-80C4EF23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0FF-3128-4870-8A06-78BCB2FB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E8C-20FF-4C96-B319-2FA702D0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7F9-E911-47F3-9FEC-A5BAABC5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7AE-6E61-44C3-ACFB-E950DFEB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E32-E627-401D-A45F-0F2C3EDF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429-909E-4A5E-BE70-12AD42E8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BA3-62E8-42CF-9949-9AE4BB66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290-8788-40C7-B259-32220529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AD3-16B2-4958-8590-A2861B0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022-BF55-4CBB-BA2B-CEB2671B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FE6-7C8B-4B68-AC30-71277635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C482-BDF1-4355-A1CE-6B26090907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8C5E-9A27-4A7D-9EA5-BDBDE844D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238-6350-4795-979D-C14696F5B0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FEB-755F-4D3B-9578-18506788EBF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8CD-DC05-4274-B905-9B75CCC42AC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B50-EF38-441F-AE44-0DCFC744739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A6F-7FEE-4725-89C1-4996FBC5AAE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4AB-757B-4AC9-B1D4-D32BBBB6F30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D22-59F5-4E50-AB94-4D19DFA62FB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E8C-72C3-4AE4-9D9B-FC80FC04374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A28-4615-4F08-9EE4-1ED578389C7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ACC-9FBF-4E00-9C75-9EA2B2CA497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31B-55B0-4B49-829B-97FAEB401BF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F15-A7A4-4A1C-B6C4-5774338FF76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AD6-1763-4853-BFED-04DF53BEBCB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96B-FE79-4D6F-9BE6-C987056A9C9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D61-36F7-4612-B309-3C8AD58CD32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9B8-BD9E-4732-9481-27E50423483A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B82-EBF5-4ED6-9E22-812866DE500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A5B-EE9A-42B4-B6FD-C3E013FCC19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243-79EB-4630-B5ED-0DC304E7EC56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8F6-4365-4631-BD05-AF7E861DAAB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8EA-B1EA-4F16-9A68-7658992541BE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E8B-C4DE-4F10-AD19-7D9E53F277FB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A9A-F91E-4F18-BB3F-A5ED4AC1EA7E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8F3-37A8-4A5B-8B35-39328C9FCA57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BD3-EDD0-4B39-8811-7D73395C71A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206-D5B3-4626-8D2F-C014A2024F2A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D84-3AA1-4078-B864-9B3B512B5CBA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F19-0D4A-48EC-8C52-9F7A06C85792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043-B9DB-44B5-A27D-8C2695B5DE8C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4E6-68A0-4C0A-96BC-68D8628869A1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622-B537-4B5C-B7C4-03384DB341DC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716-4D3A-4473-8C6B-7F33985810C8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E31-943D-460A-9FC8-0CC554CC343B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913-7C75-42D7-8DC0-8F28F860D334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88D-C659-4569-B122-C4A26CAAF7CE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2EA-0C10-4C0B-AFDA-445E6842EA31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14D-9972-433A-B651-C4C8907009F3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33D-7ADE-4765-8C62-A784599C45DA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F8D-E2E4-445D-9FF9-9680CB891F05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B7A-6BD8-4228-A319-0E90FE46E114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5C7-6DA7-4577-B55F-780FC782391A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214-0A31-4425-B1CF-6D0B07FFAAAB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C7A-D1C2-4FC1-A2D0-DD3A20766297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3D7-65AC-4B9F-9C46-041F864DFB38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79A-C996-4DD2-8B69-F5054D36F946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A05-B5D7-41BD-A4B0-3AB7813CA1FB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794-9DFD-48EE-9F26-C973B3E70710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A1B-E948-4529-AAE1-BDA05BBCA9E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C5B-5F50-4D7E-BC9A-12D9CF2F83B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EF9-806A-449D-992C-EF051BEF97F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8D0-D082-4408-B905-49C20B0CC3A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29Z</dcterms:modified>
  <cp:revision>32</cp:revision>
  <dc:subject/>
  <dc:title>Blank Jeopardy</dc:title>
</cp:coreProperties>
</file>