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C8B-E1E3-4C01-BB47-C182B3D4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B95-5167-4C95-9999-0BF79F69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738-20EA-4686-80E5-B15B60F7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987-B841-4889-A8EB-AF56FD6E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A33-3DAC-4F43-A905-2B691826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C12-844C-44F3-AFC3-2E360872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6C7-F949-4BF6-8C45-59F43B2C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708-F7E6-458F-A9F8-E32E1867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CBA-0991-4509-BCEC-933D15DA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EBF-17FB-4040-916B-063CA1B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C55-B92B-478C-B198-9FD480E5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0A7-9C91-4158-8120-72DD0BFA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0367-D41E-482D-82C5-B8F2F9859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a Mile a Minu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o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5:16:24Z</dcterms:created>
  <dc:creator>LCSD</dc:creator>
  <dc:description/>
  <dc:language>en-US</dc:language>
  <cp:lastModifiedBy>LCSD</cp:lastModifiedBy>
  <dcterms:modified xsi:type="dcterms:W3CDTF">2009-11-30T16:42:34Z</dcterms:modified>
  <cp:revision>3</cp:revision>
  <dc:subject/>
  <dc:title>Talk a Mile a Minute </dc:title>
</cp:coreProperties>
</file>