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60CD-A8FC-4040-AB7B-99677DA93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2AF-661B-4683-AD51-454924951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2EA-FCEF-410E-8838-0A148FBBE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DA00-B23E-44E2-B95A-4A9485D87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A5DB-0253-4910-A939-C679F586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7615-D9F0-4F7D-967D-DEE63691E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D0B0-D7A5-496F-978F-A3BE2E39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6396-AC26-4BF0-A449-B6C5BBB02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722B-2D8F-4BF7-AA65-5FE17E295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BFBF-3347-4401-B8D8-6F7ABC09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03DD-58F8-443E-964F-DFBE94F8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BCAD-D6D2-4C32-AE2B-61561CE1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BB888-22B0-4C56-82AD-DBB5E9A47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a Mile a Minu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ergarten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1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2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3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ergarten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1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ular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2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in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a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3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o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5:16:24Z</dcterms:created>
  <dc:creator>LCSD</dc:creator>
  <dc:description/>
  <dc:language>en-US</dc:language>
  <cp:lastModifiedBy>LCSD</cp:lastModifiedBy>
  <dcterms:modified xsi:type="dcterms:W3CDTF">2009-11-30T16:42:34Z</dcterms:modified>
  <cp:revision>3</cp:revision>
  <dc:subject/>
  <dc:title>Talk a Mile a Minute </dc:title>
</cp:coreProperties>
</file>