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C19-CE52-4848-9E58-12A7C843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7E4-6B1B-4A21-9828-38098D20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C80-72EC-4FB9-A2E1-09A7C85F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BBF-CB7B-419C-9271-B9C5F168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20B-9D60-4C2B-8B9A-63797617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C59-9AEC-45F8-A1D3-90DEDD2E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D2A-E4BF-4899-9175-F931DE1F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C5F-BC47-4CFE-B542-C45E2A5C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5DD-E88A-448D-A1F1-22833608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68F-A1E8-4BCA-9173-153EB5FF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EAF-8C66-499B-B951-2A3A0D63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67E-D4E6-42DB-84D1-4730D6CD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A2DA-D935-4950-908C-EF480B32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 Mile a Minu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5:16:24Z</dcterms:created>
  <dc:creator>LCSD</dc:creator>
  <dc:description/>
  <dc:language>en-US</dc:language>
  <cp:lastModifiedBy>LCSD</cp:lastModifiedBy>
  <dcterms:modified xsi:type="dcterms:W3CDTF">2009-11-30T16:42:34Z</dcterms:modified>
  <cp:revision>3</cp:revision>
  <dc:subject/>
  <dc:title>Talk a Mile a Minute </dc:title>
</cp:coreProperties>
</file>