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1054-C725-4DFD-8DCF-DD46BDD5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574-2290-4FBC-961D-B58119E98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D617-BF0B-4AFC-A10A-59C25375B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0ED-590D-4427-A9FA-7C0B6510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5AC4-5025-4B79-8883-4EC5DBE1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6F7-C429-4F54-9DD3-50A54C6B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38AA-ECFE-4DC4-B675-2A2062224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F76-31BC-43B6-9E42-0B30497F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445A-6499-440E-B443-7265FF2F4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0535-8964-4305-A385-5FDF2B42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2657-06D2-4844-91D5-B193468B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4713-C724-4001-B08D-AFD58F9F2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4715A-D4B7-4E9D-AF55-6559AEFF4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lk a Mile a Minut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38080" y="1295280"/>
            <a:ext cx="7543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i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p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a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b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Social Stud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ss r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ndergarten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qu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1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v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ngular pr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2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 fam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din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d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pezo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yram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de 3 M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icto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ang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15:16:24Z</dcterms:created>
  <dc:creator>LCSD</dc:creator>
  <dc:description/>
  <dc:language>en-US</dc:language>
  <cp:lastModifiedBy>LCSD</cp:lastModifiedBy>
  <dcterms:modified xsi:type="dcterms:W3CDTF">2009-11-30T16:42:34Z</dcterms:modified>
  <cp:revision>3</cp:revision>
  <dc:subject/>
  <dc:title>Talk a Mile a Minute </dc:title>
</cp:coreProperties>
</file>