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014-6018-42A8-B302-20A99026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91D-8ABF-489D-A990-A42C1D97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F0A-A64D-4243-ABBA-41FD1A5A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3BD-96FB-4368-8CA6-CAF619E6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E7B-B8EC-456D-A760-F328E86B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549-5F2B-454E-A55E-FE1047D1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6E2-CB32-4694-B63E-C58C01C2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EB3-1D7E-4CED-B8EE-685B1D93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5DC-1552-486B-B906-77F22535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72D-29E6-4A1B-A93D-8772265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94B-551E-4F24-B10E-B695BDE6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9CA-C78B-44B9-B53F-D4800952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75BC-413D-4511-9991-30DA35DE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 Mile a Minu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5:16:24Z</dcterms:created>
  <dc:creator>LCSD</dc:creator>
  <dc:description/>
  <dc:language>en-US</dc:language>
  <cp:lastModifiedBy>LCSD</cp:lastModifiedBy>
  <dcterms:modified xsi:type="dcterms:W3CDTF">2009-11-30T16:42:34Z</dcterms:modified>
  <cp:revision>3</cp:revision>
  <dc:subject/>
  <dc:title>Talk a Mile a Minute </dc:title>
</cp:coreProperties>
</file>