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1.jpeg" ContentType="image/jpeg"/>
  <Override PartName="/ppt/media/image23.wmf" ContentType="image/x-wmf"/>
  <Override PartName="/ppt/media/image7.wmf" ContentType="image/x-wmf"/>
  <Override PartName="/ppt/media/image12.png" ContentType="image/png"/>
  <Override PartName="/ppt/media/image20.jpeg" ContentType="image/jpeg"/>
  <Override PartName="/ppt/media/image6.wmf" ContentType="image/x-wmf"/>
  <Override PartName="/ppt/media/image19.jpeg" ContentType="image/jpeg"/>
  <Override PartName="/ppt/media/image10.wmf" ContentType="image/x-wmf"/>
  <Override PartName="/ppt/media/image5.wmf" ContentType="image/x-wmf"/>
  <Override PartName="/ppt/media/image27.jpeg" ContentType="image/jpeg"/>
  <Override PartName="/ppt/media/image4.wmf" ContentType="image/x-wmf"/>
  <Override PartName="/ppt/media/image13.jpeg" ContentType="image/jpeg"/>
  <Override PartName="/ppt/media/image24.wmf" ContentType="image/x-wmf"/>
  <Override PartName="/ppt/media/image22.wmf" ContentType="image/x-wmf"/>
  <Override PartName="/ppt/media/image21.wmf" ContentType="image/x-wmf"/>
  <Override PartName="/ppt/media/image18.wmf" ContentType="image/x-wmf"/>
  <Override PartName="/ppt/media/image1.png" ContentType="image/png"/>
  <Override PartName="/ppt/media/image17.jpeg" ContentType="image/jpeg"/>
  <Override PartName="/ppt/media/image16.wmf" ContentType="image/x-wmf"/>
  <Override PartName="/ppt/media/image15.wmf" ContentType="image/x-wmf"/>
  <Override PartName="/ppt/media/image14.wmf" ContentType="image/x-wmf"/>
  <Override PartName="/ppt/media/image25.wmf" ContentType="image/x-wmf"/>
  <Override PartName="/ppt/media/image2.wmf" ContentType="image/x-wmf"/>
  <Override PartName="/ppt/media/image26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886D-4ABE-4F3E-B7C4-92AAA9AF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CA5C-0F01-4DE8-B988-8A32D9C2E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67AA-1695-4F7A-B3CD-F12F065E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F2D6-E7CB-480C-9051-321F5F76D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017DE-525E-4A79-8E5D-8556A8626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E2DCB-EDED-40E5-8CD9-5AE2F642C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1226-A286-4DB0-A4B2-4108F07B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B9965-B8E5-47B7-B6E7-154B3EF5D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00318-1E1F-4BD2-9F76-EFF126EA3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F49C-0B2A-4AAB-AEBD-F85452F5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7B11C-ED31-48AD-8CBC-468F3C22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10DB-ECF2-47C3-BD41-27F443F8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685D0-14FE-43DE-BB42-1D2E7D9E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49115-F7F5-4BBC-A41D-E4369E08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62A84-FA17-49D7-B6B9-77502499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09A8-5E4F-448B-8CFC-3F5212CE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DE85-46A3-496B-8C36-B7F328BEA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EC7F-519D-4F9D-AD18-259B7D246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B9B-9168-4462-B763-5B45C807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ED2E-524F-4986-8014-4E2FEC1AD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A466-F553-4FEF-934A-CA2408ABE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98B-0BB7-4F16-B43C-2ECA9769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246B-3165-43E1-80BA-DA28DC93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E6C2-38EC-4B26-BFD9-456C3AE2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D966E-98A1-47A9-BADB-84ED2EFC8C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736B-4227-4498-803F-9DABBF5868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038240"/>
            <a:ext cx="6248160" cy="2162160"/>
          </a:xfrm>
          <a:prstGeom prst="rect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00"/>
                </a:solidFill>
                <a:latin typeface="Arial Black"/>
              </a:rPr>
              <a:t>Pollination</a:t>
            </a:r>
            <a:br>
              <a:rPr sz="6600"/>
            </a:br>
            <a:r>
              <a:rPr b="0" lang="en-US" sz="6600" spc="-1" strike="noStrike">
                <a:solidFill>
                  <a:srgbClr val="003300"/>
                </a:solidFill>
                <a:latin typeface="Arial Black"/>
              </a:rPr>
              <a:t>Review</a:t>
            </a:r>
            <a:endParaRPr b="0" lang="en-US" sz="66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85" name="bd06412_" descr=""/>
          <p:cNvPicPr/>
          <p:nvPr/>
        </p:nvPicPr>
        <p:blipFill>
          <a:blip r:embed="rId1"/>
          <a:stretch/>
        </p:blipFill>
        <p:spPr>
          <a:xfrm>
            <a:off x="2590920" y="4343400"/>
            <a:ext cx="1574640" cy="198108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31320"/>
            <a:ext cx="7391160" cy="2406600"/>
          </a:xfrm>
          <a:prstGeom prst="rect">
            <a:avLst/>
          </a:prstGeom>
          <a:solidFill>
            <a:srgbClr val="ff9966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the female part of the flower which ripens into a fruit containing seeds if fertilization has occurred? </a:t>
            </a:r>
            <a:br>
              <a:rPr sz="2800"/>
            </a:b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240" y="26668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91120" y="2666880"/>
            <a:ext cx="3581280" cy="3810240"/>
          </a:xfrm>
          <a:prstGeom prst="rect">
            <a:avLst/>
          </a:prstGeom>
          <a:solidFill>
            <a:srgbClr val="99ff66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na01764_" descr=""/>
          <p:cNvPicPr/>
          <p:nvPr/>
        </p:nvPicPr>
        <p:blipFill>
          <a:blip r:embed="rId1"/>
          <a:stretch/>
        </p:blipFill>
        <p:spPr>
          <a:xfrm>
            <a:off x="228600" y="25146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240" y="12240"/>
            <a:ext cx="7467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part of the flower protects it when it is still a bu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2895120"/>
            <a:ext cx="2971800" cy="266724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e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00cc99"/>
          </a:solidFill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na01118_" descr=""/>
          <p:cNvPicPr/>
          <p:nvPr/>
        </p:nvPicPr>
        <p:blipFill>
          <a:blip r:embed="rId1"/>
          <a:stretch/>
        </p:blipFill>
        <p:spPr>
          <a:xfrm>
            <a:off x="4724280" y="2743200"/>
            <a:ext cx="2283120" cy="25146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 flipV="1">
            <a:off x="4572000" y="3885840"/>
            <a:ext cx="53352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6552720" y="4038480"/>
            <a:ext cx="68580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943600" y="2743200"/>
            <a:ext cx="45720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7467480" cy="1857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the leaf-like often showy part of the flower which helps capture the attention of a pollinator (bee) called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3695760" cy="4114800"/>
          </a:xfrm>
          <a:prstGeom prst="rect">
            <a:avLst/>
          </a:prstGeom>
          <a:solidFill>
            <a:srgbClr val="ffcc66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Pet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190760" y="2590920"/>
            <a:ext cx="34290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bd08053_" descr=""/>
          <p:cNvPicPr/>
          <p:nvPr/>
        </p:nvPicPr>
        <p:blipFill>
          <a:blip r:embed="rId1"/>
          <a:stretch/>
        </p:blipFill>
        <p:spPr>
          <a:xfrm>
            <a:off x="4419720" y="2666880"/>
            <a:ext cx="2892240" cy="3429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240" y="321840"/>
            <a:ext cx="7467480" cy="1430280"/>
          </a:xfrm>
          <a:prstGeom prst="rect">
            <a:avLst/>
          </a:prstGeom>
          <a:solidFill>
            <a:srgbClr val="f98715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The length of time from beginning of development to death of the plant is called its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895480" cy="4114800"/>
          </a:xfrm>
          <a:prstGeom prst="rect">
            <a:avLst/>
          </a:prstGeom>
          <a:solidFill>
            <a:srgbClr val="dddddd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fe sp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may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ure pl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h02919j" descr=""/>
          <p:cNvPicPr/>
          <p:nvPr/>
        </p:nvPicPr>
        <p:blipFill>
          <a:blip r:embed="rId1"/>
          <a:stretch/>
        </p:blipFill>
        <p:spPr>
          <a:xfrm>
            <a:off x="3352680" y="1981080"/>
            <a:ext cx="4419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cd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240" y="321840"/>
            <a:ext cx="7467480" cy="1430280"/>
          </a:xfrm>
          <a:prstGeom prst="rect">
            <a:avLst/>
          </a:prstGeom>
          <a:solidFill>
            <a:srgbClr val="ffff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one of the three basic parts of an insect, devoted mainly to? senses, brain, and eating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3276720"/>
            <a:ext cx="3695760" cy="2133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bd05607_" descr=""/>
          <p:cNvPicPr/>
          <p:nvPr/>
        </p:nvPicPr>
        <p:blipFill>
          <a:blip r:embed="rId1"/>
          <a:stretch/>
        </p:blipFill>
        <p:spPr>
          <a:xfrm>
            <a:off x="4191120" y="3048120"/>
            <a:ext cx="3124080" cy="291924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 flipH="1">
            <a:off x="5867280" y="2362320"/>
            <a:ext cx="1524240" cy="838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240" y="141120"/>
            <a:ext cx="7467480" cy="16113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at is the sequence of </a:t>
            </a: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stages</a:t>
            </a: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 of growth in the life of an organism called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3124080" cy="2895480"/>
          </a:xfrm>
          <a:prstGeom prst="rect">
            <a:avLst/>
          </a:prstGeom>
          <a:solidFill>
            <a:srgbClr val="00cc00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fe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114800" y="2285640"/>
            <a:ext cx="3581280" cy="3048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h01220j" descr=""/>
          <p:cNvPicPr/>
          <p:nvPr/>
        </p:nvPicPr>
        <p:blipFill>
          <a:blip r:embed="rId1"/>
          <a:stretch/>
        </p:blipFill>
        <p:spPr>
          <a:xfrm>
            <a:off x="4114800" y="2286000"/>
            <a:ext cx="3581280" cy="3048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240" y="181080"/>
            <a:ext cx="7467480" cy="1797120"/>
          </a:xfrm>
          <a:prstGeom prst="rect">
            <a:avLst/>
          </a:prstGeom>
          <a:solidFill>
            <a:srgbClr val="ff6699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the young plant contained within a seed is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80520" y="3048120"/>
            <a:ext cx="3048120" cy="16761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 Embry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962520" y="2819160"/>
            <a:ext cx="3657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j0145151" descr=""/>
          <p:cNvPicPr/>
          <p:nvPr/>
        </p:nvPicPr>
        <p:blipFill>
          <a:blip r:embed="rId1"/>
          <a:stretch/>
        </p:blipFill>
        <p:spPr>
          <a:xfrm>
            <a:off x="3962520" y="2819520"/>
            <a:ext cx="3657600" cy="2414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"/>
          <p:cNvSpPr/>
          <p:nvPr/>
        </p:nvSpPr>
        <p:spPr>
          <a:xfrm>
            <a:off x="4267080" y="3124080"/>
            <a:ext cx="99072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240" y="485280"/>
            <a:ext cx="7467480" cy="1266840"/>
          </a:xfrm>
          <a:prstGeom prst="rect">
            <a:avLst/>
          </a:prstGeom>
          <a:solidFill>
            <a:srgbClr val="ecb2d9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A ripened pistil containing seeds is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2819160" cy="36576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23920" y="2819160"/>
            <a:ext cx="2629080" cy="1523880"/>
          </a:xfrm>
          <a:prstGeom prst="rect">
            <a:avLst/>
          </a:prstGeom>
          <a:solidFill>
            <a:srgbClr val="c5c5ff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ru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bd00082_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2718000" cy="35179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240" y="426960"/>
            <a:ext cx="7467480" cy="1325520"/>
          </a:xfrm>
          <a:prstGeom prst="rect">
            <a:avLst/>
          </a:prstGeom>
          <a:solidFill>
            <a:srgbClr val="ffcc66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at part of the flower produces (makes) pollen?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2286000" cy="2210040"/>
          </a:xfrm>
          <a:prstGeom prst="rect">
            <a:avLst/>
          </a:prstGeom>
          <a:solidFill>
            <a:srgbClr val="66ff66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114440" y="2514600"/>
            <a:ext cx="2971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na00909_" descr=""/>
          <p:cNvPicPr/>
          <p:nvPr/>
        </p:nvPicPr>
        <p:blipFill>
          <a:blip r:embed="rId1"/>
          <a:stretch/>
        </p:blipFill>
        <p:spPr>
          <a:xfrm>
            <a:off x="4114800" y="2514600"/>
            <a:ext cx="2949480" cy="327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 flipH="1">
            <a:off x="6324480" y="2819520"/>
            <a:ext cx="990720" cy="1676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240" y="731880"/>
            <a:ext cx="7467480" cy="18763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part of  the seed containing food for the embryo to use in its initial growth, and appears as its “first leaves” from the soil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3504960"/>
            <a:ext cx="3352680" cy="1600200"/>
          </a:xfrm>
          <a:prstGeom prst="rect">
            <a:avLst/>
          </a:prstGeom>
          <a:solidFill>
            <a:srgbClr val="33cccc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tyle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343400" y="2971440"/>
            <a:ext cx="3200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na02455_" descr=""/>
          <p:cNvPicPr/>
          <p:nvPr/>
        </p:nvPicPr>
        <p:blipFill>
          <a:blip r:embed="rId1"/>
          <a:stretch/>
        </p:blipFill>
        <p:spPr>
          <a:xfrm>
            <a:off x="4343400" y="2971800"/>
            <a:ext cx="330660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240" y="263520"/>
            <a:ext cx="7467480" cy="1488960"/>
          </a:xfrm>
          <a:prstGeom prst="rect">
            <a:avLst/>
          </a:prstGeom>
          <a:solidFill>
            <a:srgbClr val="ffbe5f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at are the two main plant group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3352680" cy="3733560"/>
          </a:xfrm>
          <a:prstGeom prst="rect">
            <a:avLst/>
          </a:prstGeom>
          <a:solidFill>
            <a:srgbClr val="e9c363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eds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901"/>
              </a:spcBef>
              <a:buClr>
                <a:srgbClr val="5f5f5f"/>
              </a:buClr>
              <a:buSzPct val="6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on-seed pla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bd08046_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2133720" cy="1960560"/>
          </a:xfrm>
          <a:prstGeom prst="rect">
            <a:avLst/>
          </a:prstGeom>
          <a:ln w="0">
            <a:noFill/>
          </a:ln>
        </p:spPr>
      </p:pic>
      <p:pic>
        <p:nvPicPr>
          <p:cNvPr id="89" name="na01636_" descr=""/>
          <p:cNvPicPr/>
          <p:nvPr/>
        </p:nvPicPr>
        <p:blipFill>
          <a:blip r:embed="rId2"/>
          <a:stretch/>
        </p:blipFill>
        <p:spPr>
          <a:xfrm>
            <a:off x="5334120" y="4572000"/>
            <a:ext cx="2133360" cy="1833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3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240" y="122400"/>
            <a:ext cx="7467480" cy="1630080"/>
          </a:xfrm>
          <a:prstGeom prst="rect">
            <a:avLst/>
          </a:prstGeom>
          <a:solidFill>
            <a:srgbClr val="87fafd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What is needed by a plant to be added to the soil for photosynthesis and growth?</a:t>
            </a:r>
            <a:endParaRPr b="0" lang="en-US" sz="32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520" y="3200040"/>
            <a:ext cx="2590920" cy="1523880"/>
          </a:xfrm>
          <a:prstGeom prst="rect">
            <a:avLst/>
          </a:prstGeom>
          <a:solidFill>
            <a:srgbClr val="87fafd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rtil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a1fbfd"/>
          </a:solidFill>
          <a:ln w="76320">
            <a:solidFill>
              <a:srgbClr val="0000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bd07095_" descr=""/>
          <p:cNvPicPr/>
          <p:nvPr/>
        </p:nvPicPr>
        <p:blipFill>
          <a:blip r:embed="rId1"/>
          <a:stretch/>
        </p:blipFill>
        <p:spPr>
          <a:xfrm>
            <a:off x="4038480" y="2743200"/>
            <a:ext cx="3730680" cy="2525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ac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560" y="247680"/>
            <a:ext cx="7467480" cy="1797120"/>
          </a:xfrm>
          <a:prstGeom prst="rect">
            <a:avLst/>
          </a:prstGeom>
          <a:solidFill>
            <a:srgbClr val="87fafd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Gathering fruit from the plants on which they grew is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440" y="3352320"/>
            <a:ext cx="2629080" cy="1600200"/>
          </a:xfrm>
          <a:prstGeom prst="rect">
            <a:avLst/>
          </a:prstGeom>
          <a:solidFill>
            <a:srgbClr val="87fafd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Harv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495320" y="3123720"/>
            <a:ext cx="3048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in01076_" descr=""/>
          <p:cNvPicPr/>
          <p:nvPr/>
        </p:nvPicPr>
        <p:blipFill>
          <a:blip r:embed="rId1"/>
          <a:stretch/>
        </p:blipFill>
        <p:spPr>
          <a:xfrm>
            <a:off x="4267080" y="3048120"/>
            <a:ext cx="3354480" cy="2165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240" y="321840"/>
            <a:ext cx="7467480" cy="1430280"/>
          </a:xfrm>
          <a:prstGeom prst="rect">
            <a:avLst/>
          </a:prstGeom>
          <a:solidFill>
            <a:srgbClr val="f8f8f8"/>
          </a:solidFill>
          <a:ln w="572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What is one of the basic parts of an insect, devoted mainly to digestion 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reproduction</a:t>
            </a:r>
            <a:r>
              <a:rPr b="0" lang="en-US" sz="2800" spc="-1" strike="noStrike">
                <a:solidFill>
                  <a:srgbClr val="003300"/>
                </a:solidFill>
                <a:latin typeface="Arial Black"/>
              </a:rPr>
              <a:t>?</a:t>
            </a:r>
            <a:endParaRPr b="0" lang="en-US" sz="28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560" y="2895480"/>
            <a:ext cx="3276360" cy="182880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bd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f8f8f8"/>
          </a:solidFill>
          <a:ln w="76320">
            <a:solidFill>
              <a:srgbClr val="00000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an04197_" descr=""/>
          <p:cNvPicPr/>
          <p:nvPr/>
        </p:nvPicPr>
        <p:blipFill>
          <a:blip r:embed="rId1"/>
          <a:stretch/>
        </p:blipFill>
        <p:spPr>
          <a:xfrm>
            <a:off x="4267080" y="2666880"/>
            <a:ext cx="3429000" cy="23464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>
            <a:off x="4343400" y="4647960"/>
            <a:ext cx="1447920" cy="990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28240" y="485280"/>
            <a:ext cx="7467480" cy="1266840"/>
          </a:xfrm>
          <a:prstGeom prst="rect">
            <a:avLst/>
          </a:prstGeom>
          <a:solidFill>
            <a:srgbClr val="66ff33"/>
          </a:solidFill>
          <a:ln w="76320">
            <a:solidFill>
              <a:srgbClr val="ffdf85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is the outer shell that protects the seed calle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3428640"/>
            <a:ext cx="3429000" cy="1600200"/>
          </a:xfrm>
          <a:prstGeom prst="rect">
            <a:avLst/>
          </a:prstGeom>
          <a:solidFill>
            <a:srgbClr val="66ff33"/>
          </a:solidFill>
          <a:ln w="76320">
            <a:solidFill>
              <a:srgbClr val="ffdf85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eed c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191120" y="2057400"/>
            <a:ext cx="3695760" cy="4114800"/>
          </a:xfrm>
          <a:prstGeom prst="rect">
            <a:avLst/>
          </a:prstGeom>
          <a:solidFill>
            <a:srgbClr val="66ff33"/>
          </a:solidFill>
          <a:ln w="76320">
            <a:solidFill>
              <a:srgbClr val="ffdf85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j0145360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235908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983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240" y="291600"/>
            <a:ext cx="7467480" cy="1460520"/>
          </a:xfrm>
          <a:prstGeom prst="rect">
            <a:avLst/>
          </a:prstGeom>
          <a:solidFill>
            <a:srgbClr val="c3c3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at part of the plant makes the seeds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3238560" cy="914400"/>
          </a:xfrm>
          <a:prstGeom prst="rect">
            <a:avLst/>
          </a:prstGeom>
          <a:solidFill>
            <a:srgbClr val="cdcdff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9191ff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na01016_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019240" cy="301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91120" y="2666880"/>
            <a:ext cx="175248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2743200"/>
            <a:ext cx="76176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Where in the plant is most of the food made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66760" y="1981080"/>
            <a:ext cx="3695760" cy="4114800"/>
          </a:xfrm>
          <a:prstGeom prst="rect">
            <a:avLst/>
          </a:prstGeom>
          <a:noFill/>
          <a:ln w="38160">
            <a:solidFill>
              <a:srgbClr val="333399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038480" y="19810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the lea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bd00041_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3200400" cy="3070080"/>
          </a:xfrm>
          <a:prstGeom prst="rect">
            <a:avLst/>
          </a:prstGeom>
          <a:ln w="0">
            <a:noFill/>
          </a:ln>
        </p:spPr>
      </p:pic>
      <p:pic>
        <p:nvPicPr>
          <p:cNvPr id="100" name="fd00938_" descr=""/>
          <p:cNvPicPr/>
          <p:nvPr/>
        </p:nvPicPr>
        <p:blipFill>
          <a:blip r:embed="rId2"/>
          <a:stretch/>
        </p:blipFill>
        <p:spPr>
          <a:xfrm>
            <a:off x="4343400" y="2743200"/>
            <a:ext cx="3309840" cy="292896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101" name=""/>
          <p:cNvSpPr/>
          <p:nvPr/>
        </p:nvSpPr>
        <p:spPr>
          <a:xfrm flipH="1">
            <a:off x="6552720" y="2057400"/>
            <a:ext cx="1143000" cy="10666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391520" y="1981080"/>
            <a:ext cx="380880" cy="838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445680"/>
            <a:ext cx="7467480" cy="1306440"/>
          </a:xfrm>
          <a:prstGeom prst="rect">
            <a:avLst/>
          </a:prstGeom>
          <a:solidFill>
            <a:srgbClr val="ffccff"/>
          </a:solidFill>
          <a:ln w="57240">
            <a:solidFill>
              <a:srgbClr val="ff66ff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 Black"/>
              </a:rPr>
              <a:t>Name four requirements plants needs in order to thrive.</a:t>
            </a: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ccccff"/>
          </a:solidFill>
          <a:ln w="57240">
            <a:solidFill>
              <a:srgbClr val="9999ff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076640" y="1981080"/>
            <a:ext cx="3695760" cy="4114800"/>
          </a:xfrm>
          <a:prstGeom prst="rect">
            <a:avLst/>
          </a:prstGeom>
          <a:solidFill>
            <a:srgbClr val="ffff99"/>
          </a:solidFill>
          <a:ln w="57240">
            <a:solidFill>
              <a:srgbClr val="ffff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tr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na01357_" descr=""/>
          <p:cNvPicPr/>
          <p:nvPr/>
        </p:nvPicPr>
        <p:blipFill>
          <a:blip r:embed="rId1"/>
          <a:stretch/>
        </p:blipFill>
        <p:spPr>
          <a:xfrm>
            <a:off x="533520" y="3011400"/>
            <a:ext cx="3132000" cy="2303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17160"/>
            <a:ext cx="7467480" cy="1816200"/>
          </a:xfrm>
          <a:prstGeom prst="rect">
            <a:avLst/>
          </a:prstGeom>
          <a:solidFill>
            <a:srgbClr val="ffbbed"/>
          </a:solidFill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part of the plant that supports the leaves, flowers or cones.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2742840"/>
            <a:ext cx="2895480" cy="3352680"/>
          </a:xfrm>
          <a:prstGeom prst="rect">
            <a:avLst/>
          </a:prstGeom>
          <a:solidFill>
            <a:srgbClr val="ffa3e7"/>
          </a:solidFill>
          <a:ln w="76320">
            <a:solidFill>
              <a:srgbClr val="800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962520" y="2742840"/>
            <a:ext cx="3695760" cy="3809880"/>
          </a:xfrm>
          <a:prstGeom prst="rect">
            <a:avLst/>
          </a:prstGeom>
          <a:solidFill>
            <a:srgbClr val="eeaff3"/>
          </a:solidFill>
          <a:ln w="76320">
            <a:solidFill>
              <a:srgbClr val="800080"/>
            </a:solidFill>
            <a:miter/>
          </a:ln>
        </p:spPr>
        <p:txBody>
          <a:bodyPr lIns="128160" rIns="128160" tIns="84960" bIns="84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38480" y="2819520"/>
            <a:ext cx="3581640" cy="3655800"/>
          </a:xfrm>
          <a:custGeom>
            <a:avLst/>
            <a:gdLst/>
            <a:ahLst/>
            <a:rect l="l" t="t" r="r" b="b"/>
            <a:pathLst>
              <a:path w="2256" h="2303">
                <a:moveTo>
                  <a:pt x="1290" y="257"/>
                </a:moveTo>
                <a:lnTo>
                  <a:pt x="1286" y="270"/>
                </a:lnTo>
                <a:lnTo>
                  <a:pt x="1283" y="282"/>
                </a:lnTo>
                <a:lnTo>
                  <a:pt x="1279" y="293"/>
                </a:lnTo>
                <a:lnTo>
                  <a:pt x="1274" y="305"/>
                </a:lnTo>
                <a:lnTo>
                  <a:pt x="1270" y="316"/>
                </a:lnTo>
                <a:lnTo>
                  <a:pt x="1264" y="327"/>
                </a:lnTo>
                <a:lnTo>
                  <a:pt x="1258" y="338"/>
                </a:lnTo>
                <a:lnTo>
                  <a:pt x="1253" y="349"/>
                </a:lnTo>
                <a:lnTo>
                  <a:pt x="1253" y="352"/>
                </a:lnTo>
                <a:lnTo>
                  <a:pt x="1253" y="354"/>
                </a:lnTo>
                <a:lnTo>
                  <a:pt x="1253" y="356"/>
                </a:lnTo>
                <a:lnTo>
                  <a:pt x="1255" y="358"/>
                </a:lnTo>
                <a:lnTo>
                  <a:pt x="1266" y="351"/>
                </a:lnTo>
                <a:lnTo>
                  <a:pt x="1279" y="343"/>
                </a:lnTo>
                <a:lnTo>
                  <a:pt x="1291" y="334"/>
                </a:lnTo>
                <a:lnTo>
                  <a:pt x="1302" y="325"/>
                </a:lnTo>
                <a:lnTo>
                  <a:pt x="1313" y="315"/>
                </a:lnTo>
                <a:lnTo>
                  <a:pt x="1323" y="304"/>
                </a:lnTo>
                <a:lnTo>
                  <a:pt x="1330" y="293"/>
                </a:lnTo>
                <a:lnTo>
                  <a:pt x="1336" y="280"/>
                </a:lnTo>
                <a:lnTo>
                  <a:pt x="1336" y="274"/>
                </a:lnTo>
                <a:lnTo>
                  <a:pt x="1336" y="268"/>
                </a:lnTo>
                <a:lnTo>
                  <a:pt x="1333" y="264"/>
                </a:lnTo>
                <a:lnTo>
                  <a:pt x="1331" y="260"/>
                </a:lnTo>
                <a:lnTo>
                  <a:pt x="1339" y="268"/>
                </a:lnTo>
                <a:lnTo>
                  <a:pt x="1346" y="278"/>
                </a:lnTo>
                <a:lnTo>
                  <a:pt x="1350" y="290"/>
                </a:lnTo>
                <a:lnTo>
                  <a:pt x="1355" y="301"/>
                </a:lnTo>
                <a:lnTo>
                  <a:pt x="1358" y="314"/>
                </a:lnTo>
                <a:lnTo>
                  <a:pt x="1360" y="326"/>
                </a:lnTo>
                <a:lnTo>
                  <a:pt x="1363" y="339"/>
                </a:lnTo>
                <a:lnTo>
                  <a:pt x="1365" y="352"/>
                </a:lnTo>
                <a:lnTo>
                  <a:pt x="1378" y="342"/>
                </a:lnTo>
                <a:lnTo>
                  <a:pt x="1391" y="332"/>
                </a:lnTo>
                <a:lnTo>
                  <a:pt x="1403" y="321"/>
                </a:lnTo>
                <a:lnTo>
                  <a:pt x="1416" y="309"/>
                </a:lnTo>
                <a:lnTo>
                  <a:pt x="1429" y="301"/>
                </a:lnTo>
                <a:lnTo>
                  <a:pt x="1442" y="292"/>
                </a:lnTo>
                <a:lnTo>
                  <a:pt x="1457" y="284"/>
                </a:lnTo>
                <a:lnTo>
                  <a:pt x="1471" y="278"/>
                </a:lnTo>
                <a:lnTo>
                  <a:pt x="1482" y="274"/>
                </a:lnTo>
                <a:lnTo>
                  <a:pt x="1495" y="271"/>
                </a:lnTo>
                <a:lnTo>
                  <a:pt x="1507" y="267"/>
                </a:lnTo>
                <a:lnTo>
                  <a:pt x="1518" y="264"/>
                </a:lnTo>
                <a:lnTo>
                  <a:pt x="1530" y="261"/>
                </a:lnTo>
                <a:lnTo>
                  <a:pt x="1542" y="256"/>
                </a:lnTo>
                <a:lnTo>
                  <a:pt x="1553" y="252"/>
                </a:lnTo>
                <a:lnTo>
                  <a:pt x="1564" y="246"/>
                </a:lnTo>
                <a:lnTo>
                  <a:pt x="1576" y="244"/>
                </a:lnTo>
                <a:lnTo>
                  <a:pt x="1590" y="241"/>
                </a:lnTo>
                <a:lnTo>
                  <a:pt x="1602" y="237"/>
                </a:lnTo>
                <a:lnTo>
                  <a:pt x="1614" y="233"/>
                </a:lnTo>
                <a:lnTo>
                  <a:pt x="1626" y="230"/>
                </a:lnTo>
                <a:lnTo>
                  <a:pt x="1638" y="224"/>
                </a:lnTo>
                <a:lnTo>
                  <a:pt x="1650" y="220"/>
                </a:lnTo>
                <a:lnTo>
                  <a:pt x="1661" y="214"/>
                </a:lnTo>
                <a:lnTo>
                  <a:pt x="1673" y="209"/>
                </a:lnTo>
                <a:lnTo>
                  <a:pt x="1684" y="203"/>
                </a:lnTo>
                <a:lnTo>
                  <a:pt x="1695" y="197"/>
                </a:lnTo>
                <a:lnTo>
                  <a:pt x="1706" y="191"/>
                </a:lnTo>
                <a:lnTo>
                  <a:pt x="1717" y="184"/>
                </a:lnTo>
                <a:lnTo>
                  <a:pt x="1728" y="176"/>
                </a:lnTo>
                <a:lnTo>
                  <a:pt x="1739" y="170"/>
                </a:lnTo>
                <a:lnTo>
                  <a:pt x="1749" y="162"/>
                </a:lnTo>
                <a:lnTo>
                  <a:pt x="1748" y="170"/>
                </a:lnTo>
                <a:lnTo>
                  <a:pt x="1744" y="177"/>
                </a:lnTo>
                <a:lnTo>
                  <a:pt x="1740" y="184"/>
                </a:lnTo>
                <a:lnTo>
                  <a:pt x="1734" y="191"/>
                </a:lnTo>
                <a:lnTo>
                  <a:pt x="1728" y="196"/>
                </a:lnTo>
                <a:lnTo>
                  <a:pt x="1720" y="202"/>
                </a:lnTo>
                <a:lnTo>
                  <a:pt x="1713" y="206"/>
                </a:lnTo>
                <a:lnTo>
                  <a:pt x="1705" y="211"/>
                </a:lnTo>
                <a:lnTo>
                  <a:pt x="1693" y="216"/>
                </a:lnTo>
                <a:lnTo>
                  <a:pt x="1681" y="221"/>
                </a:lnTo>
                <a:lnTo>
                  <a:pt x="1668" y="225"/>
                </a:lnTo>
                <a:lnTo>
                  <a:pt x="1656" y="231"/>
                </a:lnTo>
                <a:lnTo>
                  <a:pt x="1644" y="235"/>
                </a:lnTo>
                <a:lnTo>
                  <a:pt x="1631" y="241"/>
                </a:lnTo>
                <a:lnTo>
                  <a:pt x="1619" y="246"/>
                </a:lnTo>
                <a:lnTo>
                  <a:pt x="1607" y="251"/>
                </a:lnTo>
                <a:lnTo>
                  <a:pt x="1594" y="257"/>
                </a:lnTo>
                <a:lnTo>
                  <a:pt x="1583" y="263"/>
                </a:lnTo>
                <a:lnTo>
                  <a:pt x="1572" y="270"/>
                </a:lnTo>
                <a:lnTo>
                  <a:pt x="1561" y="277"/>
                </a:lnTo>
                <a:lnTo>
                  <a:pt x="1550" y="285"/>
                </a:lnTo>
                <a:lnTo>
                  <a:pt x="1539" y="293"/>
                </a:lnTo>
                <a:lnTo>
                  <a:pt x="1529" y="302"/>
                </a:lnTo>
                <a:lnTo>
                  <a:pt x="1519" y="312"/>
                </a:lnTo>
                <a:lnTo>
                  <a:pt x="1501" y="334"/>
                </a:lnTo>
                <a:lnTo>
                  <a:pt x="1483" y="357"/>
                </a:lnTo>
                <a:lnTo>
                  <a:pt x="1464" y="380"/>
                </a:lnTo>
                <a:lnTo>
                  <a:pt x="1445" y="403"/>
                </a:lnTo>
                <a:lnTo>
                  <a:pt x="1424" y="425"/>
                </a:lnTo>
                <a:lnTo>
                  <a:pt x="1403" y="445"/>
                </a:lnTo>
                <a:lnTo>
                  <a:pt x="1379" y="463"/>
                </a:lnTo>
                <a:lnTo>
                  <a:pt x="1354" y="478"/>
                </a:lnTo>
                <a:lnTo>
                  <a:pt x="1361" y="486"/>
                </a:lnTo>
                <a:lnTo>
                  <a:pt x="1369" y="494"/>
                </a:lnTo>
                <a:lnTo>
                  <a:pt x="1377" y="499"/>
                </a:lnTo>
                <a:lnTo>
                  <a:pt x="1387" y="504"/>
                </a:lnTo>
                <a:lnTo>
                  <a:pt x="1396" y="507"/>
                </a:lnTo>
                <a:lnTo>
                  <a:pt x="1406" y="509"/>
                </a:lnTo>
                <a:lnTo>
                  <a:pt x="1416" y="511"/>
                </a:lnTo>
                <a:lnTo>
                  <a:pt x="1427" y="511"/>
                </a:lnTo>
                <a:lnTo>
                  <a:pt x="1414" y="516"/>
                </a:lnTo>
                <a:lnTo>
                  <a:pt x="1401" y="520"/>
                </a:lnTo>
                <a:lnTo>
                  <a:pt x="1388" y="527"/>
                </a:lnTo>
                <a:lnTo>
                  <a:pt x="1375" y="532"/>
                </a:lnTo>
                <a:lnTo>
                  <a:pt x="1363" y="538"/>
                </a:lnTo>
                <a:lnTo>
                  <a:pt x="1349" y="541"/>
                </a:lnTo>
                <a:lnTo>
                  <a:pt x="1335" y="544"/>
                </a:lnTo>
                <a:lnTo>
                  <a:pt x="1319" y="544"/>
                </a:lnTo>
                <a:lnTo>
                  <a:pt x="1300" y="541"/>
                </a:lnTo>
                <a:lnTo>
                  <a:pt x="1285" y="546"/>
                </a:lnTo>
                <a:lnTo>
                  <a:pt x="1273" y="555"/>
                </a:lnTo>
                <a:lnTo>
                  <a:pt x="1263" y="567"/>
                </a:lnTo>
                <a:lnTo>
                  <a:pt x="1254" y="581"/>
                </a:lnTo>
                <a:lnTo>
                  <a:pt x="1246" y="597"/>
                </a:lnTo>
                <a:lnTo>
                  <a:pt x="1237" y="610"/>
                </a:lnTo>
                <a:lnTo>
                  <a:pt x="1226" y="621"/>
                </a:lnTo>
                <a:lnTo>
                  <a:pt x="1236" y="617"/>
                </a:lnTo>
                <a:lnTo>
                  <a:pt x="1246" y="612"/>
                </a:lnTo>
                <a:lnTo>
                  <a:pt x="1256" y="607"/>
                </a:lnTo>
                <a:lnTo>
                  <a:pt x="1267" y="600"/>
                </a:lnTo>
                <a:lnTo>
                  <a:pt x="1277" y="595"/>
                </a:lnTo>
                <a:lnTo>
                  <a:pt x="1288" y="589"/>
                </a:lnTo>
                <a:lnTo>
                  <a:pt x="1298" y="583"/>
                </a:lnTo>
                <a:lnTo>
                  <a:pt x="1308" y="579"/>
                </a:lnTo>
                <a:lnTo>
                  <a:pt x="1328" y="570"/>
                </a:lnTo>
                <a:lnTo>
                  <a:pt x="1349" y="564"/>
                </a:lnTo>
                <a:lnTo>
                  <a:pt x="1369" y="559"/>
                </a:lnTo>
                <a:lnTo>
                  <a:pt x="1392" y="556"/>
                </a:lnTo>
                <a:lnTo>
                  <a:pt x="1413" y="555"/>
                </a:lnTo>
                <a:lnTo>
                  <a:pt x="1435" y="555"/>
                </a:lnTo>
                <a:lnTo>
                  <a:pt x="1457" y="556"/>
                </a:lnTo>
                <a:lnTo>
                  <a:pt x="1479" y="558"/>
                </a:lnTo>
                <a:lnTo>
                  <a:pt x="1501" y="561"/>
                </a:lnTo>
                <a:lnTo>
                  <a:pt x="1524" y="565"/>
                </a:lnTo>
                <a:lnTo>
                  <a:pt x="1545" y="569"/>
                </a:lnTo>
                <a:lnTo>
                  <a:pt x="1566" y="575"/>
                </a:lnTo>
                <a:lnTo>
                  <a:pt x="1588" y="579"/>
                </a:lnTo>
                <a:lnTo>
                  <a:pt x="1609" y="585"/>
                </a:lnTo>
                <a:lnTo>
                  <a:pt x="1629" y="590"/>
                </a:lnTo>
                <a:lnTo>
                  <a:pt x="1649" y="596"/>
                </a:lnTo>
                <a:lnTo>
                  <a:pt x="1654" y="597"/>
                </a:lnTo>
                <a:lnTo>
                  <a:pt x="1657" y="599"/>
                </a:lnTo>
                <a:lnTo>
                  <a:pt x="1660" y="602"/>
                </a:lnTo>
                <a:lnTo>
                  <a:pt x="1665" y="605"/>
                </a:lnTo>
                <a:lnTo>
                  <a:pt x="1648" y="600"/>
                </a:lnTo>
                <a:lnTo>
                  <a:pt x="1631" y="598"/>
                </a:lnTo>
                <a:lnTo>
                  <a:pt x="1614" y="597"/>
                </a:lnTo>
                <a:lnTo>
                  <a:pt x="1599" y="596"/>
                </a:lnTo>
                <a:lnTo>
                  <a:pt x="1582" y="597"/>
                </a:lnTo>
                <a:lnTo>
                  <a:pt x="1566" y="598"/>
                </a:lnTo>
                <a:lnTo>
                  <a:pt x="1551" y="601"/>
                </a:lnTo>
                <a:lnTo>
                  <a:pt x="1535" y="605"/>
                </a:lnTo>
                <a:lnTo>
                  <a:pt x="1519" y="609"/>
                </a:lnTo>
                <a:lnTo>
                  <a:pt x="1504" y="613"/>
                </a:lnTo>
                <a:lnTo>
                  <a:pt x="1489" y="619"/>
                </a:lnTo>
                <a:lnTo>
                  <a:pt x="1473" y="625"/>
                </a:lnTo>
                <a:lnTo>
                  <a:pt x="1459" y="630"/>
                </a:lnTo>
                <a:lnTo>
                  <a:pt x="1444" y="637"/>
                </a:lnTo>
                <a:lnTo>
                  <a:pt x="1430" y="643"/>
                </a:lnTo>
                <a:lnTo>
                  <a:pt x="1416" y="650"/>
                </a:lnTo>
                <a:lnTo>
                  <a:pt x="1403" y="653"/>
                </a:lnTo>
                <a:lnTo>
                  <a:pt x="1388" y="656"/>
                </a:lnTo>
                <a:lnTo>
                  <a:pt x="1375" y="657"/>
                </a:lnTo>
                <a:lnTo>
                  <a:pt x="1360" y="657"/>
                </a:lnTo>
                <a:lnTo>
                  <a:pt x="1347" y="657"/>
                </a:lnTo>
                <a:lnTo>
                  <a:pt x="1332" y="656"/>
                </a:lnTo>
                <a:lnTo>
                  <a:pt x="1319" y="653"/>
                </a:lnTo>
                <a:lnTo>
                  <a:pt x="1305" y="652"/>
                </a:lnTo>
                <a:lnTo>
                  <a:pt x="1291" y="651"/>
                </a:lnTo>
                <a:lnTo>
                  <a:pt x="1277" y="650"/>
                </a:lnTo>
                <a:lnTo>
                  <a:pt x="1264" y="650"/>
                </a:lnTo>
                <a:lnTo>
                  <a:pt x="1251" y="651"/>
                </a:lnTo>
                <a:lnTo>
                  <a:pt x="1237" y="654"/>
                </a:lnTo>
                <a:lnTo>
                  <a:pt x="1225" y="658"/>
                </a:lnTo>
                <a:lnTo>
                  <a:pt x="1213" y="663"/>
                </a:lnTo>
                <a:lnTo>
                  <a:pt x="1200" y="671"/>
                </a:lnTo>
                <a:lnTo>
                  <a:pt x="1187" y="678"/>
                </a:lnTo>
                <a:lnTo>
                  <a:pt x="1174" y="688"/>
                </a:lnTo>
                <a:lnTo>
                  <a:pt x="1164" y="698"/>
                </a:lnTo>
                <a:lnTo>
                  <a:pt x="1155" y="709"/>
                </a:lnTo>
                <a:lnTo>
                  <a:pt x="1148" y="722"/>
                </a:lnTo>
                <a:lnTo>
                  <a:pt x="1142" y="735"/>
                </a:lnTo>
                <a:lnTo>
                  <a:pt x="1138" y="749"/>
                </a:lnTo>
                <a:lnTo>
                  <a:pt x="1135" y="763"/>
                </a:lnTo>
                <a:lnTo>
                  <a:pt x="1136" y="820"/>
                </a:lnTo>
                <a:lnTo>
                  <a:pt x="1142" y="875"/>
                </a:lnTo>
                <a:lnTo>
                  <a:pt x="1145" y="931"/>
                </a:lnTo>
                <a:lnTo>
                  <a:pt x="1142" y="987"/>
                </a:lnTo>
                <a:lnTo>
                  <a:pt x="1138" y="1042"/>
                </a:lnTo>
                <a:lnTo>
                  <a:pt x="1138" y="1095"/>
                </a:lnTo>
                <a:lnTo>
                  <a:pt x="1141" y="1148"/>
                </a:lnTo>
                <a:lnTo>
                  <a:pt x="1148" y="1201"/>
                </a:lnTo>
                <a:lnTo>
                  <a:pt x="1154" y="1254"/>
                </a:lnTo>
                <a:lnTo>
                  <a:pt x="1161" y="1307"/>
                </a:lnTo>
                <a:lnTo>
                  <a:pt x="1166" y="1360"/>
                </a:lnTo>
                <a:lnTo>
                  <a:pt x="1169" y="1413"/>
                </a:lnTo>
                <a:lnTo>
                  <a:pt x="1172" y="1460"/>
                </a:lnTo>
                <a:lnTo>
                  <a:pt x="1178" y="1506"/>
                </a:lnTo>
                <a:lnTo>
                  <a:pt x="1185" y="1553"/>
                </a:lnTo>
                <a:lnTo>
                  <a:pt x="1190" y="1598"/>
                </a:lnTo>
                <a:lnTo>
                  <a:pt x="1195" y="1645"/>
                </a:lnTo>
                <a:lnTo>
                  <a:pt x="1197" y="1692"/>
                </a:lnTo>
                <a:lnTo>
                  <a:pt x="1197" y="1739"/>
                </a:lnTo>
                <a:lnTo>
                  <a:pt x="1191" y="1787"/>
                </a:lnTo>
                <a:lnTo>
                  <a:pt x="1174" y="1916"/>
                </a:lnTo>
                <a:lnTo>
                  <a:pt x="1183" y="1905"/>
                </a:lnTo>
                <a:lnTo>
                  <a:pt x="1192" y="1894"/>
                </a:lnTo>
                <a:lnTo>
                  <a:pt x="1201" y="1881"/>
                </a:lnTo>
                <a:lnTo>
                  <a:pt x="1209" y="1868"/>
                </a:lnTo>
                <a:lnTo>
                  <a:pt x="1217" y="1856"/>
                </a:lnTo>
                <a:lnTo>
                  <a:pt x="1225" y="1843"/>
                </a:lnTo>
                <a:lnTo>
                  <a:pt x="1233" y="1829"/>
                </a:lnTo>
                <a:lnTo>
                  <a:pt x="1241" y="1817"/>
                </a:lnTo>
                <a:lnTo>
                  <a:pt x="1252" y="1797"/>
                </a:lnTo>
                <a:lnTo>
                  <a:pt x="1262" y="1776"/>
                </a:lnTo>
                <a:lnTo>
                  <a:pt x="1270" y="1755"/>
                </a:lnTo>
                <a:lnTo>
                  <a:pt x="1277" y="1733"/>
                </a:lnTo>
                <a:lnTo>
                  <a:pt x="1284" y="1711"/>
                </a:lnTo>
                <a:lnTo>
                  <a:pt x="1290" y="1688"/>
                </a:lnTo>
                <a:lnTo>
                  <a:pt x="1295" y="1666"/>
                </a:lnTo>
                <a:lnTo>
                  <a:pt x="1300" y="1644"/>
                </a:lnTo>
                <a:lnTo>
                  <a:pt x="1291" y="1645"/>
                </a:lnTo>
                <a:lnTo>
                  <a:pt x="1281" y="1646"/>
                </a:lnTo>
                <a:lnTo>
                  <a:pt x="1270" y="1647"/>
                </a:lnTo>
                <a:lnTo>
                  <a:pt x="1260" y="1647"/>
                </a:lnTo>
                <a:lnTo>
                  <a:pt x="1248" y="1647"/>
                </a:lnTo>
                <a:lnTo>
                  <a:pt x="1238" y="1646"/>
                </a:lnTo>
                <a:lnTo>
                  <a:pt x="1228" y="1645"/>
                </a:lnTo>
                <a:lnTo>
                  <a:pt x="1218" y="1643"/>
                </a:lnTo>
                <a:lnTo>
                  <a:pt x="1223" y="1633"/>
                </a:lnTo>
                <a:lnTo>
                  <a:pt x="1226" y="1623"/>
                </a:lnTo>
                <a:lnTo>
                  <a:pt x="1230" y="1613"/>
                </a:lnTo>
                <a:lnTo>
                  <a:pt x="1234" y="1603"/>
                </a:lnTo>
                <a:lnTo>
                  <a:pt x="1238" y="1593"/>
                </a:lnTo>
                <a:lnTo>
                  <a:pt x="1244" y="1583"/>
                </a:lnTo>
                <a:lnTo>
                  <a:pt x="1251" y="1574"/>
                </a:lnTo>
                <a:lnTo>
                  <a:pt x="1260" y="1565"/>
                </a:lnTo>
                <a:lnTo>
                  <a:pt x="1265" y="1561"/>
                </a:lnTo>
                <a:lnTo>
                  <a:pt x="1271" y="1556"/>
                </a:lnTo>
                <a:lnTo>
                  <a:pt x="1277" y="1553"/>
                </a:lnTo>
                <a:lnTo>
                  <a:pt x="1284" y="1550"/>
                </a:lnTo>
                <a:lnTo>
                  <a:pt x="1290" y="1547"/>
                </a:lnTo>
                <a:lnTo>
                  <a:pt x="1297" y="1544"/>
                </a:lnTo>
                <a:lnTo>
                  <a:pt x="1303" y="1542"/>
                </a:lnTo>
                <a:lnTo>
                  <a:pt x="1309" y="1539"/>
                </a:lnTo>
                <a:lnTo>
                  <a:pt x="1295" y="1513"/>
                </a:lnTo>
                <a:lnTo>
                  <a:pt x="1290" y="1485"/>
                </a:lnTo>
                <a:lnTo>
                  <a:pt x="1288" y="1455"/>
                </a:lnTo>
                <a:lnTo>
                  <a:pt x="1285" y="1425"/>
                </a:lnTo>
                <a:lnTo>
                  <a:pt x="1290" y="1428"/>
                </a:lnTo>
                <a:lnTo>
                  <a:pt x="1292" y="1431"/>
                </a:lnTo>
                <a:lnTo>
                  <a:pt x="1293" y="1435"/>
                </a:lnTo>
                <a:lnTo>
                  <a:pt x="1297" y="1439"/>
                </a:lnTo>
                <a:lnTo>
                  <a:pt x="1305" y="1447"/>
                </a:lnTo>
                <a:lnTo>
                  <a:pt x="1316" y="1454"/>
                </a:lnTo>
                <a:lnTo>
                  <a:pt x="1326" y="1461"/>
                </a:lnTo>
                <a:lnTo>
                  <a:pt x="1335" y="1468"/>
                </a:lnTo>
                <a:lnTo>
                  <a:pt x="1345" y="1474"/>
                </a:lnTo>
                <a:lnTo>
                  <a:pt x="1352" y="1482"/>
                </a:lnTo>
                <a:lnTo>
                  <a:pt x="1361" y="1491"/>
                </a:lnTo>
                <a:lnTo>
                  <a:pt x="1368" y="1501"/>
                </a:lnTo>
                <a:lnTo>
                  <a:pt x="1379" y="1491"/>
                </a:lnTo>
                <a:lnTo>
                  <a:pt x="1393" y="1484"/>
                </a:lnTo>
                <a:lnTo>
                  <a:pt x="1407" y="1480"/>
                </a:lnTo>
                <a:lnTo>
                  <a:pt x="1423" y="1478"/>
                </a:lnTo>
                <a:lnTo>
                  <a:pt x="1439" y="1475"/>
                </a:lnTo>
                <a:lnTo>
                  <a:pt x="1453" y="1471"/>
                </a:lnTo>
                <a:lnTo>
                  <a:pt x="1467" y="1464"/>
                </a:lnTo>
                <a:lnTo>
                  <a:pt x="1479" y="1454"/>
                </a:lnTo>
                <a:lnTo>
                  <a:pt x="1476" y="1462"/>
                </a:lnTo>
                <a:lnTo>
                  <a:pt x="1470" y="1470"/>
                </a:lnTo>
                <a:lnTo>
                  <a:pt x="1463" y="1476"/>
                </a:lnTo>
                <a:lnTo>
                  <a:pt x="1460" y="1484"/>
                </a:lnTo>
                <a:lnTo>
                  <a:pt x="1458" y="1498"/>
                </a:lnTo>
                <a:lnTo>
                  <a:pt x="1454" y="1512"/>
                </a:lnTo>
                <a:lnTo>
                  <a:pt x="1450" y="1525"/>
                </a:lnTo>
                <a:lnTo>
                  <a:pt x="1443" y="1537"/>
                </a:lnTo>
                <a:lnTo>
                  <a:pt x="1436" y="1550"/>
                </a:lnTo>
                <a:lnTo>
                  <a:pt x="1427" y="1560"/>
                </a:lnTo>
                <a:lnTo>
                  <a:pt x="1416" y="1569"/>
                </a:lnTo>
                <a:lnTo>
                  <a:pt x="1403" y="1576"/>
                </a:lnTo>
                <a:lnTo>
                  <a:pt x="1413" y="1592"/>
                </a:lnTo>
                <a:lnTo>
                  <a:pt x="1420" y="1610"/>
                </a:lnTo>
                <a:lnTo>
                  <a:pt x="1422" y="1628"/>
                </a:lnTo>
                <a:lnTo>
                  <a:pt x="1420" y="1647"/>
                </a:lnTo>
                <a:lnTo>
                  <a:pt x="1416" y="1655"/>
                </a:lnTo>
                <a:lnTo>
                  <a:pt x="1413" y="1663"/>
                </a:lnTo>
                <a:lnTo>
                  <a:pt x="1407" y="1671"/>
                </a:lnTo>
                <a:lnTo>
                  <a:pt x="1403" y="1678"/>
                </a:lnTo>
                <a:lnTo>
                  <a:pt x="1396" y="1685"/>
                </a:lnTo>
                <a:lnTo>
                  <a:pt x="1389" y="1692"/>
                </a:lnTo>
                <a:lnTo>
                  <a:pt x="1383" y="1697"/>
                </a:lnTo>
                <a:lnTo>
                  <a:pt x="1375" y="1703"/>
                </a:lnTo>
                <a:lnTo>
                  <a:pt x="1378" y="1687"/>
                </a:lnTo>
                <a:lnTo>
                  <a:pt x="1377" y="1672"/>
                </a:lnTo>
                <a:lnTo>
                  <a:pt x="1372" y="1657"/>
                </a:lnTo>
                <a:lnTo>
                  <a:pt x="1360" y="1646"/>
                </a:lnTo>
                <a:lnTo>
                  <a:pt x="1338" y="1634"/>
                </a:lnTo>
                <a:lnTo>
                  <a:pt x="1331" y="1647"/>
                </a:lnTo>
                <a:lnTo>
                  <a:pt x="1324" y="1662"/>
                </a:lnTo>
                <a:lnTo>
                  <a:pt x="1320" y="1677"/>
                </a:lnTo>
                <a:lnTo>
                  <a:pt x="1316" y="1693"/>
                </a:lnTo>
                <a:lnTo>
                  <a:pt x="1312" y="1708"/>
                </a:lnTo>
                <a:lnTo>
                  <a:pt x="1308" y="1724"/>
                </a:lnTo>
                <a:lnTo>
                  <a:pt x="1303" y="1739"/>
                </a:lnTo>
                <a:lnTo>
                  <a:pt x="1299" y="1755"/>
                </a:lnTo>
                <a:lnTo>
                  <a:pt x="1291" y="1776"/>
                </a:lnTo>
                <a:lnTo>
                  <a:pt x="1282" y="1797"/>
                </a:lnTo>
                <a:lnTo>
                  <a:pt x="1273" y="1818"/>
                </a:lnTo>
                <a:lnTo>
                  <a:pt x="1264" y="1839"/>
                </a:lnTo>
                <a:lnTo>
                  <a:pt x="1254" y="1860"/>
                </a:lnTo>
                <a:lnTo>
                  <a:pt x="1244" y="1881"/>
                </a:lnTo>
                <a:lnTo>
                  <a:pt x="1234" y="1901"/>
                </a:lnTo>
                <a:lnTo>
                  <a:pt x="1224" y="1922"/>
                </a:lnTo>
                <a:lnTo>
                  <a:pt x="1247" y="1902"/>
                </a:lnTo>
                <a:lnTo>
                  <a:pt x="1270" y="1882"/>
                </a:lnTo>
                <a:lnTo>
                  <a:pt x="1291" y="1863"/>
                </a:lnTo>
                <a:lnTo>
                  <a:pt x="1311" y="1841"/>
                </a:lnTo>
                <a:lnTo>
                  <a:pt x="1331" y="1819"/>
                </a:lnTo>
                <a:lnTo>
                  <a:pt x="1349" y="1798"/>
                </a:lnTo>
                <a:lnTo>
                  <a:pt x="1368" y="1775"/>
                </a:lnTo>
                <a:lnTo>
                  <a:pt x="1386" y="1753"/>
                </a:lnTo>
                <a:lnTo>
                  <a:pt x="1403" y="1729"/>
                </a:lnTo>
                <a:lnTo>
                  <a:pt x="1420" y="1707"/>
                </a:lnTo>
                <a:lnTo>
                  <a:pt x="1436" y="1684"/>
                </a:lnTo>
                <a:lnTo>
                  <a:pt x="1452" y="1660"/>
                </a:lnTo>
                <a:lnTo>
                  <a:pt x="1469" y="1636"/>
                </a:lnTo>
                <a:lnTo>
                  <a:pt x="1485" y="1613"/>
                </a:lnTo>
                <a:lnTo>
                  <a:pt x="1500" y="1590"/>
                </a:lnTo>
                <a:lnTo>
                  <a:pt x="1516" y="1566"/>
                </a:lnTo>
                <a:lnTo>
                  <a:pt x="1532" y="1550"/>
                </a:lnTo>
                <a:lnTo>
                  <a:pt x="1547" y="1533"/>
                </a:lnTo>
                <a:lnTo>
                  <a:pt x="1563" y="1515"/>
                </a:lnTo>
                <a:lnTo>
                  <a:pt x="1579" y="1499"/>
                </a:lnTo>
                <a:lnTo>
                  <a:pt x="1595" y="1481"/>
                </a:lnTo>
                <a:lnTo>
                  <a:pt x="1611" y="1463"/>
                </a:lnTo>
                <a:lnTo>
                  <a:pt x="1627" y="1447"/>
                </a:lnTo>
                <a:lnTo>
                  <a:pt x="1644" y="1430"/>
                </a:lnTo>
                <a:lnTo>
                  <a:pt x="1660" y="1413"/>
                </a:lnTo>
                <a:lnTo>
                  <a:pt x="1677" y="1397"/>
                </a:lnTo>
                <a:lnTo>
                  <a:pt x="1694" y="1380"/>
                </a:lnTo>
                <a:lnTo>
                  <a:pt x="1711" y="1364"/>
                </a:lnTo>
                <a:lnTo>
                  <a:pt x="1729" y="1350"/>
                </a:lnTo>
                <a:lnTo>
                  <a:pt x="1747" y="1336"/>
                </a:lnTo>
                <a:lnTo>
                  <a:pt x="1764" y="1322"/>
                </a:lnTo>
                <a:lnTo>
                  <a:pt x="1784" y="1310"/>
                </a:lnTo>
                <a:lnTo>
                  <a:pt x="1794" y="1303"/>
                </a:lnTo>
                <a:lnTo>
                  <a:pt x="1804" y="1297"/>
                </a:lnTo>
                <a:lnTo>
                  <a:pt x="1814" y="1289"/>
                </a:lnTo>
                <a:lnTo>
                  <a:pt x="1823" y="1281"/>
                </a:lnTo>
                <a:lnTo>
                  <a:pt x="1833" y="1273"/>
                </a:lnTo>
                <a:lnTo>
                  <a:pt x="1842" y="1266"/>
                </a:lnTo>
                <a:lnTo>
                  <a:pt x="1853" y="1260"/>
                </a:lnTo>
                <a:lnTo>
                  <a:pt x="1863" y="1255"/>
                </a:lnTo>
                <a:lnTo>
                  <a:pt x="1865" y="1255"/>
                </a:lnTo>
                <a:lnTo>
                  <a:pt x="1867" y="1255"/>
                </a:lnTo>
                <a:lnTo>
                  <a:pt x="1869" y="1256"/>
                </a:lnTo>
                <a:lnTo>
                  <a:pt x="1871" y="1257"/>
                </a:lnTo>
                <a:lnTo>
                  <a:pt x="1872" y="1250"/>
                </a:lnTo>
                <a:lnTo>
                  <a:pt x="1892" y="1240"/>
                </a:lnTo>
                <a:lnTo>
                  <a:pt x="1911" y="1230"/>
                </a:lnTo>
                <a:lnTo>
                  <a:pt x="1930" y="1220"/>
                </a:lnTo>
                <a:lnTo>
                  <a:pt x="1950" y="1210"/>
                </a:lnTo>
                <a:lnTo>
                  <a:pt x="1969" y="1199"/>
                </a:lnTo>
                <a:lnTo>
                  <a:pt x="1988" y="1188"/>
                </a:lnTo>
                <a:lnTo>
                  <a:pt x="2007" y="1177"/>
                </a:lnTo>
                <a:lnTo>
                  <a:pt x="2026" y="1166"/>
                </a:lnTo>
                <a:lnTo>
                  <a:pt x="2039" y="1161"/>
                </a:lnTo>
                <a:lnTo>
                  <a:pt x="2030" y="1173"/>
                </a:lnTo>
                <a:lnTo>
                  <a:pt x="2020" y="1181"/>
                </a:lnTo>
                <a:lnTo>
                  <a:pt x="2009" y="1191"/>
                </a:lnTo>
                <a:lnTo>
                  <a:pt x="1997" y="1199"/>
                </a:lnTo>
                <a:lnTo>
                  <a:pt x="1986" y="1208"/>
                </a:lnTo>
                <a:lnTo>
                  <a:pt x="1975" y="1217"/>
                </a:lnTo>
                <a:lnTo>
                  <a:pt x="1964" y="1227"/>
                </a:lnTo>
                <a:lnTo>
                  <a:pt x="1954" y="1237"/>
                </a:lnTo>
                <a:lnTo>
                  <a:pt x="1934" y="1261"/>
                </a:lnTo>
                <a:lnTo>
                  <a:pt x="1916" y="1286"/>
                </a:lnTo>
                <a:lnTo>
                  <a:pt x="1899" y="1311"/>
                </a:lnTo>
                <a:lnTo>
                  <a:pt x="1882" y="1337"/>
                </a:lnTo>
                <a:lnTo>
                  <a:pt x="1864" y="1363"/>
                </a:lnTo>
                <a:lnTo>
                  <a:pt x="1846" y="1389"/>
                </a:lnTo>
                <a:lnTo>
                  <a:pt x="1827" y="1413"/>
                </a:lnTo>
                <a:lnTo>
                  <a:pt x="1806" y="1438"/>
                </a:lnTo>
                <a:lnTo>
                  <a:pt x="1794" y="1460"/>
                </a:lnTo>
                <a:lnTo>
                  <a:pt x="1779" y="1482"/>
                </a:lnTo>
                <a:lnTo>
                  <a:pt x="1764" y="1503"/>
                </a:lnTo>
                <a:lnTo>
                  <a:pt x="1749" y="1525"/>
                </a:lnTo>
                <a:lnTo>
                  <a:pt x="1732" y="1545"/>
                </a:lnTo>
                <a:lnTo>
                  <a:pt x="1714" y="1566"/>
                </a:lnTo>
                <a:lnTo>
                  <a:pt x="1695" y="1586"/>
                </a:lnTo>
                <a:lnTo>
                  <a:pt x="1676" y="1606"/>
                </a:lnTo>
                <a:lnTo>
                  <a:pt x="1656" y="1625"/>
                </a:lnTo>
                <a:lnTo>
                  <a:pt x="1636" y="1644"/>
                </a:lnTo>
                <a:lnTo>
                  <a:pt x="1616" y="1664"/>
                </a:lnTo>
                <a:lnTo>
                  <a:pt x="1595" y="1682"/>
                </a:lnTo>
                <a:lnTo>
                  <a:pt x="1574" y="1701"/>
                </a:lnTo>
                <a:lnTo>
                  <a:pt x="1554" y="1718"/>
                </a:lnTo>
                <a:lnTo>
                  <a:pt x="1533" y="1737"/>
                </a:lnTo>
                <a:lnTo>
                  <a:pt x="1513" y="1755"/>
                </a:lnTo>
                <a:lnTo>
                  <a:pt x="1499" y="1765"/>
                </a:lnTo>
                <a:lnTo>
                  <a:pt x="1485" y="1775"/>
                </a:lnTo>
                <a:lnTo>
                  <a:pt x="1471" y="1784"/>
                </a:lnTo>
                <a:lnTo>
                  <a:pt x="1457" y="1794"/>
                </a:lnTo>
                <a:lnTo>
                  <a:pt x="1442" y="1803"/>
                </a:lnTo>
                <a:lnTo>
                  <a:pt x="1429" y="1811"/>
                </a:lnTo>
                <a:lnTo>
                  <a:pt x="1414" y="1820"/>
                </a:lnTo>
                <a:lnTo>
                  <a:pt x="1400" y="1829"/>
                </a:lnTo>
                <a:lnTo>
                  <a:pt x="1386" y="1838"/>
                </a:lnTo>
                <a:lnTo>
                  <a:pt x="1372" y="1848"/>
                </a:lnTo>
                <a:lnTo>
                  <a:pt x="1358" y="1858"/>
                </a:lnTo>
                <a:lnTo>
                  <a:pt x="1345" y="1868"/>
                </a:lnTo>
                <a:lnTo>
                  <a:pt x="1331" y="1879"/>
                </a:lnTo>
                <a:lnTo>
                  <a:pt x="1319" y="1890"/>
                </a:lnTo>
                <a:lnTo>
                  <a:pt x="1307" y="1902"/>
                </a:lnTo>
                <a:lnTo>
                  <a:pt x="1294" y="1916"/>
                </a:lnTo>
                <a:lnTo>
                  <a:pt x="1249" y="1965"/>
                </a:lnTo>
                <a:lnTo>
                  <a:pt x="1251" y="1966"/>
                </a:lnTo>
                <a:lnTo>
                  <a:pt x="1279" y="1949"/>
                </a:lnTo>
                <a:lnTo>
                  <a:pt x="1308" y="1931"/>
                </a:lnTo>
                <a:lnTo>
                  <a:pt x="1336" y="1915"/>
                </a:lnTo>
                <a:lnTo>
                  <a:pt x="1365" y="1899"/>
                </a:lnTo>
                <a:lnTo>
                  <a:pt x="1394" y="1884"/>
                </a:lnTo>
                <a:lnTo>
                  <a:pt x="1423" y="1868"/>
                </a:lnTo>
                <a:lnTo>
                  <a:pt x="1453" y="1853"/>
                </a:lnTo>
                <a:lnTo>
                  <a:pt x="1482" y="1839"/>
                </a:lnTo>
                <a:lnTo>
                  <a:pt x="1513" y="1825"/>
                </a:lnTo>
                <a:lnTo>
                  <a:pt x="1543" y="1813"/>
                </a:lnTo>
                <a:lnTo>
                  <a:pt x="1573" y="1800"/>
                </a:lnTo>
                <a:lnTo>
                  <a:pt x="1604" y="1789"/>
                </a:lnTo>
                <a:lnTo>
                  <a:pt x="1636" y="1778"/>
                </a:lnTo>
                <a:lnTo>
                  <a:pt x="1667" y="1769"/>
                </a:lnTo>
                <a:lnTo>
                  <a:pt x="1700" y="1760"/>
                </a:lnTo>
                <a:lnTo>
                  <a:pt x="1732" y="1753"/>
                </a:lnTo>
                <a:lnTo>
                  <a:pt x="1745" y="1750"/>
                </a:lnTo>
                <a:lnTo>
                  <a:pt x="1759" y="1747"/>
                </a:lnTo>
                <a:lnTo>
                  <a:pt x="1772" y="1745"/>
                </a:lnTo>
                <a:lnTo>
                  <a:pt x="1786" y="1743"/>
                </a:lnTo>
                <a:lnTo>
                  <a:pt x="1799" y="1739"/>
                </a:lnTo>
                <a:lnTo>
                  <a:pt x="1813" y="1737"/>
                </a:lnTo>
                <a:lnTo>
                  <a:pt x="1825" y="1734"/>
                </a:lnTo>
                <a:lnTo>
                  <a:pt x="1838" y="1732"/>
                </a:lnTo>
                <a:lnTo>
                  <a:pt x="1852" y="1728"/>
                </a:lnTo>
                <a:lnTo>
                  <a:pt x="1865" y="1725"/>
                </a:lnTo>
                <a:lnTo>
                  <a:pt x="1879" y="1723"/>
                </a:lnTo>
                <a:lnTo>
                  <a:pt x="1891" y="1719"/>
                </a:lnTo>
                <a:lnTo>
                  <a:pt x="1904" y="1716"/>
                </a:lnTo>
                <a:lnTo>
                  <a:pt x="1918" y="1714"/>
                </a:lnTo>
                <a:lnTo>
                  <a:pt x="1930" y="1711"/>
                </a:lnTo>
                <a:lnTo>
                  <a:pt x="1944" y="1707"/>
                </a:lnTo>
                <a:lnTo>
                  <a:pt x="1962" y="1705"/>
                </a:lnTo>
                <a:lnTo>
                  <a:pt x="1979" y="1702"/>
                </a:lnTo>
                <a:lnTo>
                  <a:pt x="1997" y="1699"/>
                </a:lnTo>
                <a:lnTo>
                  <a:pt x="2015" y="1696"/>
                </a:lnTo>
                <a:lnTo>
                  <a:pt x="2033" y="1693"/>
                </a:lnTo>
                <a:lnTo>
                  <a:pt x="2051" y="1689"/>
                </a:lnTo>
                <a:lnTo>
                  <a:pt x="2069" y="1687"/>
                </a:lnTo>
                <a:lnTo>
                  <a:pt x="2087" y="1684"/>
                </a:lnTo>
                <a:lnTo>
                  <a:pt x="2105" y="1681"/>
                </a:lnTo>
                <a:lnTo>
                  <a:pt x="2123" y="1678"/>
                </a:lnTo>
                <a:lnTo>
                  <a:pt x="2141" y="1676"/>
                </a:lnTo>
                <a:lnTo>
                  <a:pt x="2159" y="1674"/>
                </a:lnTo>
                <a:lnTo>
                  <a:pt x="2177" y="1672"/>
                </a:lnTo>
                <a:lnTo>
                  <a:pt x="2194" y="1669"/>
                </a:lnTo>
                <a:lnTo>
                  <a:pt x="2213" y="1668"/>
                </a:lnTo>
                <a:lnTo>
                  <a:pt x="2231" y="1667"/>
                </a:lnTo>
                <a:lnTo>
                  <a:pt x="2238" y="1665"/>
                </a:lnTo>
                <a:lnTo>
                  <a:pt x="2245" y="1664"/>
                </a:lnTo>
                <a:lnTo>
                  <a:pt x="2250" y="1663"/>
                </a:lnTo>
                <a:lnTo>
                  <a:pt x="2256" y="1662"/>
                </a:lnTo>
                <a:lnTo>
                  <a:pt x="2256" y="1665"/>
                </a:lnTo>
                <a:lnTo>
                  <a:pt x="2235" y="1669"/>
                </a:lnTo>
                <a:lnTo>
                  <a:pt x="2215" y="1675"/>
                </a:lnTo>
                <a:lnTo>
                  <a:pt x="2194" y="1681"/>
                </a:lnTo>
                <a:lnTo>
                  <a:pt x="2174" y="1687"/>
                </a:lnTo>
                <a:lnTo>
                  <a:pt x="2154" y="1694"/>
                </a:lnTo>
                <a:lnTo>
                  <a:pt x="2135" y="1702"/>
                </a:lnTo>
                <a:lnTo>
                  <a:pt x="2115" y="1709"/>
                </a:lnTo>
                <a:lnTo>
                  <a:pt x="2096" y="1718"/>
                </a:lnTo>
                <a:lnTo>
                  <a:pt x="2077" y="1726"/>
                </a:lnTo>
                <a:lnTo>
                  <a:pt x="2057" y="1735"/>
                </a:lnTo>
                <a:lnTo>
                  <a:pt x="2038" y="1744"/>
                </a:lnTo>
                <a:lnTo>
                  <a:pt x="2019" y="1753"/>
                </a:lnTo>
                <a:lnTo>
                  <a:pt x="2000" y="1762"/>
                </a:lnTo>
                <a:lnTo>
                  <a:pt x="1981" y="1770"/>
                </a:lnTo>
                <a:lnTo>
                  <a:pt x="1960" y="1779"/>
                </a:lnTo>
                <a:lnTo>
                  <a:pt x="1941" y="1788"/>
                </a:lnTo>
                <a:lnTo>
                  <a:pt x="1920" y="1795"/>
                </a:lnTo>
                <a:lnTo>
                  <a:pt x="1899" y="1801"/>
                </a:lnTo>
                <a:lnTo>
                  <a:pt x="1879" y="1809"/>
                </a:lnTo>
                <a:lnTo>
                  <a:pt x="1857" y="1817"/>
                </a:lnTo>
                <a:lnTo>
                  <a:pt x="1837" y="1825"/>
                </a:lnTo>
                <a:lnTo>
                  <a:pt x="1816" y="1833"/>
                </a:lnTo>
                <a:lnTo>
                  <a:pt x="1796" y="1840"/>
                </a:lnTo>
                <a:lnTo>
                  <a:pt x="1776" y="1848"/>
                </a:lnTo>
                <a:lnTo>
                  <a:pt x="1754" y="1856"/>
                </a:lnTo>
                <a:lnTo>
                  <a:pt x="1733" y="1863"/>
                </a:lnTo>
                <a:lnTo>
                  <a:pt x="1712" y="1869"/>
                </a:lnTo>
                <a:lnTo>
                  <a:pt x="1691" y="1876"/>
                </a:lnTo>
                <a:lnTo>
                  <a:pt x="1669" y="1881"/>
                </a:lnTo>
                <a:lnTo>
                  <a:pt x="1647" y="1886"/>
                </a:lnTo>
                <a:lnTo>
                  <a:pt x="1625" y="1890"/>
                </a:lnTo>
                <a:lnTo>
                  <a:pt x="1602" y="1894"/>
                </a:lnTo>
                <a:lnTo>
                  <a:pt x="1589" y="1896"/>
                </a:lnTo>
                <a:lnTo>
                  <a:pt x="1575" y="1898"/>
                </a:lnTo>
                <a:lnTo>
                  <a:pt x="1563" y="1899"/>
                </a:lnTo>
                <a:lnTo>
                  <a:pt x="1550" y="1901"/>
                </a:lnTo>
                <a:lnTo>
                  <a:pt x="1536" y="1904"/>
                </a:lnTo>
                <a:lnTo>
                  <a:pt x="1524" y="1907"/>
                </a:lnTo>
                <a:lnTo>
                  <a:pt x="1511" y="1909"/>
                </a:lnTo>
                <a:lnTo>
                  <a:pt x="1499" y="1912"/>
                </a:lnTo>
                <a:lnTo>
                  <a:pt x="1516" y="1916"/>
                </a:lnTo>
                <a:lnTo>
                  <a:pt x="1534" y="1919"/>
                </a:lnTo>
                <a:lnTo>
                  <a:pt x="1551" y="1922"/>
                </a:lnTo>
                <a:lnTo>
                  <a:pt x="1569" y="1926"/>
                </a:lnTo>
                <a:lnTo>
                  <a:pt x="1585" y="1930"/>
                </a:lnTo>
                <a:lnTo>
                  <a:pt x="1602" y="1935"/>
                </a:lnTo>
                <a:lnTo>
                  <a:pt x="1618" y="1940"/>
                </a:lnTo>
                <a:lnTo>
                  <a:pt x="1634" y="1948"/>
                </a:lnTo>
                <a:lnTo>
                  <a:pt x="1658" y="1961"/>
                </a:lnTo>
                <a:lnTo>
                  <a:pt x="1683" y="1976"/>
                </a:lnTo>
                <a:lnTo>
                  <a:pt x="1706" y="1992"/>
                </a:lnTo>
                <a:lnTo>
                  <a:pt x="1730" y="2010"/>
                </a:lnTo>
                <a:lnTo>
                  <a:pt x="1751" y="2029"/>
                </a:lnTo>
                <a:lnTo>
                  <a:pt x="1772" y="2048"/>
                </a:lnTo>
                <a:lnTo>
                  <a:pt x="1794" y="2069"/>
                </a:lnTo>
                <a:lnTo>
                  <a:pt x="1814" y="2090"/>
                </a:lnTo>
                <a:lnTo>
                  <a:pt x="1833" y="2112"/>
                </a:lnTo>
                <a:lnTo>
                  <a:pt x="1852" y="2134"/>
                </a:lnTo>
                <a:lnTo>
                  <a:pt x="1871" y="2158"/>
                </a:lnTo>
                <a:lnTo>
                  <a:pt x="1889" y="2180"/>
                </a:lnTo>
                <a:lnTo>
                  <a:pt x="1906" y="2203"/>
                </a:lnTo>
                <a:lnTo>
                  <a:pt x="1923" y="2226"/>
                </a:lnTo>
                <a:lnTo>
                  <a:pt x="1939" y="2249"/>
                </a:lnTo>
                <a:lnTo>
                  <a:pt x="1956" y="2271"/>
                </a:lnTo>
                <a:lnTo>
                  <a:pt x="1941" y="2262"/>
                </a:lnTo>
                <a:lnTo>
                  <a:pt x="1927" y="2253"/>
                </a:lnTo>
                <a:lnTo>
                  <a:pt x="1913" y="2243"/>
                </a:lnTo>
                <a:lnTo>
                  <a:pt x="1899" y="2232"/>
                </a:lnTo>
                <a:lnTo>
                  <a:pt x="1885" y="2221"/>
                </a:lnTo>
                <a:lnTo>
                  <a:pt x="1872" y="2210"/>
                </a:lnTo>
                <a:lnTo>
                  <a:pt x="1859" y="2199"/>
                </a:lnTo>
                <a:lnTo>
                  <a:pt x="1845" y="2188"/>
                </a:lnTo>
                <a:lnTo>
                  <a:pt x="1834" y="2172"/>
                </a:lnTo>
                <a:lnTo>
                  <a:pt x="1822" y="2156"/>
                </a:lnTo>
                <a:lnTo>
                  <a:pt x="1809" y="2143"/>
                </a:lnTo>
                <a:lnTo>
                  <a:pt x="1796" y="2131"/>
                </a:lnTo>
                <a:lnTo>
                  <a:pt x="1781" y="2119"/>
                </a:lnTo>
                <a:lnTo>
                  <a:pt x="1767" y="2108"/>
                </a:lnTo>
                <a:lnTo>
                  <a:pt x="1752" y="2098"/>
                </a:lnTo>
                <a:lnTo>
                  <a:pt x="1737" y="2088"/>
                </a:lnTo>
                <a:lnTo>
                  <a:pt x="1721" y="2079"/>
                </a:lnTo>
                <a:lnTo>
                  <a:pt x="1704" y="2070"/>
                </a:lnTo>
                <a:lnTo>
                  <a:pt x="1688" y="2061"/>
                </a:lnTo>
                <a:lnTo>
                  <a:pt x="1672" y="2053"/>
                </a:lnTo>
                <a:lnTo>
                  <a:pt x="1656" y="2046"/>
                </a:lnTo>
                <a:lnTo>
                  <a:pt x="1639" y="2038"/>
                </a:lnTo>
                <a:lnTo>
                  <a:pt x="1622" y="2030"/>
                </a:lnTo>
                <a:lnTo>
                  <a:pt x="1607" y="2022"/>
                </a:lnTo>
                <a:lnTo>
                  <a:pt x="1591" y="2019"/>
                </a:lnTo>
                <a:lnTo>
                  <a:pt x="1574" y="2016"/>
                </a:lnTo>
                <a:lnTo>
                  <a:pt x="1557" y="2013"/>
                </a:lnTo>
                <a:lnTo>
                  <a:pt x="1541" y="2010"/>
                </a:lnTo>
                <a:lnTo>
                  <a:pt x="1524" y="2007"/>
                </a:lnTo>
                <a:lnTo>
                  <a:pt x="1507" y="2004"/>
                </a:lnTo>
                <a:lnTo>
                  <a:pt x="1490" y="2001"/>
                </a:lnTo>
                <a:lnTo>
                  <a:pt x="1472" y="1999"/>
                </a:lnTo>
                <a:lnTo>
                  <a:pt x="1455" y="1998"/>
                </a:lnTo>
                <a:lnTo>
                  <a:pt x="1438" y="1997"/>
                </a:lnTo>
                <a:lnTo>
                  <a:pt x="1421" y="1997"/>
                </a:lnTo>
                <a:lnTo>
                  <a:pt x="1403" y="1998"/>
                </a:lnTo>
                <a:lnTo>
                  <a:pt x="1386" y="1999"/>
                </a:lnTo>
                <a:lnTo>
                  <a:pt x="1369" y="2001"/>
                </a:lnTo>
                <a:lnTo>
                  <a:pt x="1352" y="2006"/>
                </a:lnTo>
                <a:lnTo>
                  <a:pt x="1336" y="2010"/>
                </a:lnTo>
                <a:lnTo>
                  <a:pt x="1322" y="2013"/>
                </a:lnTo>
                <a:lnTo>
                  <a:pt x="1308" y="2017"/>
                </a:lnTo>
                <a:lnTo>
                  <a:pt x="1294" y="2019"/>
                </a:lnTo>
                <a:lnTo>
                  <a:pt x="1280" y="2022"/>
                </a:lnTo>
                <a:lnTo>
                  <a:pt x="1266" y="2024"/>
                </a:lnTo>
                <a:lnTo>
                  <a:pt x="1253" y="2028"/>
                </a:lnTo>
                <a:lnTo>
                  <a:pt x="1238" y="2031"/>
                </a:lnTo>
                <a:lnTo>
                  <a:pt x="1225" y="2034"/>
                </a:lnTo>
                <a:lnTo>
                  <a:pt x="1211" y="2039"/>
                </a:lnTo>
                <a:lnTo>
                  <a:pt x="1197" y="2042"/>
                </a:lnTo>
                <a:lnTo>
                  <a:pt x="1185" y="2047"/>
                </a:lnTo>
                <a:lnTo>
                  <a:pt x="1171" y="2052"/>
                </a:lnTo>
                <a:lnTo>
                  <a:pt x="1158" y="2058"/>
                </a:lnTo>
                <a:lnTo>
                  <a:pt x="1145" y="2064"/>
                </a:lnTo>
                <a:lnTo>
                  <a:pt x="1133" y="2072"/>
                </a:lnTo>
                <a:lnTo>
                  <a:pt x="1122" y="2080"/>
                </a:lnTo>
                <a:lnTo>
                  <a:pt x="1101" y="2087"/>
                </a:lnTo>
                <a:lnTo>
                  <a:pt x="1082" y="2085"/>
                </a:lnTo>
                <a:lnTo>
                  <a:pt x="1064" y="2080"/>
                </a:lnTo>
                <a:lnTo>
                  <a:pt x="1047" y="2071"/>
                </a:lnTo>
                <a:lnTo>
                  <a:pt x="1030" y="2061"/>
                </a:lnTo>
                <a:lnTo>
                  <a:pt x="1012" y="2052"/>
                </a:lnTo>
                <a:lnTo>
                  <a:pt x="993" y="2047"/>
                </a:lnTo>
                <a:lnTo>
                  <a:pt x="973" y="2047"/>
                </a:lnTo>
                <a:lnTo>
                  <a:pt x="943" y="2043"/>
                </a:lnTo>
                <a:lnTo>
                  <a:pt x="914" y="2043"/>
                </a:lnTo>
                <a:lnTo>
                  <a:pt x="884" y="2044"/>
                </a:lnTo>
                <a:lnTo>
                  <a:pt x="856" y="2049"/>
                </a:lnTo>
                <a:lnTo>
                  <a:pt x="830" y="2054"/>
                </a:lnTo>
                <a:lnTo>
                  <a:pt x="803" y="2062"/>
                </a:lnTo>
                <a:lnTo>
                  <a:pt x="777" y="2072"/>
                </a:lnTo>
                <a:lnTo>
                  <a:pt x="751" y="2083"/>
                </a:lnTo>
                <a:lnTo>
                  <a:pt x="727" y="2095"/>
                </a:lnTo>
                <a:lnTo>
                  <a:pt x="702" y="2110"/>
                </a:lnTo>
                <a:lnTo>
                  <a:pt x="678" y="2124"/>
                </a:lnTo>
                <a:lnTo>
                  <a:pt x="654" y="2140"/>
                </a:lnTo>
                <a:lnTo>
                  <a:pt x="630" y="2156"/>
                </a:lnTo>
                <a:lnTo>
                  <a:pt x="608" y="2173"/>
                </a:lnTo>
                <a:lnTo>
                  <a:pt x="584" y="2190"/>
                </a:lnTo>
                <a:lnTo>
                  <a:pt x="562" y="2207"/>
                </a:lnTo>
                <a:lnTo>
                  <a:pt x="544" y="2225"/>
                </a:lnTo>
                <a:lnTo>
                  <a:pt x="526" y="2243"/>
                </a:lnTo>
                <a:lnTo>
                  <a:pt x="507" y="2260"/>
                </a:lnTo>
                <a:lnTo>
                  <a:pt x="487" y="2274"/>
                </a:lnTo>
                <a:lnTo>
                  <a:pt x="466" y="2286"/>
                </a:lnTo>
                <a:lnTo>
                  <a:pt x="444" y="2295"/>
                </a:lnTo>
                <a:lnTo>
                  <a:pt x="420" y="2301"/>
                </a:lnTo>
                <a:lnTo>
                  <a:pt x="395" y="2303"/>
                </a:lnTo>
                <a:lnTo>
                  <a:pt x="418" y="2292"/>
                </a:lnTo>
                <a:lnTo>
                  <a:pt x="437" y="2280"/>
                </a:lnTo>
                <a:lnTo>
                  <a:pt x="456" y="2265"/>
                </a:lnTo>
                <a:lnTo>
                  <a:pt x="472" y="2250"/>
                </a:lnTo>
                <a:lnTo>
                  <a:pt x="488" y="2232"/>
                </a:lnTo>
                <a:lnTo>
                  <a:pt x="503" y="2215"/>
                </a:lnTo>
                <a:lnTo>
                  <a:pt x="516" y="2196"/>
                </a:lnTo>
                <a:lnTo>
                  <a:pt x="531" y="2178"/>
                </a:lnTo>
                <a:lnTo>
                  <a:pt x="544" y="2159"/>
                </a:lnTo>
                <a:lnTo>
                  <a:pt x="558" y="2140"/>
                </a:lnTo>
                <a:lnTo>
                  <a:pt x="571" y="2121"/>
                </a:lnTo>
                <a:lnTo>
                  <a:pt x="586" y="2103"/>
                </a:lnTo>
                <a:lnTo>
                  <a:pt x="601" y="2085"/>
                </a:lnTo>
                <a:lnTo>
                  <a:pt x="618" y="2069"/>
                </a:lnTo>
                <a:lnTo>
                  <a:pt x="636" y="2054"/>
                </a:lnTo>
                <a:lnTo>
                  <a:pt x="655" y="2040"/>
                </a:lnTo>
                <a:lnTo>
                  <a:pt x="663" y="2034"/>
                </a:lnTo>
                <a:lnTo>
                  <a:pt x="671" y="2029"/>
                </a:lnTo>
                <a:lnTo>
                  <a:pt x="678" y="2024"/>
                </a:lnTo>
                <a:lnTo>
                  <a:pt x="687" y="2020"/>
                </a:lnTo>
                <a:lnTo>
                  <a:pt x="695" y="2017"/>
                </a:lnTo>
                <a:lnTo>
                  <a:pt x="703" y="2012"/>
                </a:lnTo>
                <a:lnTo>
                  <a:pt x="711" y="2008"/>
                </a:lnTo>
                <a:lnTo>
                  <a:pt x="719" y="2003"/>
                </a:lnTo>
                <a:lnTo>
                  <a:pt x="705" y="2003"/>
                </a:lnTo>
                <a:lnTo>
                  <a:pt x="692" y="2003"/>
                </a:lnTo>
                <a:lnTo>
                  <a:pt x="678" y="2004"/>
                </a:lnTo>
                <a:lnTo>
                  <a:pt x="665" y="2004"/>
                </a:lnTo>
                <a:lnTo>
                  <a:pt x="652" y="2004"/>
                </a:lnTo>
                <a:lnTo>
                  <a:pt x="638" y="2006"/>
                </a:lnTo>
                <a:lnTo>
                  <a:pt x="625" y="2006"/>
                </a:lnTo>
                <a:lnTo>
                  <a:pt x="611" y="2006"/>
                </a:lnTo>
                <a:lnTo>
                  <a:pt x="598" y="2007"/>
                </a:lnTo>
                <a:lnTo>
                  <a:pt x="584" y="2007"/>
                </a:lnTo>
                <a:lnTo>
                  <a:pt x="571" y="2006"/>
                </a:lnTo>
                <a:lnTo>
                  <a:pt x="558" y="2006"/>
                </a:lnTo>
                <a:lnTo>
                  <a:pt x="544" y="2004"/>
                </a:lnTo>
                <a:lnTo>
                  <a:pt x="531" y="2003"/>
                </a:lnTo>
                <a:lnTo>
                  <a:pt x="518" y="2001"/>
                </a:lnTo>
                <a:lnTo>
                  <a:pt x="505" y="1999"/>
                </a:lnTo>
                <a:lnTo>
                  <a:pt x="474" y="1993"/>
                </a:lnTo>
                <a:lnTo>
                  <a:pt x="442" y="1989"/>
                </a:lnTo>
                <a:lnTo>
                  <a:pt x="411" y="1983"/>
                </a:lnTo>
                <a:lnTo>
                  <a:pt x="380" y="1978"/>
                </a:lnTo>
                <a:lnTo>
                  <a:pt x="348" y="1972"/>
                </a:lnTo>
                <a:lnTo>
                  <a:pt x="317" y="1967"/>
                </a:lnTo>
                <a:lnTo>
                  <a:pt x="285" y="1961"/>
                </a:lnTo>
                <a:lnTo>
                  <a:pt x="255" y="1955"/>
                </a:lnTo>
                <a:lnTo>
                  <a:pt x="224" y="1948"/>
                </a:lnTo>
                <a:lnTo>
                  <a:pt x="194" y="1940"/>
                </a:lnTo>
                <a:lnTo>
                  <a:pt x="163" y="1931"/>
                </a:lnTo>
                <a:lnTo>
                  <a:pt x="134" y="1922"/>
                </a:lnTo>
                <a:lnTo>
                  <a:pt x="105" y="1912"/>
                </a:lnTo>
                <a:lnTo>
                  <a:pt x="76" y="1901"/>
                </a:lnTo>
                <a:lnTo>
                  <a:pt x="48" y="1888"/>
                </a:lnTo>
                <a:lnTo>
                  <a:pt x="20" y="1875"/>
                </a:lnTo>
                <a:lnTo>
                  <a:pt x="15" y="1870"/>
                </a:lnTo>
                <a:lnTo>
                  <a:pt x="9" y="1865"/>
                </a:lnTo>
                <a:lnTo>
                  <a:pt x="4" y="1858"/>
                </a:lnTo>
                <a:lnTo>
                  <a:pt x="0" y="1853"/>
                </a:lnTo>
                <a:lnTo>
                  <a:pt x="18" y="1859"/>
                </a:lnTo>
                <a:lnTo>
                  <a:pt x="37" y="1866"/>
                </a:lnTo>
                <a:lnTo>
                  <a:pt x="55" y="1872"/>
                </a:lnTo>
                <a:lnTo>
                  <a:pt x="74" y="1879"/>
                </a:lnTo>
                <a:lnTo>
                  <a:pt x="92" y="1885"/>
                </a:lnTo>
                <a:lnTo>
                  <a:pt x="111" y="1889"/>
                </a:lnTo>
                <a:lnTo>
                  <a:pt x="131" y="1894"/>
                </a:lnTo>
                <a:lnTo>
                  <a:pt x="151" y="1896"/>
                </a:lnTo>
                <a:lnTo>
                  <a:pt x="292" y="1886"/>
                </a:lnTo>
                <a:lnTo>
                  <a:pt x="590" y="1881"/>
                </a:lnTo>
                <a:lnTo>
                  <a:pt x="602" y="1882"/>
                </a:lnTo>
                <a:lnTo>
                  <a:pt x="615" y="1882"/>
                </a:lnTo>
                <a:lnTo>
                  <a:pt x="628" y="1884"/>
                </a:lnTo>
                <a:lnTo>
                  <a:pt x="640" y="1884"/>
                </a:lnTo>
                <a:lnTo>
                  <a:pt x="653" y="1885"/>
                </a:lnTo>
                <a:lnTo>
                  <a:pt x="665" y="1886"/>
                </a:lnTo>
                <a:lnTo>
                  <a:pt x="678" y="1886"/>
                </a:lnTo>
                <a:lnTo>
                  <a:pt x="691" y="1887"/>
                </a:lnTo>
                <a:lnTo>
                  <a:pt x="703" y="1887"/>
                </a:lnTo>
                <a:lnTo>
                  <a:pt x="715" y="1888"/>
                </a:lnTo>
                <a:lnTo>
                  <a:pt x="728" y="1889"/>
                </a:lnTo>
                <a:lnTo>
                  <a:pt x="740" y="1889"/>
                </a:lnTo>
                <a:lnTo>
                  <a:pt x="752" y="1890"/>
                </a:lnTo>
                <a:lnTo>
                  <a:pt x="765" y="1890"/>
                </a:lnTo>
                <a:lnTo>
                  <a:pt x="777" y="1891"/>
                </a:lnTo>
                <a:lnTo>
                  <a:pt x="789" y="1891"/>
                </a:lnTo>
                <a:lnTo>
                  <a:pt x="773" y="1886"/>
                </a:lnTo>
                <a:lnTo>
                  <a:pt x="757" y="1880"/>
                </a:lnTo>
                <a:lnTo>
                  <a:pt x="740" y="1874"/>
                </a:lnTo>
                <a:lnTo>
                  <a:pt x="724" y="1867"/>
                </a:lnTo>
                <a:lnTo>
                  <a:pt x="709" y="1859"/>
                </a:lnTo>
                <a:lnTo>
                  <a:pt x="693" y="1853"/>
                </a:lnTo>
                <a:lnTo>
                  <a:pt x="677" y="1844"/>
                </a:lnTo>
                <a:lnTo>
                  <a:pt x="663" y="1835"/>
                </a:lnTo>
                <a:lnTo>
                  <a:pt x="647" y="1826"/>
                </a:lnTo>
                <a:lnTo>
                  <a:pt x="633" y="1817"/>
                </a:lnTo>
                <a:lnTo>
                  <a:pt x="619" y="1806"/>
                </a:lnTo>
                <a:lnTo>
                  <a:pt x="605" y="1796"/>
                </a:lnTo>
                <a:lnTo>
                  <a:pt x="591" y="1784"/>
                </a:lnTo>
                <a:lnTo>
                  <a:pt x="577" y="1773"/>
                </a:lnTo>
                <a:lnTo>
                  <a:pt x="564" y="1759"/>
                </a:lnTo>
                <a:lnTo>
                  <a:pt x="551" y="1746"/>
                </a:lnTo>
                <a:lnTo>
                  <a:pt x="532" y="1723"/>
                </a:lnTo>
                <a:lnTo>
                  <a:pt x="513" y="1701"/>
                </a:lnTo>
                <a:lnTo>
                  <a:pt x="493" y="1677"/>
                </a:lnTo>
                <a:lnTo>
                  <a:pt x="474" y="1655"/>
                </a:lnTo>
                <a:lnTo>
                  <a:pt x="455" y="1632"/>
                </a:lnTo>
                <a:lnTo>
                  <a:pt x="437" y="1610"/>
                </a:lnTo>
                <a:lnTo>
                  <a:pt x="418" y="1586"/>
                </a:lnTo>
                <a:lnTo>
                  <a:pt x="400" y="1563"/>
                </a:lnTo>
                <a:lnTo>
                  <a:pt x="384" y="1537"/>
                </a:lnTo>
                <a:lnTo>
                  <a:pt x="367" y="1512"/>
                </a:lnTo>
                <a:lnTo>
                  <a:pt x="348" y="1488"/>
                </a:lnTo>
                <a:lnTo>
                  <a:pt x="327" y="1463"/>
                </a:lnTo>
                <a:lnTo>
                  <a:pt x="305" y="1440"/>
                </a:lnTo>
                <a:lnTo>
                  <a:pt x="281" y="1419"/>
                </a:lnTo>
                <a:lnTo>
                  <a:pt x="256" y="1399"/>
                </a:lnTo>
                <a:lnTo>
                  <a:pt x="231" y="1381"/>
                </a:lnTo>
                <a:lnTo>
                  <a:pt x="224" y="1372"/>
                </a:lnTo>
                <a:lnTo>
                  <a:pt x="232" y="1374"/>
                </a:lnTo>
                <a:lnTo>
                  <a:pt x="238" y="1380"/>
                </a:lnTo>
                <a:lnTo>
                  <a:pt x="246" y="1386"/>
                </a:lnTo>
                <a:lnTo>
                  <a:pt x="254" y="1389"/>
                </a:lnTo>
                <a:lnTo>
                  <a:pt x="275" y="1391"/>
                </a:lnTo>
                <a:lnTo>
                  <a:pt x="297" y="1397"/>
                </a:lnTo>
                <a:lnTo>
                  <a:pt x="317" y="1403"/>
                </a:lnTo>
                <a:lnTo>
                  <a:pt x="336" y="1411"/>
                </a:lnTo>
                <a:lnTo>
                  <a:pt x="354" y="1421"/>
                </a:lnTo>
                <a:lnTo>
                  <a:pt x="372" y="1432"/>
                </a:lnTo>
                <a:lnTo>
                  <a:pt x="390" y="1443"/>
                </a:lnTo>
                <a:lnTo>
                  <a:pt x="408" y="1455"/>
                </a:lnTo>
                <a:lnTo>
                  <a:pt x="419" y="1466"/>
                </a:lnTo>
                <a:lnTo>
                  <a:pt x="430" y="1475"/>
                </a:lnTo>
                <a:lnTo>
                  <a:pt x="443" y="1484"/>
                </a:lnTo>
                <a:lnTo>
                  <a:pt x="456" y="1491"/>
                </a:lnTo>
                <a:lnTo>
                  <a:pt x="469" y="1499"/>
                </a:lnTo>
                <a:lnTo>
                  <a:pt x="483" y="1506"/>
                </a:lnTo>
                <a:lnTo>
                  <a:pt x="495" y="1515"/>
                </a:lnTo>
                <a:lnTo>
                  <a:pt x="507" y="1525"/>
                </a:lnTo>
                <a:lnTo>
                  <a:pt x="528" y="1534"/>
                </a:lnTo>
                <a:lnTo>
                  <a:pt x="550" y="1544"/>
                </a:lnTo>
                <a:lnTo>
                  <a:pt x="570" y="1555"/>
                </a:lnTo>
                <a:lnTo>
                  <a:pt x="591" y="1566"/>
                </a:lnTo>
                <a:lnTo>
                  <a:pt x="611" y="1577"/>
                </a:lnTo>
                <a:lnTo>
                  <a:pt x="631" y="1591"/>
                </a:lnTo>
                <a:lnTo>
                  <a:pt x="650" y="1604"/>
                </a:lnTo>
                <a:lnTo>
                  <a:pt x="670" y="1618"/>
                </a:lnTo>
                <a:lnTo>
                  <a:pt x="689" y="1636"/>
                </a:lnTo>
                <a:lnTo>
                  <a:pt x="706" y="1655"/>
                </a:lnTo>
                <a:lnTo>
                  <a:pt x="723" y="1674"/>
                </a:lnTo>
                <a:lnTo>
                  <a:pt x="739" y="1694"/>
                </a:lnTo>
                <a:lnTo>
                  <a:pt x="755" y="1713"/>
                </a:lnTo>
                <a:lnTo>
                  <a:pt x="769" y="1733"/>
                </a:lnTo>
                <a:lnTo>
                  <a:pt x="784" y="1753"/>
                </a:lnTo>
                <a:lnTo>
                  <a:pt x="798" y="1773"/>
                </a:lnTo>
                <a:lnTo>
                  <a:pt x="813" y="1792"/>
                </a:lnTo>
                <a:lnTo>
                  <a:pt x="827" y="1811"/>
                </a:lnTo>
                <a:lnTo>
                  <a:pt x="842" y="1831"/>
                </a:lnTo>
                <a:lnTo>
                  <a:pt x="856" y="1851"/>
                </a:lnTo>
                <a:lnTo>
                  <a:pt x="872" y="1870"/>
                </a:lnTo>
                <a:lnTo>
                  <a:pt x="889" y="1889"/>
                </a:lnTo>
                <a:lnTo>
                  <a:pt x="906" y="1908"/>
                </a:lnTo>
                <a:lnTo>
                  <a:pt x="925" y="1927"/>
                </a:lnTo>
                <a:lnTo>
                  <a:pt x="940" y="1937"/>
                </a:lnTo>
                <a:lnTo>
                  <a:pt x="956" y="1948"/>
                </a:lnTo>
                <a:lnTo>
                  <a:pt x="972" y="1958"/>
                </a:lnTo>
                <a:lnTo>
                  <a:pt x="987" y="1967"/>
                </a:lnTo>
                <a:lnTo>
                  <a:pt x="1003" y="1978"/>
                </a:lnTo>
                <a:lnTo>
                  <a:pt x="1019" y="1988"/>
                </a:lnTo>
                <a:lnTo>
                  <a:pt x="1035" y="1999"/>
                </a:lnTo>
                <a:lnTo>
                  <a:pt x="1049" y="2011"/>
                </a:lnTo>
                <a:lnTo>
                  <a:pt x="1068" y="2020"/>
                </a:lnTo>
                <a:lnTo>
                  <a:pt x="1054" y="1978"/>
                </a:lnTo>
                <a:lnTo>
                  <a:pt x="1035" y="1938"/>
                </a:lnTo>
                <a:lnTo>
                  <a:pt x="1013" y="1898"/>
                </a:lnTo>
                <a:lnTo>
                  <a:pt x="989" y="1859"/>
                </a:lnTo>
                <a:lnTo>
                  <a:pt x="964" y="1821"/>
                </a:lnTo>
                <a:lnTo>
                  <a:pt x="938" y="1783"/>
                </a:lnTo>
                <a:lnTo>
                  <a:pt x="915" y="1744"/>
                </a:lnTo>
                <a:lnTo>
                  <a:pt x="893" y="1704"/>
                </a:lnTo>
                <a:lnTo>
                  <a:pt x="884" y="1691"/>
                </a:lnTo>
                <a:lnTo>
                  <a:pt x="878" y="1676"/>
                </a:lnTo>
                <a:lnTo>
                  <a:pt x="871" y="1662"/>
                </a:lnTo>
                <a:lnTo>
                  <a:pt x="865" y="1646"/>
                </a:lnTo>
                <a:lnTo>
                  <a:pt x="860" y="1632"/>
                </a:lnTo>
                <a:lnTo>
                  <a:pt x="855" y="1616"/>
                </a:lnTo>
                <a:lnTo>
                  <a:pt x="851" y="1602"/>
                </a:lnTo>
                <a:lnTo>
                  <a:pt x="846" y="1586"/>
                </a:lnTo>
                <a:lnTo>
                  <a:pt x="836" y="1546"/>
                </a:lnTo>
                <a:lnTo>
                  <a:pt x="827" y="1505"/>
                </a:lnTo>
                <a:lnTo>
                  <a:pt x="821" y="1464"/>
                </a:lnTo>
                <a:lnTo>
                  <a:pt x="814" y="1422"/>
                </a:lnTo>
                <a:lnTo>
                  <a:pt x="809" y="1380"/>
                </a:lnTo>
                <a:lnTo>
                  <a:pt x="805" y="1338"/>
                </a:lnTo>
                <a:lnTo>
                  <a:pt x="801" y="1296"/>
                </a:lnTo>
                <a:lnTo>
                  <a:pt x="797" y="1252"/>
                </a:lnTo>
                <a:lnTo>
                  <a:pt x="795" y="1238"/>
                </a:lnTo>
                <a:lnTo>
                  <a:pt x="792" y="1224"/>
                </a:lnTo>
                <a:lnTo>
                  <a:pt x="787" y="1210"/>
                </a:lnTo>
                <a:lnTo>
                  <a:pt x="783" y="1197"/>
                </a:lnTo>
                <a:lnTo>
                  <a:pt x="778" y="1184"/>
                </a:lnTo>
                <a:lnTo>
                  <a:pt x="774" y="1170"/>
                </a:lnTo>
                <a:lnTo>
                  <a:pt x="768" y="1157"/>
                </a:lnTo>
                <a:lnTo>
                  <a:pt x="764" y="1144"/>
                </a:lnTo>
                <a:lnTo>
                  <a:pt x="783" y="1163"/>
                </a:lnTo>
                <a:lnTo>
                  <a:pt x="897" y="1379"/>
                </a:lnTo>
                <a:lnTo>
                  <a:pt x="920" y="1417"/>
                </a:lnTo>
                <a:lnTo>
                  <a:pt x="943" y="1455"/>
                </a:lnTo>
                <a:lnTo>
                  <a:pt x="963" y="1494"/>
                </a:lnTo>
                <a:lnTo>
                  <a:pt x="981" y="1534"/>
                </a:lnTo>
                <a:lnTo>
                  <a:pt x="996" y="1575"/>
                </a:lnTo>
                <a:lnTo>
                  <a:pt x="1010" y="1617"/>
                </a:lnTo>
                <a:lnTo>
                  <a:pt x="1021" y="1661"/>
                </a:lnTo>
                <a:lnTo>
                  <a:pt x="1030" y="1704"/>
                </a:lnTo>
                <a:lnTo>
                  <a:pt x="1033" y="1737"/>
                </a:lnTo>
                <a:lnTo>
                  <a:pt x="1038" y="1770"/>
                </a:lnTo>
                <a:lnTo>
                  <a:pt x="1042" y="1804"/>
                </a:lnTo>
                <a:lnTo>
                  <a:pt x="1049" y="1836"/>
                </a:lnTo>
                <a:lnTo>
                  <a:pt x="1057" y="1868"/>
                </a:lnTo>
                <a:lnTo>
                  <a:pt x="1066" y="1899"/>
                </a:lnTo>
                <a:lnTo>
                  <a:pt x="1076" y="1930"/>
                </a:lnTo>
                <a:lnTo>
                  <a:pt x="1087" y="1960"/>
                </a:lnTo>
                <a:lnTo>
                  <a:pt x="1087" y="1963"/>
                </a:lnTo>
                <a:lnTo>
                  <a:pt x="1087" y="1966"/>
                </a:lnTo>
                <a:lnTo>
                  <a:pt x="1088" y="1968"/>
                </a:lnTo>
                <a:lnTo>
                  <a:pt x="1089" y="1970"/>
                </a:lnTo>
                <a:lnTo>
                  <a:pt x="1094" y="1950"/>
                </a:lnTo>
                <a:lnTo>
                  <a:pt x="1097" y="1928"/>
                </a:lnTo>
                <a:lnTo>
                  <a:pt x="1098" y="1906"/>
                </a:lnTo>
                <a:lnTo>
                  <a:pt x="1102" y="1885"/>
                </a:lnTo>
                <a:lnTo>
                  <a:pt x="1111" y="1839"/>
                </a:lnTo>
                <a:lnTo>
                  <a:pt x="1118" y="1793"/>
                </a:lnTo>
                <a:lnTo>
                  <a:pt x="1123" y="1745"/>
                </a:lnTo>
                <a:lnTo>
                  <a:pt x="1123" y="1695"/>
                </a:lnTo>
                <a:lnTo>
                  <a:pt x="1125" y="1693"/>
                </a:lnTo>
                <a:lnTo>
                  <a:pt x="1123" y="1610"/>
                </a:lnTo>
                <a:lnTo>
                  <a:pt x="1121" y="1525"/>
                </a:lnTo>
                <a:lnTo>
                  <a:pt x="1116" y="1442"/>
                </a:lnTo>
                <a:lnTo>
                  <a:pt x="1107" y="1361"/>
                </a:lnTo>
                <a:lnTo>
                  <a:pt x="1108" y="1316"/>
                </a:lnTo>
                <a:lnTo>
                  <a:pt x="1104" y="1272"/>
                </a:lnTo>
                <a:lnTo>
                  <a:pt x="1096" y="1230"/>
                </a:lnTo>
                <a:lnTo>
                  <a:pt x="1093" y="1187"/>
                </a:lnTo>
                <a:lnTo>
                  <a:pt x="1087" y="1127"/>
                </a:lnTo>
                <a:lnTo>
                  <a:pt x="1086" y="1067"/>
                </a:lnTo>
                <a:lnTo>
                  <a:pt x="1089" y="1008"/>
                </a:lnTo>
                <a:lnTo>
                  <a:pt x="1094" y="950"/>
                </a:lnTo>
                <a:lnTo>
                  <a:pt x="1098" y="890"/>
                </a:lnTo>
                <a:lnTo>
                  <a:pt x="1102" y="831"/>
                </a:lnTo>
                <a:lnTo>
                  <a:pt x="1101" y="772"/>
                </a:lnTo>
                <a:lnTo>
                  <a:pt x="1094" y="712"/>
                </a:lnTo>
                <a:lnTo>
                  <a:pt x="1088" y="701"/>
                </a:lnTo>
                <a:lnTo>
                  <a:pt x="1082" y="690"/>
                </a:lnTo>
                <a:lnTo>
                  <a:pt x="1074" y="679"/>
                </a:lnTo>
                <a:lnTo>
                  <a:pt x="1065" y="669"/>
                </a:lnTo>
                <a:lnTo>
                  <a:pt x="1055" y="678"/>
                </a:lnTo>
                <a:lnTo>
                  <a:pt x="1046" y="687"/>
                </a:lnTo>
                <a:lnTo>
                  <a:pt x="1036" y="697"/>
                </a:lnTo>
                <a:lnTo>
                  <a:pt x="1026" y="706"/>
                </a:lnTo>
                <a:lnTo>
                  <a:pt x="1014" y="714"/>
                </a:lnTo>
                <a:lnTo>
                  <a:pt x="1004" y="721"/>
                </a:lnTo>
                <a:lnTo>
                  <a:pt x="993" y="728"/>
                </a:lnTo>
                <a:lnTo>
                  <a:pt x="981" y="732"/>
                </a:lnTo>
                <a:lnTo>
                  <a:pt x="987" y="715"/>
                </a:lnTo>
                <a:lnTo>
                  <a:pt x="995" y="700"/>
                </a:lnTo>
                <a:lnTo>
                  <a:pt x="1000" y="683"/>
                </a:lnTo>
                <a:lnTo>
                  <a:pt x="1001" y="666"/>
                </a:lnTo>
                <a:lnTo>
                  <a:pt x="977" y="672"/>
                </a:lnTo>
                <a:lnTo>
                  <a:pt x="957" y="684"/>
                </a:lnTo>
                <a:lnTo>
                  <a:pt x="937" y="701"/>
                </a:lnTo>
                <a:lnTo>
                  <a:pt x="919" y="720"/>
                </a:lnTo>
                <a:lnTo>
                  <a:pt x="901" y="739"/>
                </a:lnTo>
                <a:lnTo>
                  <a:pt x="881" y="755"/>
                </a:lnTo>
                <a:lnTo>
                  <a:pt x="861" y="769"/>
                </a:lnTo>
                <a:lnTo>
                  <a:pt x="837" y="777"/>
                </a:lnTo>
                <a:lnTo>
                  <a:pt x="820" y="782"/>
                </a:lnTo>
                <a:lnTo>
                  <a:pt x="801" y="785"/>
                </a:lnTo>
                <a:lnTo>
                  <a:pt x="780" y="789"/>
                </a:lnTo>
                <a:lnTo>
                  <a:pt x="761" y="791"/>
                </a:lnTo>
                <a:lnTo>
                  <a:pt x="741" y="792"/>
                </a:lnTo>
                <a:lnTo>
                  <a:pt x="721" y="793"/>
                </a:lnTo>
                <a:lnTo>
                  <a:pt x="700" y="793"/>
                </a:lnTo>
                <a:lnTo>
                  <a:pt x="680" y="793"/>
                </a:lnTo>
                <a:lnTo>
                  <a:pt x="681" y="788"/>
                </a:lnTo>
                <a:lnTo>
                  <a:pt x="700" y="783"/>
                </a:lnTo>
                <a:lnTo>
                  <a:pt x="718" y="777"/>
                </a:lnTo>
                <a:lnTo>
                  <a:pt x="734" y="767"/>
                </a:lnTo>
                <a:lnTo>
                  <a:pt x="751" y="757"/>
                </a:lnTo>
                <a:lnTo>
                  <a:pt x="767" y="744"/>
                </a:lnTo>
                <a:lnTo>
                  <a:pt x="783" y="732"/>
                </a:lnTo>
                <a:lnTo>
                  <a:pt x="797" y="719"/>
                </a:lnTo>
                <a:lnTo>
                  <a:pt x="813" y="706"/>
                </a:lnTo>
                <a:lnTo>
                  <a:pt x="827" y="692"/>
                </a:lnTo>
                <a:lnTo>
                  <a:pt x="843" y="680"/>
                </a:lnTo>
                <a:lnTo>
                  <a:pt x="859" y="668"/>
                </a:lnTo>
                <a:lnTo>
                  <a:pt x="876" y="658"/>
                </a:lnTo>
                <a:lnTo>
                  <a:pt x="892" y="649"/>
                </a:lnTo>
                <a:lnTo>
                  <a:pt x="910" y="643"/>
                </a:lnTo>
                <a:lnTo>
                  <a:pt x="929" y="639"/>
                </a:lnTo>
                <a:lnTo>
                  <a:pt x="949" y="638"/>
                </a:lnTo>
                <a:lnTo>
                  <a:pt x="982" y="635"/>
                </a:lnTo>
                <a:lnTo>
                  <a:pt x="980" y="627"/>
                </a:lnTo>
                <a:lnTo>
                  <a:pt x="976" y="620"/>
                </a:lnTo>
                <a:lnTo>
                  <a:pt x="970" y="613"/>
                </a:lnTo>
                <a:lnTo>
                  <a:pt x="963" y="609"/>
                </a:lnTo>
                <a:lnTo>
                  <a:pt x="943" y="608"/>
                </a:lnTo>
                <a:lnTo>
                  <a:pt x="925" y="611"/>
                </a:lnTo>
                <a:lnTo>
                  <a:pt x="908" y="620"/>
                </a:lnTo>
                <a:lnTo>
                  <a:pt x="892" y="630"/>
                </a:lnTo>
                <a:lnTo>
                  <a:pt x="877" y="642"/>
                </a:lnTo>
                <a:lnTo>
                  <a:pt x="861" y="654"/>
                </a:lnTo>
                <a:lnTo>
                  <a:pt x="845" y="664"/>
                </a:lnTo>
                <a:lnTo>
                  <a:pt x="827" y="671"/>
                </a:lnTo>
                <a:lnTo>
                  <a:pt x="832" y="659"/>
                </a:lnTo>
                <a:lnTo>
                  <a:pt x="837" y="647"/>
                </a:lnTo>
                <a:lnTo>
                  <a:pt x="842" y="635"/>
                </a:lnTo>
                <a:lnTo>
                  <a:pt x="848" y="622"/>
                </a:lnTo>
                <a:lnTo>
                  <a:pt x="840" y="623"/>
                </a:lnTo>
                <a:lnTo>
                  <a:pt x="832" y="626"/>
                </a:lnTo>
                <a:lnTo>
                  <a:pt x="825" y="628"/>
                </a:lnTo>
                <a:lnTo>
                  <a:pt x="817" y="630"/>
                </a:lnTo>
                <a:lnTo>
                  <a:pt x="809" y="632"/>
                </a:lnTo>
                <a:lnTo>
                  <a:pt x="802" y="633"/>
                </a:lnTo>
                <a:lnTo>
                  <a:pt x="793" y="635"/>
                </a:lnTo>
                <a:lnTo>
                  <a:pt x="785" y="636"/>
                </a:lnTo>
                <a:lnTo>
                  <a:pt x="769" y="635"/>
                </a:lnTo>
                <a:lnTo>
                  <a:pt x="753" y="633"/>
                </a:lnTo>
                <a:lnTo>
                  <a:pt x="738" y="632"/>
                </a:lnTo>
                <a:lnTo>
                  <a:pt x="722" y="631"/>
                </a:lnTo>
                <a:lnTo>
                  <a:pt x="708" y="630"/>
                </a:lnTo>
                <a:lnTo>
                  <a:pt x="692" y="628"/>
                </a:lnTo>
                <a:lnTo>
                  <a:pt x="676" y="627"/>
                </a:lnTo>
                <a:lnTo>
                  <a:pt x="662" y="625"/>
                </a:lnTo>
                <a:lnTo>
                  <a:pt x="646" y="622"/>
                </a:lnTo>
                <a:lnTo>
                  <a:pt x="631" y="619"/>
                </a:lnTo>
                <a:lnTo>
                  <a:pt x="616" y="617"/>
                </a:lnTo>
                <a:lnTo>
                  <a:pt x="601" y="613"/>
                </a:lnTo>
                <a:lnTo>
                  <a:pt x="587" y="610"/>
                </a:lnTo>
                <a:lnTo>
                  <a:pt x="572" y="606"/>
                </a:lnTo>
                <a:lnTo>
                  <a:pt x="558" y="601"/>
                </a:lnTo>
                <a:lnTo>
                  <a:pt x="544" y="596"/>
                </a:lnTo>
                <a:lnTo>
                  <a:pt x="542" y="593"/>
                </a:lnTo>
                <a:lnTo>
                  <a:pt x="561" y="596"/>
                </a:lnTo>
                <a:lnTo>
                  <a:pt x="579" y="597"/>
                </a:lnTo>
                <a:lnTo>
                  <a:pt x="597" y="597"/>
                </a:lnTo>
                <a:lnTo>
                  <a:pt x="615" y="596"/>
                </a:lnTo>
                <a:lnTo>
                  <a:pt x="631" y="593"/>
                </a:lnTo>
                <a:lnTo>
                  <a:pt x="649" y="591"/>
                </a:lnTo>
                <a:lnTo>
                  <a:pt x="666" y="587"/>
                </a:lnTo>
                <a:lnTo>
                  <a:pt x="683" y="583"/>
                </a:lnTo>
                <a:lnTo>
                  <a:pt x="700" y="578"/>
                </a:lnTo>
                <a:lnTo>
                  <a:pt x="717" y="574"/>
                </a:lnTo>
                <a:lnTo>
                  <a:pt x="732" y="568"/>
                </a:lnTo>
                <a:lnTo>
                  <a:pt x="749" y="562"/>
                </a:lnTo>
                <a:lnTo>
                  <a:pt x="766" y="557"/>
                </a:lnTo>
                <a:lnTo>
                  <a:pt x="781" y="551"/>
                </a:lnTo>
                <a:lnTo>
                  <a:pt x="798" y="546"/>
                </a:lnTo>
                <a:lnTo>
                  <a:pt x="814" y="540"/>
                </a:lnTo>
                <a:lnTo>
                  <a:pt x="818" y="539"/>
                </a:lnTo>
                <a:lnTo>
                  <a:pt x="824" y="538"/>
                </a:lnTo>
                <a:lnTo>
                  <a:pt x="829" y="538"/>
                </a:lnTo>
                <a:lnTo>
                  <a:pt x="834" y="537"/>
                </a:lnTo>
                <a:lnTo>
                  <a:pt x="839" y="536"/>
                </a:lnTo>
                <a:lnTo>
                  <a:pt x="844" y="535"/>
                </a:lnTo>
                <a:lnTo>
                  <a:pt x="849" y="535"/>
                </a:lnTo>
                <a:lnTo>
                  <a:pt x="853" y="534"/>
                </a:lnTo>
                <a:lnTo>
                  <a:pt x="832" y="528"/>
                </a:lnTo>
                <a:lnTo>
                  <a:pt x="812" y="520"/>
                </a:lnTo>
                <a:lnTo>
                  <a:pt x="792" y="510"/>
                </a:lnTo>
                <a:lnTo>
                  <a:pt x="771" y="499"/>
                </a:lnTo>
                <a:lnTo>
                  <a:pt x="752" y="487"/>
                </a:lnTo>
                <a:lnTo>
                  <a:pt x="734" y="473"/>
                </a:lnTo>
                <a:lnTo>
                  <a:pt x="718" y="458"/>
                </a:lnTo>
                <a:lnTo>
                  <a:pt x="701" y="443"/>
                </a:lnTo>
                <a:lnTo>
                  <a:pt x="684" y="426"/>
                </a:lnTo>
                <a:lnTo>
                  <a:pt x="668" y="408"/>
                </a:lnTo>
                <a:lnTo>
                  <a:pt x="654" y="392"/>
                </a:lnTo>
                <a:lnTo>
                  <a:pt x="639" y="373"/>
                </a:lnTo>
                <a:lnTo>
                  <a:pt x="626" y="355"/>
                </a:lnTo>
                <a:lnTo>
                  <a:pt x="612" y="336"/>
                </a:lnTo>
                <a:lnTo>
                  <a:pt x="600" y="318"/>
                </a:lnTo>
                <a:lnTo>
                  <a:pt x="589" y="301"/>
                </a:lnTo>
                <a:lnTo>
                  <a:pt x="555" y="255"/>
                </a:lnTo>
                <a:lnTo>
                  <a:pt x="564" y="258"/>
                </a:lnTo>
                <a:lnTo>
                  <a:pt x="578" y="271"/>
                </a:lnTo>
                <a:lnTo>
                  <a:pt x="590" y="283"/>
                </a:lnTo>
                <a:lnTo>
                  <a:pt x="603" y="296"/>
                </a:lnTo>
                <a:lnTo>
                  <a:pt x="616" y="308"/>
                </a:lnTo>
                <a:lnTo>
                  <a:pt x="629" y="321"/>
                </a:lnTo>
                <a:lnTo>
                  <a:pt x="643" y="332"/>
                </a:lnTo>
                <a:lnTo>
                  <a:pt x="656" y="344"/>
                </a:lnTo>
                <a:lnTo>
                  <a:pt x="670" y="354"/>
                </a:lnTo>
                <a:lnTo>
                  <a:pt x="683" y="365"/>
                </a:lnTo>
                <a:lnTo>
                  <a:pt x="698" y="374"/>
                </a:lnTo>
                <a:lnTo>
                  <a:pt x="712" y="383"/>
                </a:lnTo>
                <a:lnTo>
                  <a:pt x="727" y="392"/>
                </a:lnTo>
                <a:lnTo>
                  <a:pt x="742" y="398"/>
                </a:lnTo>
                <a:lnTo>
                  <a:pt x="758" y="404"/>
                </a:lnTo>
                <a:lnTo>
                  <a:pt x="774" y="409"/>
                </a:lnTo>
                <a:lnTo>
                  <a:pt x="790" y="413"/>
                </a:lnTo>
                <a:lnTo>
                  <a:pt x="808" y="418"/>
                </a:lnTo>
                <a:lnTo>
                  <a:pt x="827" y="423"/>
                </a:lnTo>
                <a:lnTo>
                  <a:pt x="845" y="429"/>
                </a:lnTo>
                <a:lnTo>
                  <a:pt x="863" y="435"/>
                </a:lnTo>
                <a:lnTo>
                  <a:pt x="880" y="441"/>
                </a:lnTo>
                <a:lnTo>
                  <a:pt x="898" y="448"/>
                </a:lnTo>
                <a:lnTo>
                  <a:pt x="915" y="456"/>
                </a:lnTo>
                <a:lnTo>
                  <a:pt x="932" y="465"/>
                </a:lnTo>
                <a:lnTo>
                  <a:pt x="934" y="446"/>
                </a:lnTo>
                <a:lnTo>
                  <a:pt x="938" y="427"/>
                </a:lnTo>
                <a:lnTo>
                  <a:pt x="942" y="409"/>
                </a:lnTo>
                <a:lnTo>
                  <a:pt x="944" y="390"/>
                </a:lnTo>
                <a:lnTo>
                  <a:pt x="952" y="404"/>
                </a:lnTo>
                <a:lnTo>
                  <a:pt x="962" y="415"/>
                </a:lnTo>
                <a:lnTo>
                  <a:pt x="972" y="425"/>
                </a:lnTo>
                <a:lnTo>
                  <a:pt x="983" y="435"/>
                </a:lnTo>
                <a:lnTo>
                  <a:pt x="995" y="445"/>
                </a:lnTo>
                <a:lnTo>
                  <a:pt x="1007" y="455"/>
                </a:lnTo>
                <a:lnTo>
                  <a:pt x="1017" y="466"/>
                </a:lnTo>
                <a:lnTo>
                  <a:pt x="1026" y="478"/>
                </a:lnTo>
                <a:lnTo>
                  <a:pt x="1030" y="475"/>
                </a:lnTo>
                <a:lnTo>
                  <a:pt x="1036" y="470"/>
                </a:lnTo>
                <a:lnTo>
                  <a:pt x="1039" y="466"/>
                </a:lnTo>
                <a:lnTo>
                  <a:pt x="1037" y="460"/>
                </a:lnTo>
                <a:lnTo>
                  <a:pt x="1010" y="434"/>
                </a:lnTo>
                <a:lnTo>
                  <a:pt x="987" y="406"/>
                </a:lnTo>
                <a:lnTo>
                  <a:pt x="968" y="376"/>
                </a:lnTo>
                <a:lnTo>
                  <a:pt x="953" y="345"/>
                </a:lnTo>
                <a:lnTo>
                  <a:pt x="939" y="313"/>
                </a:lnTo>
                <a:lnTo>
                  <a:pt x="926" y="281"/>
                </a:lnTo>
                <a:lnTo>
                  <a:pt x="912" y="248"/>
                </a:lnTo>
                <a:lnTo>
                  <a:pt x="899" y="216"/>
                </a:lnTo>
                <a:lnTo>
                  <a:pt x="890" y="203"/>
                </a:lnTo>
                <a:lnTo>
                  <a:pt x="881" y="190"/>
                </a:lnTo>
                <a:lnTo>
                  <a:pt x="871" y="176"/>
                </a:lnTo>
                <a:lnTo>
                  <a:pt x="862" y="163"/>
                </a:lnTo>
                <a:lnTo>
                  <a:pt x="852" y="151"/>
                </a:lnTo>
                <a:lnTo>
                  <a:pt x="843" y="138"/>
                </a:lnTo>
                <a:lnTo>
                  <a:pt x="834" y="124"/>
                </a:lnTo>
                <a:lnTo>
                  <a:pt x="826" y="110"/>
                </a:lnTo>
                <a:lnTo>
                  <a:pt x="836" y="114"/>
                </a:lnTo>
                <a:lnTo>
                  <a:pt x="846" y="120"/>
                </a:lnTo>
                <a:lnTo>
                  <a:pt x="854" y="128"/>
                </a:lnTo>
                <a:lnTo>
                  <a:pt x="862" y="136"/>
                </a:lnTo>
                <a:lnTo>
                  <a:pt x="869" y="145"/>
                </a:lnTo>
                <a:lnTo>
                  <a:pt x="876" y="154"/>
                </a:lnTo>
                <a:lnTo>
                  <a:pt x="883" y="162"/>
                </a:lnTo>
                <a:lnTo>
                  <a:pt x="891" y="170"/>
                </a:lnTo>
                <a:lnTo>
                  <a:pt x="904" y="180"/>
                </a:lnTo>
                <a:lnTo>
                  <a:pt x="917" y="190"/>
                </a:lnTo>
                <a:lnTo>
                  <a:pt x="930" y="201"/>
                </a:lnTo>
                <a:lnTo>
                  <a:pt x="944" y="211"/>
                </a:lnTo>
                <a:lnTo>
                  <a:pt x="957" y="221"/>
                </a:lnTo>
                <a:lnTo>
                  <a:pt x="971" y="231"/>
                </a:lnTo>
                <a:lnTo>
                  <a:pt x="984" y="242"/>
                </a:lnTo>
                <a:lnTo>
                  <a:pt x="998" y="252"/>
                </a:lnTo>
                <a:lnTo>
                  <a:pt x="1010" y="263"/>
                </a:lnTo>
                <a:lnTo>
                  <a:pt x="1022" y="275"/>
                </a:lnTo>
                <a:lnTo>
                  <a:pt x="1033" y="287"/>
                </a:lnTo>
                <a:lnTo>
                  <a:pt x="1043" y="300"/>
                </a:lnTo>
                <a:lnTo>
                  <a:pt x="1054" y="312"/>
                </a:lnTo>
                <a:lnTo>
                  <a:pt x="1061" y="326"/>
                </a:lnTo>
                <a:lnTo>
                  <a:pt x="1069" y="339"/>
                </a:lnTo>
                <a:lnTo>
                  <a:pt x="1075" y="355"/>
                </a:lnTo>
                <a:lnTo>
                  <a:pt x="1079" y="364"/>
                </a:lnTo>
                <a:lnTo>
                  <a:pt x="1084" y="373"/>
                </a:lnTo>
                <a:lnTo>
                  <a:pt x="1088" y="383"/>
                </a:lnTo>
                <a:lnTo>
                  <a:pt x="1092" y="392"/>
                </a:lnTo>
                <a:lnTo>
                  <a:pt x="1096" y="402"/>
                </a:lnTo>
                <a:lnTo>
                  <a:pt x="1101" y="410"/>
                </a:lnTo>
                <a:lnTo>
                  <a:pt x="1106" y="419"/>
                </a:lnTo>
                <a:lnTo>
                  <a:pt x="1112" y="427"/>
                </a:lnTo>
                <a:lnTo>
                  <a:pt x="1120" y="426"/>
                </a:lnTo>
                <a:lnTo>
                  <a:pt x="1127" y="425"/>
                </a:lnTo>
                <a:lnTo>
                  <a:pt x="1134" y="422"/>
                </a:lnTo>
                <a:lnTo>
                  <a:pt x="1136" y="415"/>
                </a:lnTo>
                <a:lnTo>
                  <a:pt x="1136" y="398"/>
                </a:lnTo>
                <a:lnTo>
                  <a:pt x="1138" y="382"/>
                </a:lnTo>
                <a:lnTo>
                  <a:pt x="1140" y="366"/>
                </a:lnTo>
                <a:lnTo>
                  <a:pt x="1144" y="352"/>
                </a:lnTo>
                <a:lnTo>
                  <a:pt x="1140" y="346"/>
                </a:lnTo>
                <a:lnTo>
                  <a:pt x="1134" y="341"/>
                </a:lnTo>
                <a:lnTo>
                  <a:pt x="1130" y="335"/>
                </a:lnTo>
                <a:lnTo>
                  <a:pt x="1125" y="329"/>
                </a:lnTo>
                <a:lnTo>
                  <a:pt x="1121" y="324"/>
                </a:lnTo>
                <a:lnTo>
                  <a:pt x="1116" y="318"/>
                </a:lnTo>
                <a:lnTo>
                  <a:pt x="1111" y="314"/>
                </a:lnTo>
                <a:lnTo>
                  <a:pt x="1105" y="309"/>
                </a:lnTo>
                <a:lnTo>
                  <a:pt x="1111" y="309"/>
                </a:lnTo>
                <a:lnTo>
                  <a:pt x="1116" y="311"/>
                </a:lnTo>
                <a:lnTo>
                  <a:pt x="1122" y="313"/>
                </a:lnTo>
                <a:lnTo>
                  <a:pt x="1127" y="315"/>
                </a:lnTo>
                <a:lnTo>
                  <a:pt x="1133" y="317"/>
                </a:lnTo>
                <a:lnTo>
                  <a:pt x="1139" y="319"/>
                </a:lnTo>
                <a:lnTo>
                  <a:pt x="1144" y="322"/>
                </a:lnTo>
                <a:lnTo>
                  <a:pt x="1150" y="324"/>
                </a:lnTo>
                <a:lnTo>
                  <a:pt x="1152" y="300"/>
                </a:lnTo>
                <a:lnTo>
                  <a:pt x="1158" y="277"/>
                </a:lnTo>
                <a:lnTo>
                  <a:pt x="1164" y="256"/>
                </a:lnTo>
                <a:lnTo>
                  <a:pt x="1171" y="234"/>
                </a:lnTo>
                <a:lnTo>
                  <a:pt x="1187" y="212"/>
                </a:lnTo>
                <a:lnTo>
                  <a:pt x="1202" y="190"/>
                </a:lnTo>
                <a:lnTo>
                  <a:pt x="1218" y="168"/>
                </a:lnTo>
                <a:lnTo>
                  <a:pt x="1234" y="145"/>
                </a:lnTo>
                <a:lnTo>
                  <a:pt x="1248" y="123"/>
                </a:lnTo>
                <a:lnTo>
                  <a:pt x="1264" y="101"/>
                </a:lnTo>
                <a:lnTo>
                  <a:pt x="1277" y="78"/>
                </a:lnTo>
                <a:lnTo>
                  <a:pt x="1292" y="55"/>
                </a:lnTo>
                <a:lnTo>
                  <a:pt x="1295" y="42"/>
                </a:lnTo>
                <a:lnTo>
                  <a:pt x="1295" y="29"/>
                </a:lnTo>
                <a:lnTo>
                  <a:pt x="1295" y="14"/>
                </a:lnTo>
                <a:lnTo>
                  <a:pt x="1295" y="0"/>
                </a:lnTo>
                <a:lnTo>
                  <a:pt x="1303" y="31"/>
                </a:lnTo>
                <a:lnTo>
                  <a:pt x="1309" y="63"/>
                </a:lnTo>
                <a:lnTo>
                  <a:pt x="1310" y="95"/>
                </a:lnTo>
                <a:lnTo>
                  <a:pt x="1309" y="129"/>
                </a:lnTo>
                <a:lnTo>
                  <a:pt x="1305" y="162"/>
                </a:lnTo>
                <a:lnTo>
                  <a:pt x="1301" y="194"/>
                </a:lnTo>
                <a:lnTo>
                  <a:pt x="1295" y="226"/>
                </a:lnTo>
                <a:lnTo>
                  <a:pt x="1290" y="257"/>
                </a:lnTo>
                <a:close/>
              </a:path>
            </a:pathLst>
          </a:custGeom>
          <a:solidFill>
            <a:srgbClr val="ff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40360" y="2909880"/>
            <a:ext cx="3377880" cy="3524400"/>
          </a:xfrm>
          <a:custGeom>
            <a:avLst/>
            <a:gdLst/>
            <a:ahLst/>
            <a:rect l="l" t="t" r="r" b="b"/>
            <a:pathLst>
              <a:path w="2128" h="2220">
                <a:moveTo>
                  <a:pt x="1217" y="248"/>
                </a:moveTo>
                <a:lnTo>
                  <a:pt x="1213" y="259"/>
                </a:lnTo>
                <a:lnTo>
                  <a:pt x="1210" y="271"/>
                </a:lnTo>
                <a:lnTo>
                  <a:pt x="1207" y="282"/>
                </a:lnTo>
                <a:lnTo>
                  <a:pt x="1202" y="294"/>
                </a:lnTo>
                <a:lnTo>
                  <a:pt x="1198" y="305"/>
                </a:lnTo>
                <a:lnTo>
                  <a:pt x="1193" y="316"/>
                </a:lnTo>
                <a:lnTo>
                  <a:pt x="1188" y="327"/>
                </a:lnTo>
                <a:lnTo>
                  <a:pt x="1182" y="337"/>
                </a:lnTo>
                <a:lnTo>
                  <a:pt x="1182" y="339"/>
                </a:lnTo>
                <a:lnTo>
                  <a:pt x="1182" y="341"/>
                </a:lnTo>
                <a:lnTo>
                  <a:pt x="1182" y="343"/>
                </a:lnTo>
                <a:lnTo>
                  <a:pt x="1184" y="345"/>
                </a:lnTo>
                <a:lnTo>
                  <a:pt x="1194" y="337"/>
                </a:lnTo>
                <a:lnTo>
                  <a:pt x="1206" y="329"/>
                </a:lnTo>
                <a:lnTo>
                  <a:pt x="1218" y="321"/>
                </a:lnTo>
                <a:lnTo>
                  <a:pt x="1229" y="312"/>
                </a:lnTo>
                <a:lnTo>
                  <a:pt x="1239" y="304"/>
                </a:lnTo>
                <a:lnTo>
                  <a:pt x="1248" y="294"/>
                </a:lnTo>
                <a:lnTo>
                  <a:pt x="1255" y="281"/>
                </a:lnTo>
                <a:lnTo>
                  <a:pt x="1260" y="269"/>
                </a:lnTo>
                <a:lnTo>
                  <a:pt x="1260" y="264"/>
                </a:lnTo>
                <a:lnTo>
                  <a:pt x="1260" y="259"/>
                </a:lnTo>
                <a:lnTo>
                  <a:pt x="1258" y="254"/>
                </a:lnTo>
                <a:lnTo>
                  <a:pt x="1256" y="250"/>
                </a:lnTo>
                <a:lnTo>
                  <a:pt x="1269" y="268"/>
                </a:lnTo>
                <a:lnTo>
                  <a:pt x="1277" y="290"/>
                </a:lnTo>
                <a:lnTo>
                  <a:pt x="1283" y="314"/>
                </a:lnTo>
                <a:lnTo>
                  <a:pt x="1287" y="338"/>
                </a:lnTo>
                <a:lnTo>
                  <a:pt x="1300" y="329"/>
                </a:lnTo>
                <a:lnTo>
                  <a:pt x="1312" y="319"/>
                </a:lnTo>
                <a:lnTo>
                  <a:pt x="1323" y="308"/>
                </a:lnTo>
                <a:lnTo>
                  <a:pt x="1336" y="298"/>
                </a:lnTo>
                <a:lnTo>
                  <a:pt x="1348" y="289"/>
                </a:lnTo>
                <a:lnTo>
                  <a:pt x="1361" y="280"/>
                </a:lnTo>
                <a:lnTo>
                  <a:pt x="1375" y="274"/>
                </a:lnTo>
                <a:lnTo>
                  <a:pt x="1388" y="268"/>
                </a:lnTo>
                <a:lnTo>
                  <a:pt x="1399" y="264"/>
                </a:lnTo>
                <a:lnTo>
                  <a:pt x="1411" y="260"/>
                </a:lnTo>
                <a:lnTo>
                  <a:pt x="1422" y="257"/>
                </a:lnTo>
                <a:lnTo>
                  <a:pt x="1433" y="254"/>
                </a:lnTo>
                <a:lnTo>
                  <a:pt x="1444" y="250"/>
                </a:lnTo>
                <a:lnTo>
                  <a:pt x="1455" y="247"/>
                </a:lnTo>
                <a:lnTo>
                  <a:pt x="1465" y="243"/>
                </a:lnTo>
                <a:lnTo>
                  <a:pt x="1475" y="237"/>
                </a:lnTo>
                <a:lnTo>
                  <a:pt x="1499" y="231"/>
                </a:lnTo>
                <a:lnTo>
                  <a:pt x="1522" y="225"/>
                </a:lnTo>
                <a:lnTo>
                  <a:pt x="1545" y="216"/>
                </a:lnTo>
                <a:lnTo>
                  <a:pt x="1567" y="206"/>
                </a:lnTo>
                <a:lnTo>
                  <a:pt x="1589" y="196"/>
                </a:lnTo>
                <a:lnTo>
                  <a:pt x="1610" y="184"/>
                </a:lnTo>
                <a:lnTo>
                  <a:pt x="1630" y="170"/>
                </a:lnTo>
                <a:lnTo>
                  <a:pt x="1650" y="156"/>
                </a:lnTo>
                <a:lnTo>
                  <a:pt x="1649" y="164"/>
                </a:lnTo>
                <a:lnTo>
                  <a:pt x="1646" y="170"/>
                </a:lnTo>
                <a:lnTo>
                  <a:pt x="1641" y="177"/>
                </a:lnTo>
                <a:lnTo>
                  <a:pt x="1636" y="184"/>
                </a:lnTo>
                <a:lnTo>
                  <a:pt x="1629" y="189"/>
                </a:lnTo>
                <a:lnTo>
                  <a:pt x="1622" y="194"/>
                </a:lnTo>
                <a:lnTo>
                  <a:pt x="1615" y="198"/>
                </a:lnTo>
                <a:lnTo>
                  <a:pt x="1609" y="203"/>
                </a:lnTo>
                <a:lnTo>
                  <a:pt x="1585" y="213"/>
                </a:lnTo>
                <a:lnTo>
                  <a:pt x="1562" y="221"/>
                </a:lnTo>
                <a:lnTo>
                  <a:pt x="1538" y="231"/>
                </a:lnTo>
                <a:lnTo>
                  <a:pt x="1516" y="241"/>
                </a:lnTo>
                <a:lnTo>
                  <a:pt x="1493" y="254"/>
                </a:lnTo>
                <a:lnTo>
                  <a:pt x="1472" y="267"/>
                </a:lnTo>
                <a:lnTo>
                  <a:pt x="1452" y="282"/>
                </a:lnTo>
                <a:lnTo>
                  <a:pt x="1433" y="300"/>
                </a:lnTo>
                <a:lnTo>
                  <a:pt x="1416" y="322"/>
                </a:lnTo>
                <a:lnTo>
                  <a:pt x="1398" y="345"/>
                </a:lnTo>
                <a:lnTo>
                  <a:pt x="1381" y="367"/>
                </a:lnTo>
                <a:lnTo>
                  <a:pt x="1362" y="388"/>
                </a:lnTo>
                <a:lnTo>
                  <a:pt x="1343" y="409"/>
                </a:lnTo>
                <a:lnTo>
                  <a:pt x="1323" y="429"/>
                </a:lnTo>
                <a:lnTo>
                  <a:pt x="1301" y="446"/>
                </a:lnTo>
                <a:lnTo>
                  <a:pt x="1277" y="461"/>
                </a:lnTo>
                <a:lnTo>
                  <a:pt x="1284" y="469"/>
                </a:lnTo>
                <a:lnTo>
                  <a:pt x="1292" y="475"/>
                </a:lnTo>
                <a:lnTo>
                  <a:pt x="1300" y="481"/>
                </a:lnTo>
                <a:lnTo>
                  <a:pt x="1308" y="485"/>
                </a:lnTo>
                <a:lnTo>
                  <a:pt x="1316" y="489"/>
                </a:lnTo>
                <a:lnTo>
                  <a:pt x="1327" y="491"/>
                </a:lnTo>
                <a:lnTo>
                  <a:pt x="1337" y="492"/>
                </a:lnTo>
                <a:lnTo>
                  <a:pt x="1347" y="492"/>
                </a:lnTo>
                <a:lnTo>
                  <a:pt x="1334" y="497"/>
                </a:lnTo>
                <a:lnTo>
                  <a:pt x="1322" y="501"/>
                </a:lnTo>
                <a:lnTo>
                  <a:pt x="1310" y="507"/>
                </a:lnTo>
                <a:lnTo>
                  <a:pt x="1297" y="513"/>
                </a:lnTo>
                <a:lnTo>
                  <a:pt x="1285" y="518"/>
                </a:lnTo>
                <a:lnTo>
                  <a:pt x="1273" y="522"/>
                </a:lnTo>
                <a:lnTo>
                  <a:pt x="1259" y="524"/>
                </a:lnTo>
                <a:lnTo>
                  <a:pt x="1245" y="524"/>
                </a:lnTo>
                <a:lnTo>
                  <a:pt x="1227" y="522"/>
                </a:lnTo>
                <a:lnTo>
                  <a:pt x="1212" y="525"/>
                </a:lnTo>
                <a:lnTo>
                  <a:pt x="1201" y="534"/>
                </a:lnTo>
                <a:lnTo>
                  <a:pt x="1192" y="546"/>
                </a:lnTo>
                <a:lnTo>
                  <a:pt x="1183" y="560"/>
                </a:lnTo>
                <a:lnTo>
                  <a:pt x="1175" y="574"/>
                </a:lnTo>
                <a:lnTo>
                  <a:pt x="1166" y="587"/>
                </a:lnTo>
                <a:lnTo>
                  <a:pt x="1156" y="599"/>
                </a:lnTo>
                <a:lnTo>
                  <a:pt x="1166" y="594"/>
                </a:lnTo>
                <a:lnTo>
                  <a:pt x="1177" y="590"/>
                </a:lnTo>
                <a:lnTo>
                  <a:pt x="1185" y="584"/>
                </a:lnTo>
                <a:lnTo>
                  <a:pt x="1196" y="579"/>
                </a:lnTo>
                <a:lnTo>
                  <a:pt x="1205" y="573"/>
                </a:lnTo>
                <a:lnTo>
                  <a:pt x="1213" y="566"/>
                </a:lnTo>
                <a:lnTo>
                  <a:pt x="1224" y="562"/>
                </a:lnTo>
                <a:lnTo>
                  <a:pt x="1234" y="558"/>
                </a:lnTo>
                <a:lnTo>
                  <a:pt x="1253" y="550"/>
                </a:lnTo>
                <a:lnTo>
                  <a:pt x="1273" y="543"/>
                </a:lnTo>
                <a:lnTo>
                  <a:pt x="1292" y="539"/>
                </a:lnTo>
                <a:lnTo>
                  <a:pt x="1313" y="535"/>
                </a:lnTo>
                <a:lnTo>
                  <a:pt x="1333" y="534"/>
                </a:lnTo>
                <a:lnTo>
                  <a:pt x="1353" y="534"/>
                </a:lnTo>
                <a:lnTo>
                  <a:pt x="1375" y="535"/>
                </a:lnTo>
                <a:lnTo>
                  <a:pt x="1396" y="538"/>
                </a:lnTo>
                <a:lnTo>
                  <a:pt x="1416" y="541"/>
                </a:lnTo>
                <a:lnTo>
                  <a:pt x="1437" y="544"/>
                </a:lnTo>
                <a:lnTo>
                  <a:pt x="1458" y="549"/>
                </a:lnTo>
                <a:lnTo>
                  <a:pt x="1479" y="553"/>
                </a:lnTo>
                <a:lnTo>
                  <a:pt x="1498" y="559"/>
                </a:lnTo>
                <a:lnTo>
                  <a:pt x="1518" y="564"/>
                </a:lnTo>
                <a:lnTo>
                  <a:pt x="1537" y="569"/>
                </a:lnTo>
                <a:lnTo>
                  <a:pt x="1556" y="574"/>
                </a:lnTo>
                <a:lnTo>
                  <a:pt x="1559" y="575"/>
                </a:lnTo>
                <a:lnTo>
                  <a:pt x="1563" y="578"/>
                </a:lnTo>
                <a:lnTo>
                  <a:pt x="1566" y="581"/>
                </a:lnTo>
                <a:lnTo>
                  <a:pt x="1571" y="583"/>
                </a:lnTo>
                <a:lnTo>
                  <a:pt x="1555" y="579"/>
                </a:lnTo>
                <a:lnTo>
                  <a:pt x="1539" y="576"/>
                </a:lnTo>
                <a:lnTo>
                  <a:pt x="1524" y="574"/>
                </a:lnTo>
                <a:lnTo>
                  <a:pt x="1508" y="574"/>
                </a:lnTo>
                <a:lnTo>
                  <a:pt x="1493" y="575"/>
                </a:lnTo>
                <a:lnTo>
                  <a:pt x="1478" y="576"/>
                </a:lnTo>
                <a:lnTo>
                  <a:pt x="1463" y="579"/>
                </a:lnTo>
                <a:lnTo>
                  <a:pt x="1449" y="582"/>
                </a:lnTo>
                <a:lnTo>
                  <a:pt x="1433" y="586"/>
                </a:lnTo>
                <a:lnTo>
                  <a:pt x="1418" y="591"/>
                </a:lnTo>
                <a:lnTo>
                  <a:pt x="1405" y="596"/>
                </a:lnTo>
                <a:lnTo>
                  <a:pt x="1390" y="602"/>
                </a:lnTo>
                <a:lnTo>
                  <a:pt x="1376" y="607"/>
                </a:lnTo>
                <a:lnTo>
                  <a:pt x="1362" y="613"/>
                </a:lnTo>
                <a:lnTo>
                  <a:pt x="1349" y="620"/>
                </a:lnTo>
                <a:lnTo>
                  <a:pt x="1336" y="626"/>
                </a:lnTo>
                <a:lnTo>
                  <a:pt x="1323" y="630"/>
                </a:lnTo>
                <a:lnTo>
                  <a:pt x="1310" y="632"/>
                </a:lnTo>
                <a:lnTo>
                  <a:pt x="1297" y="633"/>
                </a:lnTo>
                <a:lnTo>
                  <a:pt x="1284" y="633"/>
                </a:lnTo>
                <a:lnTo>
                  <a:pt x="1271" y="632"/>
                </a:lnTo>
                <a:lnTo>
                  <a:pt x="1257" y="631"/>
                </a:lnTo>
                <a:lnTo>
                  <a:pt x="1244" y="630"/>
                </a:lnTo>
                <a:lnTo>
                  <a:pt x="1231" y="627"/>
                </a:lnTo>
                <a:lnTo>
                  <a:pt x="1218" y="626"/>
                </a:lnTo>
                <a:lnTo>
                  <a:pt x="1205" y="626"/>
                </a:lnTo>
                <a:lnTo>
                  <a:pt x="1192" y="626"/>
                </a:lnTo>
                <a:lnTo>
                  <a:pt x="1180" y="627"/>
                </a:lnTo>
                <a:lnTo>
                  <a:pt x="1168" y="630"/>
                </a:lnTo>
                <a:lnTo>
                  <a:pt x="1155" y="633"/>
                </a:lnTo>
                <a:lnTo>
                  <a:pt x="1143" y="639"/>
                </a:lnTo>
                <a:lnTo>
                  <a:pt x="1132" y="646"/>
                </a:lnTo>
                <a:lnTo>
                  <a:pt x="1119" y="653"/>
                </a:lnTo>
                <a:lnTo>
                  <a:pt x="1108" y="662"/>
                </a:lnTo>
                <a:lnTo>
                  <a:pt x="1098" y="672"/>
                </a:lnTo>
                <a:lnTo>
                  <a:pt x="1089" y="683"/>
                </a:lnTo>
                <a:lnTo>
                  <a:pt x="1082" y="695"/>
                </a:lnTo>
                <a:lnTo>
                  <a:pt x="1077" y="708"/>
                </a:lnTo>
                <a:lnTo>
                  <a:pt x="1072" y="722"/>
                </a:lnTo>
                <a:lnTo>
                  <a:pt x="1070" y="735"/>
                </a:lnTo>
                <a:lnTo>
                  <a:pt x="1072" y="789"/>
                </a:lnTo>
                <a:lnTo>
                  <a:pt x="1077" y="843"/>
                </a:lnTo>
                <a:lnTo>
                  <a:pt x="1080" y="897"/>
                </a:lnTo>
                <a:lnTo>
                  <a:pt x="1077" y="951"/>
                </a:lnTo>
                <a:lnTo>
                  <a:pt x="1072" y="1003"/>
                </a:lnTo>
                <a:lnTo>
                  <a:pt x="1072" y="1056"/>
                </a:lnTo>
                <a:lnTo>
                  <a:pt x="1076" y="1107"/>
                </a:lnTo>
                <a:lnTo>
                  <a:pt x="1081" y="1158"/>
                </a:lnTo>
                <a:lnTo>
                  <a:pt x="1088" y="1208"/>
                </a:lnTo>
                <a:lnTo>
                  <a:pt x="1095" y="1259"/>
                </a:lnTo>
                <a:lnTo>
                  <a:pt x="1099" y="1310"/>
                </a:lnTo>
                <a:lnTo>
                  <a:pt x="1103" y="1362"/>
                </a:lnTo>
                <a:lnTo>
                  <a:pt x="1106" y="1407"/>
                </a:lnTo>
                <a:lnTo>
                  <a:pt x="1112" y="1452"/>
                </a:lnTo>
                <a:lnTo>
                  <a:pt x="1117" y="1496"/>
                </a:lnTo>
                <a:lnTo>
                  <a:pt x="1123" y="1540"/>
                </a:lnTo>
                <a:lnTo>
                  <a:pt x="1127" y="1586"/>
                </a:lnTo>
                <a:lnTo>
                  <a:pt x="1129" y="1630"/>
                </a:lnTo>
                <a:lnTo>
                  <a:pt x="1128" y="1676"/>
                </a:lnTo>
                <a:lnTo>
                  <a:pt x="1123" y="1722"/>
                </a:lnTo>
                <a:lnTo>
                  <a:pt x="1107" y="1848"/>
                </a:lnTo>
                <a:lnTo>
                  <a:pt x="1116" y="1837"/>
                </a:lnTo>
                <a:lnTo>
                  <a:pt x="1124" y="1825"/>
                </a:lnTo>
                <a:lnTo>
                  <a:pt x="1133" y="1813"/>
                </a:lnTo>
                <a:lnTo>
                  <a:pt x="1141" y="1801"/>
                </a:lnTo>
                <a:lnTo>
                  <a:pt x="1149" y="1789"/>
                </a:lnTo>
                <a:lnTo>
                  <a:pt x="1155" y="1777"/>
                </a:lnTo>
                <a:lnTo>
                  <a:pt x="1163" y="1764"/>
                </a:lnTo>
                <a:lnTo>
                  <a:pt x="1171" y="1752"/>
                </a:lnTo>
                <a:lnTo>
                  <a:pt x="1181" y="1732"/>
                </a:lnTo>
                <a:lnTo>
                  <a:pt x="1190" y="1712"/>
                </a:lnTo>
                <a:lnTo>
                  <a:pt x="1198" y="1692"/>
                </a:lnTo>
                <a:lnTo>
                  <a:pt x="1205" y="1671"/>
                </a:lnTo>
                <a:lnTo>
                  <a:pt x="1211" y="1650"/>
                </a:lnTo>
                <a:lnTo>
                  <a:pt x="1217" y="1628"/>
                </a:lnTo>
                <a:lnTo>
                  <a:pt x="1222" y="1607"/>
                </a:lnTo>
                <a:lnTo>
                  <a:pt x="1227" y="1585"/>
                </a:lnTo>
                <a:lnTo>
                  <a:pt x="1218" y="1586"/>
                </a:lnTo>
                <a:lnTo>
                  <a:pt x="1209" y="1587"/>
                </a:lnTo>
                <a:lnTo>
                  <a:pt x="1199" y="1588"/>
                </a:lnTo>
                <a:lnTo>
                  <a:pt x="1188" y="1588"/>
                </a:lnTo>
                <a:lnTo>
                  <a:pt x="1178" y="1588"/>
                </a:lnTo>
                <a:lnTo>
                  <a:pt x="1168" y="1587"/>
                </a:lnTo>
                <a:lnTo>
                  <a:pt x="1157" y="1586"/>
                </a:lnTo>
                <a:lnTo>
                  <a:pt x="1149" y="1584"/>
                </a:lnTo>
                <a:lnTo>
                  <a:pt x="1153" y="1575"/>
                </a:lnTo>
                <a:lnTo>
                  <a:pt x="1156" y="1565"/>
                </a:lnTo>
                <a:lnTo>
                  <a:pt x="1161" y="1555"/>
                </a:lnTo>
                <a:lnTo>
                  <a:pt x="1164" y="1545"/>
                </a:lnTo>
                <a:lnTo>
                  <a:pt x="1168" y="1536"/>
                </a:lnTo>
                <a:lnTo>
                  <a:pt x="1173" y="1526"/>
                </a:lnTo>
                <a:lnTo>
                  <a:pt x="1180" y="1517"/>
                </a:lnTo>
                <a:lnTo>
                  <a:pt x="1188" y="1509"/>
                </a:lnTo>
                <a:lnTo>
                  <a:pt x="1193" y="1505"/>
                </a:lnTo>
                <a:lnTo>
                  <a:pt x="1199" y="1502"/>
                </a:lnTo>
                <a:lnTo>
                  <a:pt x="1205" y="1498"/>
                </a:lnTo>
                <a:lnTo>
                  <a:pt x="1211" y="1495"/>
                </a:lnTo>
                <a:lnTo>
                  <a:pt x="1217" y="1492"/>
                </a:lnTo>
                <a:lnTo>
                  <a:pt x="1222" y="1489"/>
                </a:lnTo>
                <a:lnTo>
                  <a:pt x="1229" y="1487"/>
                </a:lnTo>
                <a:lnTo>
                  <a:pt x="1235" y="1484"/>
                </a:lnTo>
                <a:lnTo>
                  <a:pt x="1222" y="1459"/>
                </a:lnTo>
                <a:lnTo>
                  <a:pt x="1217" y="1432"/>
                </a:lnTo>
                <a:lnTo>
                  <a:pt x="1215" y="1403"/>
                </a:lnTo>
                <a:lnTo>
                  <a:pt x="1212" y="1375"/>
                </a:lnTo>
                <a:lnTo>
                  <a:pt x="1217" y="1376"/>
                </a:lnTo>
                <a:lnTo>
                  <a:pt x="1219" y="1380"/>
                </a:lnTo>
                <a:lnTo>
                  <a:pt x="1220" y="1383"/>
                </a:lnTo>
                <a:lnTo>
                  <a:pt x="1224" y="1386"/>
                </a:lnTo>
                <a:lnTo>
                  <a:pt x="1233" y="1394"/>
                </a:lnTo>
                <a:lnTo>
                  <a:pt x="1241" y="1402"/>
                </a:lnTo>
                <a:lnTo>
                  <a:pt x="1250" y="1408"/>
                </a:lnTo>
                <a:lnTo>
                  <a:pt x="1259" y="1415"/>
                </a:lnTo>
                <a:lnTo>
                  <a:pt x="1268" y="1422"/>
                </a:lnTo>
                <a:lnTo>
                  <a:pt x="1276" y="1429"/>
                </a:lnTo>
                <a:lnTo>
                  <a:pt x="1284" y="1437"/>
                </a:lnTo>
                <a:lnTo>
                  <a:pt x="1291" y="1447"/>
                </a:lnTo>
                <a:lnTo>
                  <a:pt x="1302" y="1437"/>
                </a:lnTo>
                <a:lnTo>
                  <a:pt x="1314" y="1431"/>
                </a:lnTo>
                <a:lnTo>
                  <a:pt x="1328" y="1427"/>
                </a:lnTo>
                <a:lnTo>
                  <a:pt x="1342" y="1425"/>
                </a:lnTo>
                <a:lnTo>
                  <a:pt x="1357" y="1422"/>
                </a:lnTo>
                <a:lnTo>
                  <a:pt x="1371" y="1418"/>
                </a:lnTo>
                <a:lnTo>
                  <a:pt x="1384" y="1413"/>
                </a:lnTo>
                <a:lnTo>
                  <a:pt x="1395" y="1403"/>
                </a:lnTo>
                <a:lnTo>
                  <a:pt x="1393" y="1411"/>
                </a:lnTo>
                <a:lnTo>
                  <a:pt x="1387" y="1417"/>
                </a:lnTo>
                <a:lnTo>
                  <a:pt x="1381" y="1424"/>
                </a:lnTo>
                <a:lnTo>
                  <a:pt x="1377" y="1431"/>
                </a:lnTo>
                <a:lnTo>
                  <a:pt x="1375" y="1444"/>
                </a:lnTo>
                <a:lnTo>
                  <a:pt x="1371" y="1457"/>
                </a:lnTo>
                <a:lnTo>
                  <a:pt x="1367" y="1470"/>
                </a:lnTo>
                <a:lnTo>
                  <a:pt x="1362" y="1483"/>
                </a:lnTo>
                <a:lnTo>
                  <a:pt x="1355" y="1494"/>
                </a:lnTo>
                <a:lnTo>
                  <a:pt x="1346" y="1504"/>
                </a:lnTo>
                <a:lnTo>
                  <a:pt x="1336" y="1513"/>
                </a:lnTo>
                <a:lnTo>
                  <a:pt x="1323" y="1519"/>
                </a:lnTo>
                <a:lnTo>
                  <a:pt x="1333" y="1535"/>
                </a:lnTo>
                <a:lnTo>
                  <a:pt x="1340" y="1551"/>
                </a:lnTo>
                <a:lnTo>
                  <a:pt x="1341" y="1569"/>
                </a:lnTo>
                <a:lnTo>
                  <a:pt x="1339" y="1588"/>
                </a:lnTo>
                <a:lnTo>
                  <a:pt x="1337" y="1596"/>
                </a:lnTo>
                <a:lnTo>
                  <a:pt x="1333" y="1604"/>
                </a:lnTo>
                <a:lnTo>
                  <a:pt x="1329" y="1610"/>
                </a:lnTo>
                <a:lnTo>
                  <a:pt x="1323" y="1617"/>
                </a:lnTo>
                <a:lnTo>
                  <a:pt x="1318" y="1624"/>
                </a:lnTo>
                <a:lnTo>
                  <a:pt x="1311" y="1630"/>
                </a:lnTo>
                <a:lnTo>
                  <a:pt x="1304" y="1636"/>
                </a:lnTo>
                <a:lnTo>
                  <a:pt x="1297" y="1641"/>
                </a:lnTo>
                <a:lnTo>
                  <a:pt x="1301" y="1627"/>
                </a:lnTo>
                <a:lnTo>
                  <a:pt x="1299" y="1612"/>
                </a:lnTo>
                <a:lnTo>
                  <a:pt x="1293" y="1598"/>
                </a:lnTo>
                <a:lnTo>
                  <a:pt x="1283" y="1587"/>
                </a:lnTo>
                <a:lnTo>
                  <a:pt x="1263" y="1575"/>
                </a:lnTo>
                <a:lnTo>
                  <a:pt x="1256" y="1588"/>
                </a:lnTo>
                <a:lnTo>
                  <a:pt x="1250" y="1603"/>
                </a:lnTo>
                <a:lnTo>
                  <a:pt x="1246" y="1617"/>
                </a:lnTo>
                <a:lnTo>
                  <a:pt x="1241" y="1631"/>
                </a:lnTo>
                <a:lnTo>
                  <a:pt x="1238" y="1647"/>
                </a:lnTo>
                <a:lnTo>
                  <a:pt x="1234" y="1661"/>
                </a:lnTo>
                <a:lnTo>
                  <a:pt x="1230" y="1677"/>
                </a:lnTo>
                <a:lnTo>
                  <a:pt x="1226" y="1691"/>
                </a:lnTo>
                <a:lnTo>
                  <a:pt x="1218" y="1712"/>
                </a:lnTo>
                <a:lnTo>
                  <a:pt x="1210" y="1732"/>
                </a:lnTo>
                <a:lnTo>
                  <a:pt x="1201" y="1753"/>
                </a:lnTo>
                <a:lnTo>
                  <a:pt x="1192" y="1773"/>
                </a:lnTo>
                <a:lnTo>
                  <a:pt x="1183" y="1793"/>
                </a:lnTo>
                <a:lnTo>
                  <a:pt x="1174" y="1813"/>
                </a:lnTo>
                <a:lnTo>
                  <a:pt x="1164" y="1833"/>
                </a:lnTo>
                <a:lnTo>
                  <a:pt x="1154" y="1853"/>
                </a:lnTo>
                <a:lnTo>
                  <a:pt x="1177" y="1834"/>
                </a:lnTo>
                <a:lnTo>
                  <a:pt x="1197" y="1815"/>
                </a:lnTo>
                <a:lnTo>
                  <a:pt x="1217" y="1796"/>
                </a:lnTo>
                <a:lnTo>
                  <a:pt x="1237" y="1774"/>
                </a:lnTo>
                <a:lnTo>
                  <a:pt x="1255" y="1754"/>
                </a:lnTo>
                <a:lnTo>
                  <a:pt x="1273" y="1733"/>
                </a:lnTo>
                <a:lnTo>
                  <a:pt x="1291" y="1711"/>
                </a:lnTo>
                <a:lnTo>
                  <a:pt x="1308" y="1690"/>
                </a:lnTo>
                <a:lnTo>
                  <a:pt x="1323" y="1668"/>
                </a:lnTo>
                <a:lnTo>
                  <a:pt x="1339" y="1646"/>
                </a:lnTo>
                <a:lnTo>
                  <a:pt x="1355" y="1624"/>
                </a:lnTo>
                <a:lnTo>
                  <a:pt x="1370" y="1600"/>
                </a:lnTo>
                <a:lnTo>
                  <a:pt x="1385" y="1578"/>
                </a:lnTo>
                <a:lnTo>
                  <a:pt x="1399" y="1556"/>
                </a:lnTo>
                <a:lnTo>
                  <a:pt x="1415" y="1533"/>
                </a:lnTo>
                <a:lnTo>
                  <a:pt x="1430" y="1510"/>
                </a:lnTo>
                <a:lnTo>
                  <a:pt x="1444" y="1495"/>
                </a:lnTo>
                <a:lnTo>
                  <a:pt x="1460" y="1478"/>
                </a:lnTo>
                <a:lnTo>
                  <a:pt x="1474" y="1462"/>
                </a:lnTo>
                <a:lnTo>
                  <a:pt x="1489" y="1445"/>
                </a:lnTo>
                <a:lnTo>
                  <a:pt x="1505" y="1428"/>
                </a:lnTo>
                <a:lnTo>
                  <a:pt x="1519" y="1412"/>
                </a:lnTo>
                <a:lnTo>
                  <a:pt x="1535" y="1395"/>
                </a:lnTo>
                <a:lnTo>
                  <a:pt x="1550" y="1378"/>
                </a:lnTo>
                <a:lnTo>
                  <a:pt x="1566" y="1362"/>
                </a:lnTo>
                <a:lnTo>
                  <a:pt x="1582" y="1346"/>
                </a:lnTo>
                <a:lnTo>
                  <a:pt x="1597" y="1331"/>
                </a:lnTo>
                <a:lnTo>
                  <a:pt x="1614" y="1316"/>
                </a:lnTo>
                <a:lnTo>
                  <a:pt x="1631" y="1302"/>
                </a:lnTo>
                <a:lnTo>
                  <a:pt x="1648" y="1289"/>
                </a:lnTo>
                <a:lnTo>
                  <a:pt x="1665" y="1275"/>
                </a:lnTo>
                <a:lnTo>
                  <a:pt x="1683" y="1263"/>
                </a:lnTo>
                <a:lnTo>
                  <a:pt x="1692" y="1256"/>
                </a:lnTo>
                <a:lnTo>
                  <a:pt x="1702" y="1250"/>
                </a:lnTo>
                <a:lnTo>
                  <a:pt x="1711" y="1243"/>
                </a:lnTo>
                <a:lnTo>
                  <a:pt x="1720" y="1235"/>
                </a:lnTo>
                <a:lnTo>
                  <a:pt x="1728" y="1228"/>
                </a:lnTo>
                <a:lnTo>
                  <a:pt x="1739" y="1221"/>
                </a:lnTo>
                <a:lnTo>
                  <a:pt x="1748" y="1215"/>
                </a:lnTo>
                <a:lnTo>
                  <a:pt x="1758" y="1210"/>
                </a:lnTo>
                <a:lnTo>
                  <a:pt x="1760" y="1210"/>
                </a:lnTo>
                <a:lnTo>
                  <a:pt x="1761" y="1210"/>
                </a:lnTo>
                <a:lnTo>
                  <a:pt x="1763" y="1211"/>
                </a:lnTo>
                <a:lnTo>
                  <a:pt x="1764" y="1212"/>
                </a:lnTo>
                <a:lnTo>
                  <a:pt x="1765" y="1205"/>
                </a:lnTo>
                <a:lnTo>
                  <a:pt x="1784" y="1195"/>
                </a:lnTo>
                <a:lnTo>
                  <a:pt x="1802" y="1187"/>
                </a:lnTo>
                <a:lnTo>
                  <a:pt x="1821" y="1177"/>
                </a:lnTo>
                <a:lnTo>
                  <a:pt x="1839" y="1167"/>
                </a:lnTo>
                <a:lnTo>
                  <a:pt x="1858" y="1157"/>
                </a:lnTo>
                <a:lnTo>
                  <a:pt x="1876" y="1147"/>
                </a:lnTo>
                <a:lnTo>
                  <a:pt x="1894" y="1135"/>
                </a:lnTo>
                <a:lnTo>
                  <a:pt x="1912" y="1124"/>
                </a:lnTo>
                <a:lnTo>
                  <a:pt x="1923" y="1120"/>
                </a:lnTo>
                <a:lnTo>
                  <a:pt x="1914" y="1130"/>
                </a:lnTo>
                <a:lnTo>
                  <a:pt x="1904" y="1140"/>
                </a:lnTo>
                <a:lnTo>
                  <a:pt x="1894" y="1148"/>
                </a:lnTo>
                <a:lnTo>
                  <a:pt x="1884" y="1157"/>
                </a:lnTo>
                <a:lnTo>
                  <a:pt x="1873" y="1164"/>
                </a:lnTo>
                <a:lnTo>
                  <a:pt x="1863" y="1173"/>
                </a:lnTo>
                <a:lnTo>
                  <a:pt x="1853" y="1182"/>
                </a:lnTo>
                <a:lnTo>
                  <a:pt x="1843" y="1192"/>
                </a:lnTo>
                <a:lnTo>
                  <a:pt x="1824" y="1215"/>
                </a:lnTo>
                <a:lnTo>
                  <a:pt x="1807" y="1240"/>
                </a:lnTo>
                <a:lnTo>
                  <a:pt x="1791" y="1264"/>
                </a:lnTo>
                <a:lnTo>
                  <a:pt x="1776" y="1289"/>
                </a:lnTo>
                <a:lnTo>
                  <a:pt x="1759" y="1314"/>
                </a:lnTo>
                <a:lnTo>
                  <a:pt x="1742" y="1338"/>
                </a:lnTo>
                <a:lnTo>
                  <a:pt x="1724" y="1363"/>
                </a:lnTo>
                <a:lnTo>
                  <a:pt x="1704" y="1386"/>
                </a:lnTo>
                <a:lnTo>
                  <a:pt x="1692" y="1407"/>
                </a:lnTo>
                <a:lnTo>
                  <a:pt x="1679" y="1429"/>
                </a:lnTo>
                <a:lnTo>
                  <a:pt x="1665" y="1449"/>
                </a:lnTo>
                <a:lnTo>
                  <a:pt x="1649" y="1470"/>
                </a:lnTo>
                <a:lnTo>
                  <a:pt x="1633" y="1490"/>
                </a:lnTo>
                <a:lnTo>
                  <a:pt x="1617" y="1509"/>
                </a:lnTo>
                <a:lnTo>
                  <a:pt x="1599" y="1529"/>
                </a:lnTo>
                <a:lnTo>
                  <a:pt x="1581" y="1548"/>
                </a:lnTo>
                <a:lnTo>
                  <a:pt x="1563" y="1567"/>
                </a:lnTo>
                <a:lnTo>
                  <a:pt x="1544" y="1585"/>
                </a:lnTo>
                <a:lnTo>
                  <a:pt x="1524" y="1604"/>
                </a:lnTo>
                <a:lnTo>
                  <a:pt x="1505" y="1621"/>
                </a:lnTo>
                <a:lnTo>
                  <a:pt x="1484" y="1639"/>
                </a:lnTo>
                <a:lnTo>
                  <a:pt x="1465" y="1657"/>
                </a:lnTo>
                <a:lnTo>
                  <a:pt x="1445" y="1673"/>
                </a:lnTo>
                <a:lnTo>
                  <a:pt x="1426" y="1691"/>
                </a:lnTo>
                <a:lnTo>
                  <a:pt x="1413" y="1701"/>
                </a:lnTo>
                <a:lnTo>
                  <a:pt x="1400" y="1710"/>
                </a:lnTo>
                <a:lnTo>
                  <a:pt x="1387" y="1719"/>
                </a:lnTo>
                <a:lnTo>
                  <a:pt x="1374" y="1728"/>
                </a:lnTo>
                <a:lnTo>
                  <a:pt x="1360" y="1737"/>
                </a:lnTo>
                <a:lnTo>
                  <a:pt x="1347" y="1746"/>
                </a:lnTo>
                <a:lnTo>
                  <a:pt x="1333" y="1754"/>
                </a:lnTo>
                <a:lnTo>
                  <a:pt x="1320" y="1763"/>
                </a:lnTo>
                <a:lnTo>
                  <a:pt x="1306" y="1772"/>
                </a:lnTo>
                <a:lnTo>
                  <a:pt x="1294" y="1781"/>
                </a:lnTo>
                <a:lnTo>
                  <a:pt x="1281" y="1791"/>
                </a:lnTo>
                <a:lnTo>
                  <a:pt x="1268" y="1801"/>
                </a:lnTo>
                <a:lnTo>
                  <a:pt x="1256" y="1812"/>
                </a:lnTo>
                <a:lnTo>
                  <a:pt x="1244" y="1823"/>
                </a:lnTo>
                <a:lnTo>
                  <a:pt x="1233" y="1835"/>
                </a:lnTo>
                <a:lnTo>
                  <a:pt x="1221" y="1848"/>
                </a:lnTo>
                <a:lnTo>
                  <a:pt x="1179" y="1894"/>
                </a:lnTo>
                <a:lnTo>
                  <a:pt x="1179" y="1895"/>
                </a:lnTo>
                <a:lnTo>
                  <a:pt x="1206" y="1879"/>
                </a:lnTo>
                <a:lnTo>
                  <a:pt x="1233" y="1862"/>
                </a:lnTo>
                <a:lnTo>
                  <a:pt x="1259" y="1847"/>
                </a:lnTo>
                <a:lnTo>
                  <a:pt x="1287" y="1831"/>
                </a:lnTo>
                <a:lnTo>
                  <a:pt x="1315" y="1815"/>
                </a:lnTo>
                <a:lnTo>
                  <a:pt x="1342" y="1801"/>
                </a:lnTo>
                <a:lnTo>
                  <a:pt x="1370" y="1787"/>
                </a:lnTo>
                <a:lnTo>
                  <a:pt x="1398" y="1773"/>
                </a:lnTo>
                <a:lnTo>
                  <a:pt x="1427" y="1760"/>
                </a:lnTo>
                <a:lnTo>
                  <a:pt x="1455" y="1748"/>
                </a:lnTo>
                <a:lnTo>
                  <a:pt x="1484" y="1736"/>
                </a:lnTo>
                <a:lnTo>
                  <a:pt x="1514" y="1725"/>
                </a:lnTo>
                <a:lnTo>
                  <a:pt x="1544" y="1715"/>
                </a:lnTo>
                <a:lnTo>
                  <a:pt x="1574" y="1705"/>
                </a:lnTo>
                <a:lnTo>
                  <a:pt x="1604" y="1697"/>
                </a:lnTo>
                <a:lnTo>
                  <a:pt x="1634" y="1689"/>
                </a:lnTo>
                <a:lnTo>
                  <a:pt x="1647" y="1687"/>
                </a:lnTo>
                <a:lnTo>
                  <a:pt x="1659" y="1685"/>
                </a:lnTo>
                <a:lnTo>
                  <a:pt x="1673" y="1682"/>
                </a:lnTo>
                <a:lnTo>
                  <a:pt x="1685" y="1679"/>
                </a:lnTo>
                <a:lnTo>
                  <a:pt x="1697" y="1677"/>
                </a:lnTo>
                <a:lnTo>
                  <a:pt x="1709" y="1675"/>
                </a:lnTo>
                <a:lnTo>
                  <a:pt x="1722" y="1671"/>
                </a:lnTo>
                <a:lnTo>
                  <a:pt x="1734" y="1669"/>
                </a:lnTo>
                <a:lnTo>
                  <a:pt x="1746" y="1667"/>
                </a:lnTo>
                <a:lnTo>
                  <a:pt x="1760" y="1664"/>
                </a:lnTo>
                <a:lnTo>
                  <a:pt x="1772" y="1660"/>
                </a:lnTo>
                <a:lnTo>
                  <a:pt x="1784" y="1658"/>
                </a:lnTo>
                <a:lnTo>
                  <a:pt x="1797" y="1655"/>
                </a:lnTo>
                <a:lnTo>
                  <a:pt x="1809" y="1652"/>
                </a:lnTo>
                <a:lnTo>
                  <a:pt x="1821" y="1649"/>
                </a:lnTo>
                <a:lnTo>
                  <a:pt x="1834" y="1646"/>
                </a:lnTo>
                <a:lnTo>
                  <a:pt x="1851" y="1644"/>
                </a:lnTo>
                <a:lnTo>
                  <a:pt x="1867" y="1640"/>
                </a:lnTo>
                <a:lnTo>
                  <a:pt x="1884" y="1638"/>
                </a:lnTo>
                <a:lnTo>
                  <a:pt x="1901" y="1635"/>
                </a:lnTo>
                <a:lnTo>
                  <a:pt x="1918" y="1631"/>
                </a:lnTo>
                <a:lnTo>
                  <a:pt x="1934" y="1629"/>
                </a:lnTo>
                <a:lnTo>
                  <a:pt x="1951" y="1626"/>
                </a:lnTo>
                <a:lnTo>
                  <a:pt x="1968" y="1622"/>
                </a:lnTo>
                <a:lnTo>
                  <a:pt x="1985" y="1620"/>
                </a:lnTo>
                <a:lnTo>
                  <a:pt x="2003" y="1618"/>
                </a:lnTo>
                <a:lnTo>
                  <a:pt x="2020" y="1615"/>
                </a:lnTo>
                <a:lnTo>
                  <a:pt x="2036" y="1612"/>
                </a:lnTo>
                <a:lnTo>
                  <a:pt x="2053" y="1611"/>
                </a:lnTo>
                <a:lnTo>
                  <a:pt x="2071" y="1609"/>
                </a:lnTo>
                <a:lnTo>
                  <a:pt x="2088" y="1608"/>
                </a:lnTo>
                <a:lnTo>
                  <a:pt x="2106" y="1607"/>
                </a:lnTo>
                <a:lnTo>
                  <a:pt x="2111" y="1605"/>
                </a:lnTo>
                <a:lnTo>
                  <a:pt x="2118" y="1604"/>
                </a:lnTo>
                <a:lnTo>
                  <a:pt x="2124" y="1604"/>
                </a:lnTo>
                <a:lnTo>
                  <a:pt x="2128" y="1603"/>
                </a:lnTo>
                <a:lnTo>
                  <a:pt x="2128" y="1606"/>
                </a:lnTo>
                <a:lnTo>
                  <a:pt x="2108" y="1610"/>
                </a:lnTo>
                <a:lnTo>
                  <a:pt x="2089" y="1615"/>
                </a:lnTo>
                <a:lnTo>
                  <a:pt x="2070" y="1621"/>
                </a:lnTo>
                <a:lnTo>
                  <a:pt x="2051" y="1627"/>
                </a:lnTo>
                <a:lnTo>
                  <a:pt x="2032" y="1634"/>
                </a:lnTo>
                <a:lnTo>
                  <a:pt x="2014" y="1641"/>
                </a:lnTo>
                <a:lnTo>
                  <a:pt x="1995" y="1648"/>
                </a:lnTo>
                <a:lnTo>
                  <a:pt x="1977" y="1657"/>
                </a:lnTo>
                <a:lnTo>
                  <a:pt x="1959" y="1665"/>
                </a:lnTo>
                <a:lnTo>
                  <a:pt x="1940" y="1673"/>
                </a:lnTo>
                <a:lnTo>
                  <a:pt x="1922" y="1681"/>
                </a:lnTo>
                <a:lnTo>
                  <a:pt x="1904" y="1690"/>
                </a:lnTo>
                <a:lnTo>
                  <a:pt x="1886" y="1699"/>
                </a:lnTo>
                <a:lnTo>
                  <a:pt x="1868" y="1708"/>
                </a:lnTo>
                <a:lnTo>
                  <a:pt x="1849" y="1716"/>
                </a:lnTo>
                <a:lnTo>
                  <a:pt x="1831" y="1725"/>
                </a:lnTo>
                <a:lnTo>
                  <a:pt x="1811" y="1731"/>
                </a:lnTo>
                <a:lnTo>
                  <a:pt x="1792" y="1738"/>
                </a:lnTo>
                <a:lnTo>
                  <a:pt x="1772" y="1744"/>
                </a:lnTo>
                <a:lnTo>
                  <a:pt x="1753" y="1752"/>
                </a:lnTo>
                <a:lnTo>
                  <a:pt x="1733" y="1759"/>
                </a:lnTo>
                <a:lnTo>
                  <a:pt x="1714" y="1767"/>
                </a:lnTo>
                <a:lnTo>
                  <a:pt x="1694" y="1774"/>
                </a:lnTo>
                <a:lnTo>
                  <a:pt x="1675" y="1781"/>
                </a:lnTo>
                <a:lnTo>
                  <a:pt x="1655" y="1789"/>
                </a:lnTo>
                <a:lnTo>
                  <a:pt x="1636" y="1796"/>
                </a:lnTo>
                <a:lnTo>
                  <a:pt x="1615" y="1802"/>
                </a:lnTo>
                <a:lnTo>
                  <a:pt x="1595" y="1808"/>
                </a:lnTo>
                <a:lnTo>
                  <a:pt x="1575" y="1813"/>
                </a:lnTo>
                <a:lnTo>
                  <a:pt x="1554" y="1819"/>
                </a:lnTo>
                <a:lnTo>
                  <a:pt x="1533" y="1822"/>
                </a:lnTo>
                <a:lnTo>
                  <a:pt x="1511" y="1825"/>
                </a:lnTo>
                <a:lnTo>
                  <a:pt x="1499" y="1828"/>
                </a:lnTo>
                <a:lnTo>
                  <a:pt x="1487" y="1830"/>
                </a:lnTo>
                <a:lnTo>
                  <a:pt x="1474" y="1831"/>
                </a:lnTo>
                <a:lnTo>
                  <a:pt x="1462" y="1833"/>
                </a:lnTo>
                <a:lnTo>
                  <a:pt x="1450" y="1835"/>
                </a:lnTo>
                <a:lnTo>
                  <a:pt x="1437" y="1839"/>
                </a:lnTo>
                <a:lnTo>
                  <a:pt x="1425" y="1841"/>
                </a:lnTo>
                <a:lnTo>
                  <a:pt x="1414" y="1844"/>
                </a:lnTo>
                <a:lnTo>
                  <a:pt x="1430" y="1848"/>
                </a:lnTo>
                <a:lnTo>
                  <a:pt x="1446" y="1851"/>
                </a:lnTo>
                <a:lnTo>
                  <a:pt x="1463" y="1853"/>
                </a:lnTo>
                <a:lnTo>
                  <a:pt x="1480" y="1857"/>
                </a:lnTo>
                <a:lnTo>
                  <a:pt x="1496" y="1861"/>
                </a:lnTo>
                <a:lnTo>
                  <a:pt x="1511" y="1865"/>
                </a:lnTo>
                <a:lnTo>
                  <a:pt x="1527" y="1871"/>
                </a:lnTo>
                <a:lnTo>
                  <a:pt x="1542" y="1879"/>
                </a:lnTo>
                <a:lnTo>
                  <a:pt x="1565" y="1892"/>
                </a:lnTo>
                <a:lnTo>
                  <a:pt x="1589" y="1905"/>
                </a:lnTo>
                <a:lnTo>
                  <a:pt x="1611" y="1922"/>
                </a:lnTo>
                <a:lnTo>
                  <a:pt x="1632" y="1939"/>
                </a:lnTo>
                <a:lnTo>
                  <a:pt x="1652" y="1956"/>
                </a:lnTo>
                <a:lnTo>
                  <a:pt x="1673" y="1975"/>
                </a:lnTo>
                <a:lnTo>
                  <a:pt x="1693" y="1995"/>
                </a:lnTo>
                <a:lnTo>
                  <a:pt x="1712" y="2015"/>
                </a:lnTo>
                <a:lnTo>
                  <a:pt x="1730" y="2036"/>
                </a:lnTo>
                <a:lnTo>
                  <a:pt x="1748" y="2058"/>
                </a:lnTo>
                <a:lnTo>
                  <a:pt x="1764" y="2081"/>
                </a:lnTo>
                <a:lnTo>
                  <a:pt x="1781" y="2102"/>
                </a:lnTo>
                <a:lnTo>
                  <a:pt x="1798" y="2124"/>
                </a:lnTo>
                <a:lnTo>
                  <a:pt x="1814" y="2146"/>
                </a:lnTo>
                <a:lnTo>
                  <a:pt x="1829" y="2168"/>
                </a:lnTo>
                <a:lnTo>
                  <a:pt x="1845" y="2189"/>
                </a:lnTo>
                <a:lnTo>
                  <a:pt x="1831" y="2182"/>
                </a:lnTo>
                <a:lnTo>
                  <a:pt x="1818" y="2173"/>
                </a:lnTo>
                <a:lnTo>
                  <a:pt x="1805" y="2163"/>
                </a:lnTo>
                <a:lnTo>
                  <a:pt x="1792" y="2152"/>
                </a:lnTo>
                <a:lnTo>
                  <a:pt x="1779" y="2142"/>
                </a:lnTo>
                <a:lnTo>
                  <a:pt x="1767" y="2131"/>
                </a:lnTo>
                <a:lnTo>
                  <a:pt x="1754" y="2119"/>
                </a:lnTo>
                <a:lnTo>
                  <a:pt x="1741" y="2109"/>
                </a:lnTo>
                <a:lnTo>
                  <a:pt x="1730" y="2094"/>
                </a:lnTo>
                <a:lnTo>
                  <a:pt x="1718" y="2079"/>
                </a:lnTo>
                <a:lnTo>
                  <a:pt x="1706" y="2067"/>
                </a:lnTo>
                <a:lnTo>
                  <a:pt x="1694" y="2054"/>
                </a:lnTo>
                <a:lnTo>
                  <a:pt x="1680" y="2043"/>
                </a:lnTo>
                <a:lnTo>
                  <a:pt x="1667" y="2033"/>
                </a:lnTo>
                <a:lnTo>
                  <a:pt x="1652" y="2022"/>
                </a:lnTo>
                <a:lnTo>
                  <a:pt x="1638" y="2013"/>
                </a:lnTo>
                <a:lnTo>
                  <a:pt x="1623" y="2004"/>
                </a:lnTo>
                <a:lnTo>
                  <a:pt x="1608" y="1995"/>
                </a:lnTo>
                <a:lnTo>
                  <a:pt x="1592" y="1987"/>
                </a:lnTo>
                <a:lnTo>
                  <a:pt x="1576" y="1980"/>
                </a:lnTo>
                <a:lnTo>
                  <a:pt x="1562" y="1972"/>
                </a:lnTo>
                <a:lnTo>
                  <a:pt x="1546" y="1964"/>
                </a:lnTo>
                <a:lnTo>
                  <a:pt x="1530" y="1957"/>
                </a:lnTo>
                <a:lnTo>
                  <a:pt x="1515" y="1950"/>
                </a:lnTo>
                <a:lnTo>
                  <a:pt x="1500" y="1946"/>
                </a:lnTo>
                <a:lnTo>
                  <a:pt x="1484" y="1944"/>
                </a:lnTo>
                <a:lnTo>
                  <a:pt x="1469" y="1941"/>
                </a:lnTo>
                <a:lnTo>
                  <a:pt x="1453" y="1938"/>
                </a:lnTo>
                <a:lnTo>
                  <a:pt x="1437" y="1935"/>
                </a:lnTo>
                <a:lnTo>
                  <a:pt x="1421" y="1932"/>
                </a:lnTo>
                <a:lnTo>
                  <a:pt x="1405" y="1930"/>
                </a:lnTo>
                <a:lnTo>
                  <a:pt x="1389" y="1928"/>
                </a:lnTo>
                <a:lnTo>
                  <a:pt x="1372" y="1926"/>
                </a:lnTo>
                <a:lnTo>
                  <a:pt x="1357" y="1925"/>
                </a:lnTo>
                <a:lnTo>
                  <a:pt x="1340" y="1925"/>
                </a:lnTo>
                <a:lnTo>
                  <a:pt x="1324" y="1925"/>
                </a:lnTo>
                <a:lnTo>
                  <a:pt x="1308" y="1928"/>
                </a:lnTo>
                <a:lnTo>
                  <a:pt x="1292" y="1930"/>
                </a:lnTo>
                <a:lnTo>
                  <a:pt x="1276" y="1933"/>
                </a:lnTo>
                <a:lnTo>
                  <a:pt x="1260" y="1938"/>
                </a:lnTo>
                <a:lnTo>
                  <a:pt x="1247" y="1941"/>
                </a:lnTo>
                <a:lnTo>
                  <a:pt x="1235" y="1944"/>
                </a:lnTo>
                <a:lnTo>
                  <a:pt x="1221" y="1946"/>
                </a:lnTo>
                <a:lnTo>
                  <a:pt x="1208" y="1950"/>
                </a:lnTo>
                <a:lnTo>
                  <a:pt x="1194" y="1952"/>
                </a:lnTo>
                <a:lnTo>
                  <a:pt x="1181" y="1955"/>
                </a:lnTo>
                <a:lnTo>
                  <a:pt x="1168" y="1959"/>
                </a:lnTo>
                <a:lnTo>
                  <a:pt x="1155" y="1961"/>
                </a:lnTo>
                <a:lnTo>
                  <a:pt x="1142" y="1965"/>
                </a:lnTo>
                <a:lnTo>
                  <a:pt x="1129" y="1969"/>
                </a:lnTo>
                <a:lnTo>
                  <a:pt x="1117" y="1973"/>
                </a:lnTo>
                <a:lnTo>
                  <a:pt x="1105" y="1979"/>
                </a:lnTo>
                <a:lnTo>
                  <a:pt x="1093" y="1984"/>
                </a:lnTo>
                <a:lnTo>
                  <a:pt x="1080" y="1991"/>
                </a:lnTo>
                <a:lnTo>
                  <a:pt x="1069" y="1997"/>
                </a:lnTo>
                <a:lnTo>
                  <a:pt x="1058" y="2005"/>
                </a:lnTo>
                <a:lnTo>
                  <a:pt x="1038" y="2012"/>
                </a:lnTo>
                <a:lnTo>
                  <a:pt x="1020" y="2011"/>
                </a:lnTo>
                <a:lnTo>
                  <a:pt x="1003" y="2005"/>
                </a:lnTo>
                <a:lnTo>
                  <a:pt x="987" y="1996"/>
                </a:lnTo>
                <a:lnTo>
                  <a:pt x="971" y="1987"/>
                </a:lnTo>
                <a:lnTo>
                  <a:pt x="955" y="1979"/>
                </a:lnTo>
                <a:lnTo>
                  <a:pt x="937" y="1973"/>
                </a:lnTo>
                <a:lnTo>
                  <a:pt x="918" y="1973"/>
                </a:lnTo>
                <a:lnTo>
                  <a:pt x="890" y="1970"/>
                </a:lnTo>
                <a:lnTo>
                  <a:pt x="862" y="1970"/>
                </a:lnTo>
                <a:lnTo>
                  <a:pt x="835" y="1971"/>
                </a:lnTo>
                <a:lnTo>
                  <a:pt x="808" y="1975"/>
                </a:lnTo>
                <a:lnTo>
                  <a:pt x="782" y="1981"/>
                </a:lnTo>
                <a:lnTo>
                  <a:pt x="758" y="1989"/>
                </a:lnTo>
                <a:lnTo>
                  <a:pt x="733" y="1997"/>
                </a:lnTo>
                <a:lnTo>
                  <a:pt x="709" y="2009"/>
                </a:lnTo>
                <a:lnTo>
                  <a:pt x="685" y="2021"/>
                </a:lnTo>
                <a:lnTo>
                  <a:pt x="662" y="2034"/>
                </a:lnTo>
                <a:lnTo>
                  <a:pt x="639" y="2048"/>
                </a:lnTo>
                <a:lnTo>
                  <a:pt x="617" y="2063"/>
                </a:lnTo>
                <a:lnTo>
                  <a:pt x="594" y="2079"/>
                </a:lnTo>
                <a:lnTo>
                  <a:pt x="573" y="2095"/>
                </a:lnTo>
                <a:lnTo>
                  <a:pt x="551" y="2112"/>
                </a:lnTo>
                <a:lnTo>
                  <a:pt x="529" y="2128"/>
                </a:lnTo>
                <a:lnTo>
                  <a:pt x="513" y="2146"/>
                </a:lnTo>
                <a:lnTo>
                  <a:pt x="496" y="2163"/>
                </a:lnTo>
                <a:lnTo>
                  <a:pt x="478" y="2178"/>
                </a:lnTo>
                <a:lnTo>
                  <a:pt x="460" y="2193"/>
                </a:lnTo>
                <a:lnTo>
                  <a:pt x="440" y="2205"/>
                </a:lnTo>
                <a:lnTo>
                  <a:pt x="419" y="2213"/>
                </a:lnTo>
                <a:lnTo>
                  <a:pt x="396" y="2218"/>
                </a:lnTo>
                <a:lnTo>
                  <a:pt x="373" y="2220"/>
                </a:lnTo>
                <a:lnTo>
                  <a:pt x="393" y="2210"/>
                </a:lnTo>
                <a:lnTo>
                  <a:pt x="412" y="2197"/>
                </a:lnTo>
                <a:lnTo>
                  <a:pt x="430" y="2184"/>
                </a:lnTo>
                <a:lnTo>
                  <a:pt x="445" y="2169"/>
                </a:lnTo>
                <a:lnTo>
                  <a:pt x="460" y="2153"/>
                </a:lnTo>
                <a:lnTo>
                  <a:pt x="475" y="2136"/>
                </a:lnTo>
                <a:lnTo>
                  <a:pt x="487" y="2118"/>
                </a:lnTo>
                <a:lnTo>
                  <a:pt x="500" y="2099"/>
                </a:lnTo>
                <a:lnTo>
                  <a:pt x="513" y="2082"/>
                </a:lnTo>
                <a:lnTo>
                  <a:pt x="526" y="2064"/>
                </a:lnTo>
                <a:lnTo>
                  <a:pt x="539" y="2045"/>
                </a:lnTo>
                <a:lnTo>
                  <a:pt x="553" y="2027"/>
                </a:lnTo>
                <a:lnTo>
                  <a:pt x="567" y="2011"/>
                </a:lnTo>
                <a:lnTo>
                  <a:pt x="583" y="1995"/>
                </a:lnTo>
                <a:lnTo>
                  <a:pt x="600" y="1980"/>
                </a:lnTo>
                <a:lnTo>
                  <a:pt x="618" y="1966"/>
                </a:lnTo>
                <a:lnTo>
                  <a:pt x="625" y="1961"/>
                </a:lnTo>
                <a:lnTo>
                  <a:pt x="632" y="1956"/>
                </a:lnTo>
                <a:lnTo>
                  <a:pt x="640" y="1952"/>
                </a:lnTo>
                <a:lnTo>
                  <a:pt x="648" y="1947"/>
                </a:lnTo>
                <a:lnTo>
                  <a:pt x="656" y="1944"/>
                </a:lnTo>
                <a:lnTo>
                  <a:pt x="664" y="1940"/>
                </a:lnTo>
                <a:lnTo>
                  <a:pt x="670" y="1935"/>
                </a:lnTo>
                <a:lnTo>
                  <a:pt x="678" y="1931"/>
                </a:lnTo>
                <a:lnTo>
                  <a:pt x="666" y="1931"/>
                </a:lnTo>
                <a:lnTo>
                  <a:pt x="653" y="1932"/>
                </a:lnTo>
                <a:lnTo>
                  <a:pt x="640" y="1932"/>
                </a:lnTo>
                <a:lnTo>
                  <a:pt x="628" y="1933"/>
                </a:lnTo>
                <a:lnTo>
                  <a:pt x="614" y="1933"/>
                </a:lnTo>
                <a:lnTo>
                  <a:pt x="602" y="1934"/>
                </a:lnTo>
                <a:lnTo>
                  <a:pt x="590" y="1934"/>
                </a:lnTo>
                <a:lnTo>
                  <a:pt x="576" y="1934"/>
                </a:lnTo>
                <a:lnTo>
                  <a:pt x="564" y="1935"/>
                </a:lnTo>
                <a:lnTo>
                  <a:pt x="552" y="1934"/>
                </a:lnTo>
                <a:lnTo>
                  <a:pt x="538" y="1934"/>
                </a:lnTo>
                <a:lnTo>
                  <a:pt x="526" y="1934"/>
                </a:lnTo>
                <a:lnTo>
                  <a:pt x="514" y="1933"/>
                </a:lnTo>
                <a:lnTo>
                  <a:pt x="501" y="1932"/>
                </a:lnTo>
                <a:lnTo>
                  <a:pt x="489" y="1930"/>
                </a:lnTo>
                <a:lnTo>
                  <a:pt x="477" y="1928"/>
                </a:lnTo>
                <a:lnTo>
                  <a:pt x="448" y="1922"/>
                </a:lnTo>
                <a:lnTo>
                  <a:pt x="417" y="1918"/>
                </a:lnTo>
                <a:lnTo>
                  <a:pt x="388" y="1912"/>
                </a:lnTo>
                <a:lnTo>
                  <a:pt x="358" y="1908"/>
                </a:lnTo>
                <a:lnTo>
                  <a:pt x="329" y="1902"/>
                </a:lnTo>
                <a:lnTo>
                  <a:pt x="299" y="1898"/>
                </a:lnTo>
                <a:lnTo>
                  <a:pt x="270" y="1891"/>
                </a:lnTo>
                <a:lnTo>
                  <a:pt x="241" y="1885"/>
                </a:lnTo>
                <a:lnTo>
                  <a:pt x="211" y="1879"/>
                </a:lnTo>
                <a:lnTo>
                  <a:pt x="183" y="1871"/>
                </a:lnTo>
                <a:lnTo>
                  <a:pt x="154" y="1863"/>
                </a:lnTo>
                <a:lnTo>
                  <a:pt x="126" y="1854"/>
                </a:lnTo>
                <a:lnTo>
                  <a:pt x="99" y="1844"/>
                </a:lnTo>
                <a:lnTo>
                  <a:pt x="71" y="1833"/>
                </a:lnTo>
                <a:lnTo>
                  <a:pt x="45" y="1821"/>
                </a:lnTo>
                <a:lnTo>
                  <a:pt x="19" y="1808"/>
                </a:lnTo>
                <a:lnTo>
                  <a:pt x="13" y="1803"/>
                </a:lnTo>
                <a:lnTo>
                  <a:pt x="9" y="1798"/>
                </a:lnTo>
                <a:lnTo>
                  <a:pt x="4" y="1791"/>
                </a:lnTo>
                <a:lnTo>
                  <a:pt x="0" y="1786"/>
                </a:lnTo>
                <a:lnTo>
                  <a:pt x="18" y="1792"/>
                </a:lnTo>
                <a:lnTo>
                  <a:pt x="35" y="1799"/>
                </a:lnTo>
                <a:lnTo>
                  <a:pt x="52" y="1806"/>
                </a:lnTo>
                <a:lnTo>
                  <a:pt x="69" y="1811"/>
                </a:lnTo>
                <a:lnTo>
                  <a:pt x="87" y="1818"/>
                </a:lnTo>
                <a:lnTo>
                  <a:pt x="105" y="1822"/>
                </a:lnTo>
                <a:lnTo>
                  <a:pt x="124" y="1825"/>
                </a:lnTo>
                <a:lnTo>
                  <a:pt x="143" y="1828"/>
                </a:lnTo>
                <a:lnTo>
                  <a:pt x="276" y="1819"/>
                </a:lnTo>
                <a:lnTo>
                  <a:pt x="557" y="1814"/>
                </a:lnTo>
                <a:lnTo>
                  <a:pt x="569" y="1814"/>
                </a:lnTo>
                <a:lnTo>
                  <a:pt x="581" y="1815"/>
                </a:lnTo>
                <a:lnTo>
                  <a:pt x="592" y="1815"/>
                </a:lnTo>
                <a:lnTo>
                  <a:pt x="604" y="1817"/>
                </a:lnTo>
                <a:lnTo>
                  <a:pt x="616" y="1817"/>
                </a:lnTo>
                <a:lnTo>
                  <a:pt x="628" y="1818"/>
                </a:lnTo>
                <a:lnTo>
                  <a:pt x="639" y="1818"/>
                </a:lnTo>
                <a:lnTo>
                  <a:pt x="651" y="1819"/>
                </a:lnTo>
                <a:lnTo>
                  <a:pt x="663" y="1820"/>
                </a:lnTo>
                <a:lnTo>
                  <a:pt x="674" y="1820"/>
                </a:lnTo>
                <a:lnTo>
                  <a:pt x="686" y="1821"/>
                </a:lnTo>
                <a:lnTo>
                  <a:pt x="697" y="1821"/>
                </a:lnTo>
                <a:lnTo>
                  <a:pt x="710" y="1822"/>
                </a:lnTo>
                <a:lnTo>
                  <a:pt x="721" y="1822"/>
                </a:lnTo>
                <a:lnTo>
                  <a:pt x="733" y="1823"/>
                </a:lnTo>
                <a:lnTo>
                  <a:pt x="744" y="1823"/>
                </a:lnTo>
                <a:lnTo>
                  <a:pt x="729" y="1818"/>
                </a:lnTo>
                <a:lnTo>
                  <a:pt x="713" y="1812"/>
                </a:lnTo>
                <a:lnTo>
                  <a:pt x="698" y="1807"/>
                </a:lnTo>
                <a:lnTo>
                  <a:pt x="683" y="1800"/>
                </a:lnTo>
                <a:lnTo>
                  <a:pt x="668" y="1793"/>
                </a:lnTo>
                <a:lnTo>
                  <a:pt x="654" y="1786"/>
                </a:lnTo>
                <a:lnTo>
                  <a:pt x="639" y="1778"/>
                </a:lnTo>
                <a:lnTo>
                  <a:pt x="625" y="1769"/>
                </a:lnTo>
                <a:lnTo>
                  <a:pt x="611" y="1760"/>
                </a:lnTo>
                <a:lnTo>
                  <a:pt x="597" y="1751"/>
                </a:lnTo>
                <a:lnTo>
                  <a:pt x="583" y="1741"/>
                </a:lnTo>
                <a:lnTo>
                  <a:pt x="570" y="1730"/>
                </a:lnTo>
                <a:lnTo>
                  <a:pt x="557" y="1719"/>
                </a:lnTo>
                <a:lnTo>
                  <a:pt x="545" y="1708"/>
                </a:lnTo>
                <a:lnTo>
                  <a:pt x="533" y="1696"/>
                </a:lnTo>
                <a:lnTo>
                  <a:pt x="520" y="1682"/>
                </a:lnTo>
                <a:lnTo>
                  <a:pt x="503" y="1660"/>
                </a:lnTo>
                <a:lnTo>
                  <a:pt x="483" y="1639"/>
                </a:lnTo>
                <a:lnTo>
                  <a:pt x="466" y="1617"/>
                </a:lnTo>
                <a:lnTo>
                  <a:pt x="448" y="1595"/>
                </a:lnTo>
                <a:lnTo>
                  <a:pt x="430" y="1574"/>
                </a:lnTo>
                <a:lnTo>
                  <a:pt x="412" y="1551"/>
                </a:lnTo>
                <a:lnTo>
                  <a:pt x="394" y="1529"/>
                </a:lnTo>
                <a:lnTo>
                  <a:pt x="377" y="1507"/>
                </a:lnTo>
                <a:lnTo>
                  <a:pt x="363" y="1483"/>
                </a:lnTo>
                <a:lnTo>
                  <a:pt x="346" y="1458"/>
                </a:lnTo>
                <a:lnTo>
                  <a:pt x="328" y="1434"/>
                </a:lnTo>
                <a:lnTo>
                  <a:pt x="309" y="1411"/>
                </a:lnTo>
                <a:lnTo>
                  <a:pt x="288" y="1388"/>
                </a:lnTo>
                <a:lnTo>
                  <a:pt x="265" y="1367"/>
                </a:lnTo>
                <a:lnTo>
                  <a:pt x="242" y="1348"/>
                </a:lnTo>
                <a:lnTo>
                  <a:pt x="218" y="1331"/>
                </a:lnTo>
                <a:lnTo>
                  <a:pt x="210" y="1323"/>
                </a:lnTo>
                <a:lnTo>
                  <a:pt x="218" y="1325"/>
                </a:lnTo>
                <a:lnTo>
                  <a:pt x="225" y="1331"/>
                </a:lnTo>
                <a:lnTo>
                  <a:pt x="233" y="1335"/>
                </a:lnTo>
                <a:lnTo>
                  <a:pt x="241" y="1338"/>
                </a:lnTo>
                <a:lnTo>
                  <a:pt x="261" y="1341"/>
                </a:lnTo>
                <a:lnTo>
                  <a:pt x="280" y="1346"/>
                </a:lnTo>
                <a:lnTo>
                  <a:pt x="299" y="1352"/>
                </a:lnTo>
                <a:lnTo>
                  <a:pt x="317" y="1361"/>
                </a:lnTo>
                <a:lnTo>
                  <a:pt x="333" y="1370"/>
                </a:lnTo>
                <a:lnTo>
                  <a:pt x="350" y="1380"/>
                </a:lnTo>
                <a:lnTo>
                  <a:pt x="367" y="1391"/>
                </a:lnTo>
                <a:lnTo>
                  <a:pt x="384" y="1403"/>
                </a:lnTo>
                <a:lnTo>
                  <a:pt x="394" y="1414"/>
                </a:lnTo>
                <a:lnTo>
                  <a:pt x="405" y="1423"/>
                </a:lnTo>
                <a:lnTo>
                  <a:pt x="417" y="1431"/>
                </a:lnTo>
                <a:lnTo>
                  <a:pt x="430" y="1437"/>
                </a:lnTo>
                <a:lnTo>
                  <a:pt x="443" y="1445"/>
                </a:lnTo>
                <a:lnTo>
                  <a:pt x="455" y="1452"/>
                </a:lnTo>
                <a:lnTo>
                  <a:pt x="468" y="1461"/>
                </a:lnTo>
                <a:lnTo>
                  <a:pt x="479" y="1470"/>
                </a:lnTo>
                <a:lnTo>
                  <a:pt x="499" y="1479"/>
                </a:lnTo>
                <a:lnTo>
                  <a:pt x="518" y="1489"/>
                </a:lnTo>
                <a:lnTo>
                  <a:pt x="537" y="1499"/>
                </a:lnTo>
                <a:lnTo>
                  <a:pt x="557" y="1509"/>
                </a:lnTo>
                <a:lnTo>
                  <a:pt x="575" y="1522"/>
                </a:lnTo>
                <a:lnTo>
                  <a:pt x="594" y="1534"/>
                </a:lnTo>
                <a:lnTo>
                  <a:pt x="613" y="1546"/>
                </a:lnTo>
                <a:lnTo>
                  <a:pt x="631" y="1560"/>
                </a:lnTo>
                <a:lnTo>
                  <a:pt x="649" y="1578"/>
                </a:lnTo>
                <a:lnTo>
                  <a:pt x="666" y="1596"/>
                </a:lnTo>
                <a:lnTo>
                  <a:pt x="683" y="1614"/>
                </a:lnTo>
                <a:lnTo>
                  <a:pt x="697" y="1632"/>
                </a:lnTo>
                <a:lnTo>
                  <a:pt x="712" y="1651"/>
                </a:lnTo>
                <a:lnTo>
                  <a:pt x="726" y="1670"/>
                </a:lnTo>
                <a:lnTo>
                  <a:pt x="740" y="1689"/>
                </a:lnTo>
                <a:lnTo>
                  <a:pt x="753" y="1708"/>
                </a:lnTo>
                <a:lnTo>
                  <a:pt x="767" y="1728"/>
                </a:lnTo>
                <a:lnTo>
                  <a:pt x="780" y="1747"/>
                </a:lnTo>
                <a:lnTo>
                  <a:pt x="794" y="1766"/>
                </a:lnTo>
                <a:lnTo>
                  <a:pt x="808" y="1784"/>
                </a:lnTo>
                <a:lnTo>
                  <a:pt x="823" y="1803"/>
                </a:lnTo>
                <a:lnTo>
                  <a:pt x="838" y="1821"/>
                </a:lnTo>
                <a:lnTo>
                  <a:pt x="855" y="1840"/>
                </a:lnTo>
                <a:lnTo>
                  <a:pt x="873" y="1858"/>
                </a:lnTo>
                <a:lnTo>
                  <a:pt x="888" y="1868"/>
                </a:lnTo>
                <a:lnTo>
                  <a:pt x="902" y="1878"/>
                </a:lnTo>
                <a:lnTo>
                  <a:pt x="917" y="1888"/>
                </a:lnTo>
                <a:lnTo>
                  <a:pt x="931" y="1896"/>
                </a:lnTo>
                <a:lnTo>
                  <a:pt x="947" y="1906"/>
                </a:lnTo>
                <a:lnTo>
                  <a:pt x="962" y="1916"/>
                </a:lnTo>
                <a:lnTo>
                  <a:pt x="975" y="1928"/>
                </a:lnTo>
                <a:lnTo>
                  <a:pt x="990" y="1939"/>
                </a:lnTo>
                <a:lnTo>
                  <a:pt x="1007" y="1947"/>
                </a:lnTo>
                <a:lnTo>
                  <a:pt x="994" y="1906"/>
                </a:lnTo>
                <a:lnTo>
                  <a:pt x="976" y="1868"/>
                </a:lnTo>
                <a:lnTo>
                  <a:pt x="955" y="1830"/>
                </a:lnTo>
                <a:lnTo>
                  <a:pt x="932" y="1792"/>
                </a:lnTo>
                <a:lnTo>
                  <a:pt x="909" y="1756"/>
                </a:lnTo>
                <a:lnTo>
                  <a:pt x="885" y="1719"/>
                </a:lnTo>
                <a:lnTo>
                  <a:pt x="863" y="1681"/>
                </a:lnTo>
                <a:lnTo>
                  <a:pt x="843" y="1642"/>
                </a:lnTo>
                <a:lnTo>
                  <a:pt x="835" y="1629"/>
                </a:lnTo>
                <a:lnTo>
                  <a:pt x="827" y="1616"/>
                </a:lnTo>
                <a:lnTo>
                  <a:pt x="822" y="1601"/>
                </a:lnTo>
                <a:lnTo>
                  <a:pt x="816" y="1587"/>
                </a:lnTo>
                <a:lnTo>
                  <a:pt x="812" y="1573"/>
                </a:lnTo>
                <a:lnTo>
                  <a:pt x="807" y="1558"/>
                </a:lnTo>
                <a:lnTo>
                  <a:pt x="803" y="1544"/>
                </a:lnTo>
                <a:lnTo>
                  <a:pt x="798" y="1529"/>
                </a:lnTo>
                <a:lnTo>
                  <a:pt x="789" y="1490"/>
                </a:lnTo>
                <a:lnTo>
                  <a:pt x="780" y="1452"/>
                </a:lnTo>
                <a:lnTo>
                  <a:pt x="773" y="1412"/>
                </a:lnTo>
                <a:lnTo>
                  <a:pt x="768" y="1372"/>
                </a:lnTo>
                <a:lnTo>
                  <a:pt x="762" y="1331"/>
                </a:lnTo>
                <a:lnTo>
                  <a:pt x="759" y="1290"/>
                </a:lnTo>
                <a:lnTo>
                  <a:pt x="754" y="1249"/>
                </a:lnTo>
                <a:lnTo>
                  <a:pt x="751" y="1208"/>
                </a:lnTo>
                <a:lnTo>
                  <a:pt x="745" y="1180"/>
                </a:lnTo>
                <a:lnTo>
                  <a:pt x="739" y="1153"/>
                </a:lnTo>
                <a:lnTo>
                  <a:pt x="729" y="1128"/>
                </a:lnTo>
                <a:lnTo>
                  <a:pt x="720" y="1102"/>
                </a:lnTo>
                <a:lnTo>
                  <a:pt x="738" y="1121"/>
                </a:lnTo>
                <a:lnTo>
                  <a:pt x="846" y="1329"/>
                </a:lnTo>
                <a:lnTo>
                  <a:pt x="869" y="1365"/>
                </a:lnTo>
                <a:lnTo>
                  <a:pt x="889" y="1403"/>
                </a:lnTo>
                <a:lnTo>
                  <a:pt x="908" y="1441"/>
                </a:lnTo>
                <a:lnTo>
                  <a:pt x="925" y="1479"/>
                </a:lnTo>
                <a:lnTo>
                  <a:pt x="940" y="1519"/>
                </a:lnTo>
                <a:lnTo>
                  <a:pt x="953" y="1559"/>
                </a:lnTo>
                <a:lnTo>
                  <a:pt x="964" y="1600"/>
                </a:lnTo>
                <a:lnTo>
                  <a:pt x="972" y="1642"/>
                </a:lnTo>
                <a:lnTo>
                  <a:pt x="974" y="1675"/>
                </a:lnTo>
                <a:lnTo>
                  <a:pt x="978" y="1707"/>
                </a:lnTo>
                <a:lnTo>
                  <a:pt x="983" y="1739"/>
                </a:lnTo>
                <a:lnTo>
                  <a:pt x="990" y="1770"/>
                </a:lnTo>
                <a:lnTo>
                  <a:pt x="996" y="1801"/>
                </a:lnTo>
                <a:lnTo>
                  <a:pt x="1005" y="1831"/>
                </a:lnTo>
                <a:lnTo>
                  <a:pt x="1014" y="1861"/>
                </a:lnTo>
                <a:lnTo>
                  <a:pt x="1025" y="1890"/>
                </a:lnTo>
                <a:lnTo>
                  <a:pt x="1025" y="1892"/>
                </a:lnTo>
                <a:lnTo>
                  <a:pt x="1025" y="1894"/>
                </a:lnTo>
                <a:lnTo>
                  <a:pt x="1026" y="1898"/>
                </a:lnTo>
                <a:lnTo>
                  <a:pt x="1028" y="1900"/>
                </a:lnTo>
                <a:lnTo>
                  <a:pt x="1032" y="1880"/>
                </a:lnTo>
                <a:lnTo>
                  <a:pt x="1034" y="1859"/>
                </a:lnTo>
                <a:lnTo>
                  <a:pt x="1035" y="1838"/>
                </a:lnTo>
                <a:lnTo>
                  <a:pt x="1039" y="1818"/>
                </a:lnTo>
                <a:lnTo>
                  <a:pt x="1047" y="1773"/>
                </a:lnTo>
                <a:lnTo>
                  <a:pt x="1054" y="1728"/>
                </a:lnTo>
                <a:lnTo>
                  <a:pt x="1059" y="1681"/>
                </a:lnTo>
                <a:lnTo>
                  <a:pt x="1059" y="1634"/>
                </a:lnTo>
                <a:lnTo>
                  <a:pt x="1061" y="1631"/>
                </a:lnTo>
                <a:lnTo>
                  <a:pt x="1059" y="1551"/>
                </a:lnTo>
                <a:lnTo>
                  <a:pt x="1057" y="1470"/>
                </a:lnTo>
                <a:lnTo>
                  <a:pt x="1053" y="1390"/>
                </a:lnTo>
                <a:lnTo>
                  <a:pt x="1044" y="1312"/>
                </a:lnTo>
                <a:lnTo>
                  <a:pt x="1046" y="1267"/>
                </a:lnTo>
                <a:lnTo>
                  <a:pt x="1041" y="1226"/>
                </a:lnTo>
                <a:lnTo>
                  <a:pt x="1034" y="1185"/>
                </a:lnTo>
                <a:lnTo>
                  <a:pt x="1031" y="1144"/>
                </a:lnTo>
                <a:lnTo>
                  <a:pt x="1025" y="1087"/>
                </a:lnTo>
                <a:lnTo>
                  <a:pt x="1024" y="1029"/>
                </a:lnTo>
                <a:lnTo>
                  <a:pt x="1028" y="971"/>
                </a:lnTo>
                <a:lnTo>
                  <a:pt x="1032" y="915"/>
                </a:lnTo>
                <a:lnTo>
                  <a:pt x="1037" y="858"/>
                </a:lnTo>
                <a:lnTo>
                  <a:pt x="1039" y="800"/>
                </a:lnTo>
                <a:lnTo>
                  <a:pt x="1038" y="744"/>
                </a:lnTo>
                <a:lnTo>
                  <a:pt x="1032" y="686"/>
                </a:lnTo>
                <a:lnTo>
                  <a:pt x="1028" y="675"/>
                </a:lnTo>
                <a:lnTo>
                  <a:pt x="1021" y="664"/>
                </a:lnTo>
                <a:lnTo>
                  <a:pt x="1013" y="654"/>
                </a:lnTo>
                <a:lnTo>
                  <a:pt x="1004" y="644"/>
                </a:lnTo>
                <a:lnTo>
                  <a:pt x="995" y="653"/>
                </a:lnTo>
                <a:lnTo>
                  <a:pt x="986" y="662"/>
                </a:lnTo>
                <a:lnTo>
                  <a:pt x="977" y="671"/>
                </a:lnTo>
                <a:lnTo>
                  <a:pt x="967" y="680"/>
                </a:lnTo>
                <a:lnTo>
                  <a:pt x="957" y="687"/>
                </a:lnTo>
                <a:lnTo>
                  <a:pt x="947" y="695"/>
                </a:lnTo>
                <a:lnTo>
                  <a:pt x="937" y="701"/>
                </a:lnTo>
                <a:lnTo>
                  <a:pt x="926" y="705"/>
                </a:lnTo>
                <a:lnTo>
                  <a:pt x="932" y="690"/>
                </a:lnTo>
                <a:lnTo>
                  <a:pt x="939" y="674"/>
                </a:lnTo>
                <a:lnTo>
                  <a:pt x="944" y="658"/>
                </a:lnTo>
                <a:lnTo>
                  <a:pt x="945" y="641"/>
                </a:lnTo>
                <a:lnTo>
                  <a:pt x="922" y="647"/>
                </a:lnTo>
                <a:lnTo>
                  <a:pt x="903" y="660"/>
                </a:lnTo>
                <a:lnTo>
                  <a:pt x="884" y="675"/>
                </a:lnTo>
                <a:lnTo>
                  <a:pt x="868" y="693"/>
                </a:lnTo>
                <a:lnTo>
                  <a:pt x="851" y="712"/>
                </a:lnTo>
                <a:lnTo>
                  <a:pt x="832" y="727"/>
                </a:lnTo>
                <a:lnTo>
                  <a:pt x="813" y="741"/>
                </a:lnTo>
                <a:lnTo>
                  <a:pt x="790" y="747"/>
                </a:lnTo>
                <a:lnTo>
                  <a:pt x="772" y="753"/>
                </a:lnTo>
                <a:lnTo>
                  <a:pt x="754" y="757"/>
                </a:lnTo>
                <a:lnTo>
                  <a:pt x="737" y="759"/>
                </a:lnTo>
                <a:lnTo>
                  <a:pt x="717" y="762"/>
                </a:lnTo>
                <a:lnTo>
                  <a:pt x="698" y="763"/>
                </a:lnTo>
                <a:lnTo>
                  <a:pt x="679" y="764"/>
                </a:lnTo>
                <a:lnTo>
                  <a:pt x="660" y="764"/>
                </a:lnTo>
                <a:lnTo>
                  <a:pt x="641" y="764"/>
                </a:lnTo>
                <a:lnTo>
                  <a:pt x="642" y="758"/>
                </a:lnTo>
                <a:lnTo>
                  <a:pt x="660" y="754"/>
                </a:lnTo>
                <a:lnTo>
                  <a:pt x="677" y="747"/>
                </a:lnTo>
                <a:lnTo>
                  <a:pt x="693" y="738"/>
                </a:lnTo>
                <a:lnTo>
                  <a:pt x="709" y="728"/>
                </a:lnTo>
                <a:lnTo>
                  <a:pt x="723" y="717"/>
                </a:lnTo>
                <a:lnTo>
                  <a:pt x="738" y="705"/>
                </a:lnTo>
                <a:lnTo>
                  <a:pt x="752" y="693"/>
                </a:lnTo>
                <a:lnTo>
                  <a:pt x="767" y="680"/>
                </a:lnTo>
                <a:lnTo>
                  <a:pt x="781" y="667"/>
                </a:lnTo>
                <a:lnTo>
                  <a:pt x="796" y="655"/>
                </a:lnTo>
                <a:lnTo>
                  <a:pt x="810" y="644"/>
                </a:lnTo>
                <a:lnTo>
                  <a:pt x="826" y="634"/>
                </a:lnTo>
                <a:lnTo>
                  <a:pt x="843" y="625"/>
                </a:lnTo>
                <a:lnTo>
                  <a:pt x="860" y="620"/>
                </a:lnTo>
                <a:lnTo>
                  <a:pt x="878" y="615"/>
                </a:lnTo>
                <a:lnTo>
                  <a:pt x="897" y="614"/>
                </a:lnTo>
                <a:lnTo>
                  <a:pt x="927" y="611"/>
                </a:lnTo>
                <a:lnTo>
                  <a:pt x="925" y="604"/>
                </a:lnTo>
                <a:lnTo>
                  <a:pt x="920" y="597"/>
                </a:lnTo>
                <a:lnTo>
                  <a:pt x="916" y="591"/>
                </a:lnTo>
                <a:lnTo>
                  <a:pt x="909" y="586"/>
                </a:lnTo>
                <a:lnTo>
                  <a:pt x="890" y="585"/>
                </a:lnTo>
                <a:lnTo>
                  <a:pt x="872" y="589"/>
                </a:lnTo>
                <a:lnTo>
                  <a:pt x="856" y="596"/>
                </a:lnTo>
                <a:lnTo>
                  <a:pt x="842" y="607"/>
                </a:lnTo>
                <a:lnTo>
                  <a:pt x="826" y="619"/>
                </a:lnTo>
                <a:lnTo>
                  <a:pt x="812" y="630"/>
                </a:lnTo>
                <a:lnTo>
                  <a:pt x="797" y="640"/>
                </a:lnTo>
                <a:lnTo>
                  <a:pt x="780" y="646"/>
                </a:lnTo>
                <a:lnTo>
                  <a:pt x="785" y="634"/>
                </a:lnTo>
                <a:lnTo>
                  <a:pt x="789" y="623"/>
                </a:lnTo>
                <a:lnTo>
                  <a:pt x="795" y="611"/>
                </a:lnTo>
                <a:lnTo>
                  <a:pt x="799" y="600"/>
                </a:lnTo>
                <a:lnTo>
                  <a:pt x="792" y="601"/>
                </a:lnTo>
                <a:lnTo>
                  <a:pt x="785" y="603"/>
                </a:lnTo>
                <a:lnTo>
                  <a:pt x="778" y="605"/>
                </a:lnTo>
                <a:lnTo>
                  <a:pt x="770" y="607"/>
                </a:lnTo>
                <a:lnTo>
                  <a:pt x="763" y="610"/>
                </a:lnTo>
                <a:lnTo>
                  <a:pt x="756" y="611"/>
                </a:lnTo>
                <a:lnTo>
                  <a:pt x="748" y="612"/>
                </a:lnTo>
                <a:lnTo>
                  <a:pt x="740" y="613"/>
                </a:lnTo>
                <a:lnTo>
                  <a:pt x="725" y="612"/>
                </a:lnTo>
                <a:lnTo>
                  <a:pt x="711" y="611"/>
                </a:lnTo>
                <a:lnTo>
                  <a:pt x="696" y="610"/>
                </a:lnTo>
                <a:lnTo>
                  <a:pt x="682" y="609"/>
                </a:lnTo>
                <a:lnTo>
                  <a:pt x="667" y="606"/>
                </a:lnTo>
                <a:lnTo>
                  <a:pt x="653" y="605"/>
                </a:lnTo>
                <a:lnTo>
                  <a:pt x="638" y="603"/>
                </a:lnTo>
                <a:lnTo>
                  <a:pt x="623" y="602"/>
                </a:lnTo>
                <a:lnTo>
                  <a:pt x="609" y="600"/>
                </a:lnTo>
                <a:lnTo>
                  <a:pt x="594" y="596"/>
                </a:lnTo>
                <a:lnTo>
                  <a:pt x="581" y="594"/>
                </a:lnTo>
                <a:lnTo>
                  <a:pt x="566" y="591"/>
                </a:lnTo>
                <a:lnTo>
                  <a:pt x="553" y="587"/>
                </a:lnTo>
                <a:lnTo>
                  <a:pt x="539" y="583"/>
                </a:lnTo>
                <a:lnTo>
                  <a:pt x="526" y="579"/>
                </a:lnTo>
                <a:lnTo>
                  <a:pt x="513" y="574"/>
                </a:lnTo>
                <a:lnTo>
                  <a:pt x="510" y="572"/>
                </a:lnTo>
                <a:lnTo>
                  <a:pt x="528" y="574"/>
                </a:lnTo>
                <a:lnTo>
                  <a:pt x="545" y="575"/>
                </a:lnTo>
                <a:lnTo>
                  <a:pt x="563" y="575"/>
                </a:lnTo>
                <a:lnTo>
                  <a:pt x="580" y="574"/>
                </a:lnTo>
                <a:lnTo>
                  <a:pt x="595" y="572"/>
                </a:lnTo>
                <a:lnTo>
                  <a:pt x="612" y="569"/>
                </a:lnTo>
                <a:lnTo>
                  <a:pt x="628" y="565"/>
                </a:lnTo>
                <a:lnTo>
                  <a:pt x="645" y="561"/>
                </a:lnTo>
                <a:lnTo>
                  <a:pt x="660" y="556"/>
                </a:lnTo>
                <a:lnTo>
                  <a:pt x="676" y="552"/>
                </a:lnTo>
                <a:lnTo>
                  <a:pt x="691" y="546"/>
                </a:lnTo>
                <a:lnTo>
                  <a:pt x="706" y="542"/>
                </a:lnTo>
                <a:lnTo>
                  <a:pt x="722" y="536"/>
                </a:lnTo>
                <a:lnTo>
                  <a:pt x="738" y="531"/>
                </a:lnTo>
                <a:lnTo>
                  <a:pt x="752" y="525"/>
                </a:lnTo>
                <a:lnTo>
                  <a:pt x="768" y="521"/>
                </a:lnTo>
                <a:lnTo>
                  <a:pt x="772" y="520"/>
                </a:lnTo>
                <a:lnTo>
                  <a:pt x="777" y="519"/>
                </a:lnTo>
                <a:lnTo>
                  <a:pt x="781" y="519"/>
                </a:lnTo>
                <a:lnTo>
                  <a:pt x="787" y="518"/>
                </a:lnTo>
                <a:lnTo>
                  <a:pt x="791" y="517"/>
                </a:lnTo>
                <a:lnTo>
                  <a:pt x="796" y="515"/>
                </a:lnTo>
                <a:lnTo>
                  <a:pt x="800" y="515"/>
                </a:lnTo>
                <a:lnTo>
                  <a:pt x="805" y="514"/>
                </a:lnTo>
                <a:lnTo>
                  <a:pt x="785" y="509"/>
                </a:lnTo>
                <a:lnTo>
                  <a:pt x="766" y="501"/>
                </a:lnTo>
                <a:lnTo>
                  <a:pt x="747" y="492"/>
                </a:lnTo>
                <a:lnTo>
                  <a:pt x="728" y="481"/>
                </a:lnTo>
                <a:lnTo>
                  <a:pt x="711" y="469"/>
                </a:lnTo>
                <a:lnTo>
                  <a:pt x="693" y="455"/>
                </a:lnTo>
                <a:lnTo>
                  <a:pt x="677" y="441"/>
                </a:lnTo>
                <a:lnTo>
                  <a:pt x="660" y="427"/>
                </a:lnTo>
                <a:lnTo>
                  <a:pt x="646" y="410"/>
                </a:lnTo>
                <a:lnTo>
                  <a:pt x="631" y="393"/>
                </a:lnTo>
                <a:lnTo>
                  <a:pt x="617" y="377"/>
                </a:lnTo>
                <a:lnTo>
                  <a:pt x="603" y="359"/>
                </a:lnTo>
                <a:lnTo>
                  <a:pt x="591" y="341"/>
                </a:lnTo>
                <a:lnTo>
                  <a:pt x="579" y="323"/>
                </a:lnTo>
                <a:lnTo>
                  <a:pt x="567" y="307"/>
                </a:lnTo>
                <a:lnTo>
                  <a:pt x="556" y="289"/>
                </a:lnTo>
                <a:lnTo>
                  <a:pt x="524" y="246"/>
                </a:lnTo>
                <a:lnTo>
                  <a:pt x="533" y="249"/>
                </a:lnTo>
                <a:lnTo>
                  <a:pt x="545" y="261"/>
                </a:lnTo>
                <a:lnTo>
                  <a:pt x="557" y="272"/>
                </a:lnTo>
                <a:lnTo>
                  <a:pt x="570" y="285"/>
                </a:lnTo>
                <a:lnTo>
                  <a:pt x="581" y="297"/>
                </a:lnTo>
                <a:lnTo>
                  <a:pt x="593" y="308"/>
                </a:lnTo>
                <a:lnTo>
                  <a:pt x="607" y="319"/>
                </a:lnTo>
                <a:lnTo>
                  <a:pt x="619" y="330"/>
                </a:lnTo>
                <a:lnTo>
                  <a:pt x="631" y="341"/>
                </a:lnTo>
                <a:lnTo>
                  <a:pt x="645" y="351"/>
                </a:lnTo>
                <a:lnTo>
                  <a:pt x="658" y="360"/>
                </a:lnTo>
                <a:lnTo>
                  <a:pt x="672" y="369"/>
                </a:lnTo>
                <a:lnTo>
                  <a:pt x="685" y="377"/>
                </a:lnTo>
                <a:lnTo>
                  <a:pt x="700" y="383"/>
                </a:lnTo>
                <a:lnTo>
                  <a:pt x="714" y="389"/>
                </a:lnTo>
                <a:lnTo>
                  <a:pt x="730" y="393"/>
                </a:lnTo>
                <a:lnTo>
                  <a:pt x="745" y="397"/>
                </a:lnTo>
                <a:lnTo>
                  <a:pt x="762" y="402"/>
                </a:lnTo>
                <a:lnTo>
                  <a:pt x="780" y="407"/>
                </a:lnTo>
                <a:lnTo>
                  <a:pt x="797" y="412"/>
                </a:lnTo>
                <a:lnTo>
                  <a:pt x="814" y="419"/>
                </a:lnTo>
                <a:lnTo>
                  <a:pt x="829" y="424"/>
                </a:lnTo>
                <a:lnTo>
                  <a:pt x="846" y="432"/>
                </a:lnTo>
                <a:lnTo>
                  <a:pt x="863" y="439"/>
                </a:lnTo>
                <a:lnTo>
                  <a:pt x="879" y="448"/>
                </a:lnTo>
                <a:lnTo>
                  <a:pt x="881" y="430"/>
                </a:lnTo>
                <a:lnTo>
                  <a:pt x="885" y="412"/>
                </a:lnTo>
                <a:lnTo>
                  <a:pt x="889" y="394"/>
                </a:lnTo>
                <a:lnTo>
                  <a:pt x="891" y="376"/>
                </a:lnTo>
                <a:lnTo>
                  <a:pt x="898" y="388"/>
                </a:lnTo>
                <a:lnTo>
                  <a:pt x="907" y="399"/>
                </a:lnTo>
                <a:lnTo>
                  <a:pt x="917" y="409"/>
                </a:lnTo>
                <a:lnTo>
                  <a:pt x="928" y="419"/>
                </a:lnTo>
                <a:lnTo>
                  <a:pt x="939" y="428"/>
                </a:lnTo>
                <a:lnTo>
                  <a:pt x="949" y="438"/>
                </a:lnTo>
                <a:lnTo>
                  <a:pt x="959" y="449"/>
                </a:lnTo>
                <a:lnTo>
                  <a:pt x="968" y="461"/>
                </a:lnTo>
                <a:lnTo>
                  <a:pt x="972" y="458"/>
                </a:lnTo>
                <a:lnTo>
                  <a:pt x="977" y="453"/>
                </a:lnTo>
                <a:lnTo>
                  <a:pt x="979" y="449"/>
                </a:lnTo>
                <a:lnTo>
                  <a:pt x="978" y="443"/>
                </a:lnTo>
                <a:lnTo>
                  <a:pt x="953" y="418"/>
                </a:lnTo>
                <a:lnTo>
                  <a:pt x="931" y="391"/>
                </a:lnTo>
                <a:lnTo>
                  <a:pt x="913" y="362"/>
                </a:lnTo>
                <a:lnTo>
                  <a:pt x="899" y="332"/>
                </a:lnTo>
                <a:lnTo>
                  <a:pt x="885" y="301"/>
                </a:lnTo>
                <a:lnTo>
                  <a:pt x="873" y="270"/>
                </a:lnTo>
                <a:lnTo>
                  <a:pt x="862" y="239"/>
                </a:lnTo>
                <a:lnTo>
                  <a:pt x="848" y="208"/>
                </a:lnTo>
                <a:lnTo>
                  <a:pt x="840" y="195"/>
                </a:lnTo>
                <a:lnTo>
                  <a:pt x="831" y="183"/>
                </a:lnTo>
                <a:lnTo>
                  <a:pt x="822" y="170"/>
                </a:lnTo>
                <a:lnTo>
                  <a:pt x="813" y="157"/>
                </a:lnTo>
                <a:lnTo>
                  <a:pt x="804" y="145"/>
                </a:lnTo>
                <a:lnTo>
                  <a:pt x="795" y="132"/>
                </a:lnTo>
                <a:lnTo>
                  <a:pt x="787" y="118"/>
                </a:lnTo>
                <a:lnTo>
                  <a:pt x="779" y="105"/>
                </a:lnTo>
                <a:lnTo>
                  <a:pt x="789" y="109"/>
                </a:lnTo>
                <a:lnTo>
                  <a:pt x="798" y="115"/>
                </a:lnTo>
                <a:lnTo>
                  <a:pt x="806" y="123"/>
                </a:lnTo>
                <a:lnTo>
                  <a:pt x="813" y="130"/>
                </a:lnTo>
                <a:lnTo>
                  <a:pt x="819" y="139"/>
                </a:lnTo>
                <a:lnTo>
                  <a:pt x="826" y="148"/>
                </a:lnTo>
                <a:lnTo>
                  <a:pt x="833" y="156"/>
                </a:lnTo>
                <a:lnTo>
                  <a:pt x="841" y="164"/>
                </a:lnTo>
                <a:lnTo>
                  <a:pt x="864" y="183"/>
                </a:lnTo>
                <a:lnTo>
                  <a:pt x="890" y="203"/>
                </a:lnTo>
                <a:lnTo>
                  <a:pt x="916" y="223"/>
                </a:lnTo>
                <a:lnTo>
                  <a:pt x="940" y="243"/>
                </a:lnTo>
                <a:lnTo>
                  <a:pt x="964" y="265"/>
                </a:lnTo>
                <a:lnTo>
                  <a:pt x="984" y="288"/>
                </a:lnTo>
                <a:lnTo>
                  <a:pt x="1002" y="314"/>
                </a:lnTo>
                <a:lnTo>
                  <a:pt x="1014" y="341"/>
                </a:lnTo>
                <a:lnTo>
                  <a:pt x="1019" y="350"/>
                </a:lnTo>
                <a:lnTo>
                  <a:pt x="1023" y="359"/>
                </a:lnTo>
                <a:lnTo>
                  <a:pt x="1026" y="368"/>
                </a:lnTo>
                <a:lnTo>
                  <a:pt x="1030" y="378"/>
                </a:lnTo>
                <a:lnTo>
                  <a:pt x="1034" y="387"/>
                </a:lnTo>
                <a:lnTo>
                  <a:pt x="1039" y="396"/>
                </a:lnTo>
                <a:lnTo>
                  <a:pt x="1043" y="404"/>
                </a:lnTo>
                <a:lnTo>
                  <a:pt x="1049" y="412"/>
                </a:lnTo>
                <a:lnTo>
                  <a:pt x="1057" y="410"/>
                </a:lnTo>
                <a:lnTo>
                  <a:pt x="1065" y="409"/>
                </a:lnTo>
                <a:lnTo>
                  <a:pt x="1070" y="406"/>
                </a:lnTo>
                <a:lnTo>
                  <a:pt x="1072" y="399"/>
                </a:lnTo>
                <a:lnTo>
                  <a:pt x="1072" y="383"/>
                </a:lnTo>
                <a:lnTo>
                  <a:pt x="1072" y="367"/>
                </a:lnTo>
                <a:lnTo>
                  <a:pt x="1075" y="352"/>
                </a:lnTo>
                <a:lnTo>
                  <a:pt x="1079" y="338"/>
                </a:lnTo>
                <a:lnTo>
                  <a:pt x="1075" y="332"/>
                </a:lnTo>
                <a:lnTo>
                  <a:pt x="1070" y="328"/>
                </a:lnTo>
                <a:lnTo>
                  <a:pt x="1066" y="322"/>
                </a:lnTo>
                <a:lnTo>
                  <a:pt x="1062" y="317"/>
                </a:lnTo>
                <a:lnTo>
                  <a:pt x="1058" y="312"/>
                </a:lnTo>
                <a:lnTo>
                  <a:pt x="1053" y="307"/>
                </a:lnTo>
                <a:lnTo>
                  <a:pt x="1048" y="302"/>
                </a:lnTo>
                <a:lnTo>
                  <a:pt x="1042" y="298"/>
                </a:lnTo>
                <a:lnTo>
                  <a:pt x="1048" y="298"/>
                </a:lnTo>
                <a:lnTo>
                  <a:pt x="1052" y="299"/>
                </a:lnTo>
                <a:lnTo>
                  <a:pt x="1058" y="301"/>
                </a:lnTo>
                <a:lnTo>
                  <a:pt x="1063" y="302"/>
                </a:lnTo>
                <a:lnTo>
                  <a:pt x="1068" y="305"/>
                </a:lnTo>
                <a:lnTo>
                  <a:pt x="1074" y="307"/>
                </a:lnTo>
                <a:lnTo>
                  <a:pt x="1079" y="309"/>
                </a:lnTo>
                <a:lnTo>
                  <a:pt x="1085" y="311"/>
                </a:lnTo>
                <a:lnTo>
                  <a:pt x="1087" y="289"/>
                </a:lnTo>
                <a:lnTo>
                  <a:pt x="1091" y="267"/>
                </a:lnTo>
                <a:lnTo>
                  <a:pt x="1098" y="247"/>
                </a:lnTo>
                <a:lnTo>
                  <a:pt x="1105" y="226"/>
                </a:lnTo>
                <a:lnTo>
                  <a:pt x="1119" y="205"/>
                </a:lnTo>
                <a:lnTo>
                  <a:pt x="1135" y="183"/>
                </a:lnTo>
                <a:lnTo>
                  <a:pt x="1150" y="162"/>
                </a:lnTo>
                <a:lnTo>
                  <a:pt x="1164" y="139"/>
                </a:lnTo>
                <a:lnTo>
                  <a:pt x="1178" y="118"/>
                </a:lnTo>
                <a:lnTo>
                  <a:pt x="1192" y="96"/>
                </a:lnTo>
                <a:lnTo>
                  <a:pt x="1206" y="75"/>
                </a:lnTo>
                <a:lnTo>
                  <a:pt x="1218" y="53"/>
                </a:lnTo>
                <a:lnTo>
                  <a:pt x="1221" y="41"/>
                </a:lnTo>
                <a:lnTo>
                  <a:pt x="1222" y="27"/>
                </a:lnTo>
                <a:lnTo>
                  <a:pt x="1222" y="13"/>
                </a:lnTo>
                <a:lnTo>
                  <a:pt x="1222" y="0"/>
                </a:lnTo>
                <a:lnTo>
                  <a:pt x="1235" y="61"/>
                </a:lnTo>
                <a:lnTo>
                  <a:pt x="1235" y="124"/>
                </a:lnTo>
                <a:lnTo>
                  <a:pt x="1227" y="187"/>
                </a:lnTo>
                <a:lnTo>
                  <a:pt x="1217" y="2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50080" y="3154320"/>
            <a:ext cx="75960" cy="249120"/>
          </a:xfrm>
          <a:custGeom>
            <a:avLst/>
            <a:gdLst/>
            <a:ahLst/>
            <a:rect l="l" t="t" r="r" b="b"/>
            <a:pathLst>
              <a:path w="48" h="157">
                <a:moveTo>
                  <a:pt x="16" y="108"/>
                </a:moveTo>
                <a:lnTo>
                  <a:pt x="12" y="121"/>
                </a:lnTo>
                <a:lnTo>
                  <a:pt x="9" y="133"/>
                </a:lnTo>
                <a:lnTo>
                  <a:pt x="4" y="145"/>
                </a:lnTo>
                <a:lnTo>
                  <a:pt x="0" y="157"/>
                </a:lnTo>
                <a:lnTo>
                  <a:pt x="0" y="135"/>
                </a:lnTo>
                <a:lnTo>
                  <a:pt x="2" y="115"/>
                </a:lnTo>
                <a:lnTo>
                  <a:pt x="7" y="95"/>
                </a:lnTo>
                <a:lnTo>
                  <a:pt x="15" y="75"/>
                </a:lnTo>
                <a:lnTo>
                  <a:pt x="23" y="56"/>
                </a:lnTo>
                <a:lnTo>
                  <a:pt x="32" y="37"/>
                </a:lnTo>
                <a:lnTo>
                  <a:pt x="41" y="19"/>
                </a:lnTo>
                <a:lnTo>
                  <a:pt x="48" y="0"/>
                </a:lnTo>
                <a:lnTo>
                  <a:pt x="44" y="27"/>
                </a:lnTo>
                <a:lnTo>
                  <a:pt x="35" y="54"/>
                </a:lnTo>
                <a:lnTo>
                  <a:pt x="25" y="81"/>
                </a:lnTo>
                <a:lnTo>
                  <a:pt x="16" y="10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54800" y="3298680"/>
            <a:ext cx="19080" cy="24120"/>
          </a:xfrm>
          <a:custGeom>
            <a:avLst/>
            <a:gdLst/>
            <a:ahLst/>
            <a:rect l="l" t="t" r="r" b="b"/>
            <a:pathLst>
              <a:path w="12" h="15">
                <a:moveTo>
                  <a:pt x="12" y="7"/>
                </a:moveTo>
                <a:lnTo>
                  <a:pt x="12" y="10"/>
                </a:lnTo>
                <a:lnTo>
                  <a:pt x="12" y="12"/>
                </a:lnTo>
                <a:lnTo>
                  <a:pt x="11" y="14"/>
                </a:lnTo>
                <a:lnTo>
                  <a:pt x="10" y="15"/>
                </a:lnTo>
                <a:lnTo>
                  <a:pt x="6" y="12"/>
                </a:lnTo>
                <a:lnTo>
                  <a:pt x="3" y="9"/>
                </a:lnTo>
                <a:lnTo>
                  <a:pt x="1" y="4"/>
                </a:lnTo>
                <a:lnTo>
                  <a:pt x="0" y="0"/>
                </a:lnTo>
                <a:lnTo>
                  <a:pt x="3" y="1"/>
                </a:lnTo>
                <a:lnTo>
                  <a:pt x="7" y="2"/>
                </a:lnTo>
                <a:lnTo>
                  <a:pt x="9" y="4"/>
                </a:lnTo>
                <a:lnTo>
                  <a:pt x="12" y="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87920" y="3349800"/>
            <a:ext cx="114480" cy="168120"/>
          </a:xfrm>
          <a:custGeom>
            <a:avLst/>
            <a:gdLst/>
            <a:ahLst/>
            <a:rect l="l" t="t" r="r" b="b"/>
            <a:pathLst>
              <a:path w="72" h="106">
                <a:moveTo>
                  <a:pt x="72" y="106"/>
                </a:moveTo>
                <a:lnTo>
                  <a:pt x="65" y="93"/>
                </a:lnTo>
                <a:lnTo>
                  <a:pt x="59" y="80"/>
                </a:lnTo>
                <a:lnTo>
                  <a:pt x="50" y="66"/>
                </a:lnTo>
                <a:lnTo>
                  <a:pt x="42" y="53"/>
                </a:lnTo>
                <a:lnTo>
                  <a:pt x="32" y="39"/>
                </a:lnTo>
                <a:lnTo>
                  <a:pt x="22" y="25"/>
                </a:lnTo>
                <a:lnTo>
                  <a:pt x="11" y="12"/>
                </a:lnTo>
                <a:lnTo>
                  <a:pt x="0" y="0"/>
                </a:lnTo>
                <a:lnTo>
                  <a:pt x="15" y="9"/>
                </a:lnTo>
                <a:lnTo>
                  <a:pt x="28" y="19"/>
                </a:lnTo>
                <a:lnTo>
                  <a:pt x="41" y="31"/>
                </a:lnTo>
                <a:lnTo>
                  <a:pt x="52" y="43"/>
                </a:lnTo>
                <a:lnTo>
                  <a:pt x="61" y="58"/>
                </a:lnTo>
                <a:lnTo>
                  <a:pt x="67" y="73"/>
                </a:lnTo>
                <a:lnTo>
                  <a:pt x="71" y="90"/>
                </a:lnTo>
                <a:lnTo>
                  <a:pt x="72" y="1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59600" y="3395520"/>
            <a:ext cx="158760" cy="168480"/>
          </a:xfrm>
          <a:custGeom>
            <a:avLst/>
            <a:gdLst/>
            <a:ahLst/>
            <a:rect l="l" t="t" r="r" b="b"/>
            <a:pathLst>
              <a:path w="100" h="106">
                <a:moveTo>
                  <a:pt x="37" y="77"/>
                </a:moveTo>
                <a:lnTo>
                  <a:pt x="0" y="106"/>
                </a:lnTo>
                <a:lnTo>
                  <a:pt x="10" y="92"/>
                </a:lnTo>
                <a:lnTo>
                  <a:pt x="21" y="78"/>
                </a:lnTo>
                <a:lnTo>
                  <a:pt x="33" y="65"/>
                </a:lnTo>
                <a:lnTo>
                  <a:pt x="47" y="52"/>
                </a:lnTo>
                <a:lnTo>
                  <a:pt x="60" y="39"/>
                </a:lnTo>
                <a:lnTo>
                  <a:pt x="74" y="26"/>
                </a:lnTo>
                <a:lnTo>
                  <a:pt x="87" y="13"/>
                </a:lnTo>
                <a:lnTo>
                  <a:pt x="100" y="0"/>
                </a:lnTo>
                <a:lnTo>
                  <a:pt x="98" y="12"/>
                </a:lnTo>
                <a:lnTo>
                  <a:pt x="94" y="24"/>
                </a:lnTo>
                <a:lnTo>
                  <a:pt x="86" y="34"/>
                </a:lnTo>
                <a:lnTo>
                  <a:pt x="77" y="44"/>
                </a:lnTo>
                <a:lnTo>
                  <a:pt x="67" y="53"/>
                </a:lnTo>
                <a:lnTo>
                  <a:pt x="57" y="62"/>
                </a:lnTo>
                <a:lnTo>
                  <a:pt x="47" y="70"/>
                </a:lnTo>
                <a:lnTo>
                  <a:pt x="37" y="7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56280" y="3443400"/>
            <a:ext cx="74520" cy="137880"/>
          </a:xfrm>
          <a:custGeom>
            <a:avLst/>
            <a:gdLst/>
            <a:ahLst/>
            <a:rect l="l" t="t" r="r" b="b"/>
            <a:pathLst>
              <a:path w="47" h="87">
                <a:moveTo>
                  <a:pt x="47" y="0"/>
                </a:moveTo>
                <a:lnTo>
                  <a:pt x="47" y="23"/>
                </a:lnTo>
                <a:lnTo>
                  <a:pt x="47" y="46"/>
                </a:lnTo>
                <a:lnTo>
                  <a:pt x="41" y="67"/>
                </a:lnTo>
                <a:lnTo>
                  <a:pt x="26" y="83"/>
                </a:lnTo>
                <a:lnTo>
                  <a:pt x="22" y="85"/>
                </a:lnTo>
                <a:lnTo>
                  <a:pt x="18" y="86"/>
                </a:lnTo>
                <a:lnTo>
                  <a:pt x="14" y="87"/>
                </a:lnTo>
                <a:lnTo>
                  <a:pt x="10" y="87"/>
                </a:lnTo>
                <a:lnTo>
                  <a:pt x="5" y="76"/>
                </a:lnTo>
                <a:lnTo>
                  <a:pt x="1" y="66"/>
                </a:lnTo>
                <a:lnTo>
                  <a:pt x="0" y="55"/>
                </a:lnTo>
                <a:lnTo>
                  <a:pt x="2" y="44"/>
                </a:lnTo>
                <a:lnTo>
                  <a:pt x="5" y="37"/>
                </a:lnTo>
                <a:lnTo>
                  <a:pt x="10" y="31"/>
                </a:lnTo>
                <a:lnTo>
                  <a:pt x="15" y="25"/>
                </a:lnTo>
                <a:lnTo>
                  <a:pt x="22" y="20"/>
                </a:lnTo>
                <a:lnTo>
                  <a:pt x="28" y="15"/>
                </a:lnTo>
                <a:lnTo>
                  <a:pt x="34" y="11"/>
                </a:lnTo>
                <a:lnTo>
                  <a:pt x="41" y="5"/>
                </a:lnTo>
                <a:lnTo>
                  <a:pt x="4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05440" y="3452760"/>
            <a:ext cx="109440" cy="142920"/>
          </a:xfrm>
          <a:custGeom>
            <a:avLst/>
            <a:gdLst/>
            <a:ahLst/>
            <a:rect l="l" t="t" r="r" b="b"/>
            <a:pathLst>
              <a:path w="69" h="90">
                <a:moveTo>
                  <a:pt x="69" y="76"/>
                </a:moveTo>
                <a:lnTo>
                  <a:pt x="67" y="79"/>
                </a:lnTo>
                <a:lnTo>
                  <a:pt x="62" y="80"/>
                </a:lnTo>
                <a:lnTo>
                  <a:pt x="57" y="80"/>
                </a:lnTo>
                <a:lnTo>
                  <a:pt x="53" y="82"/>
                </a:lnTo>
                <a:lnTo>
                  <a:pt x="42" y="90"/>
                </a:lnTo>
                <a:lnTo>
                  <a:pt x="35" y="79"/>
                </a:lnTo>
                <a:lnTo>
                  <a:pt x="30" y="68"/>
                </a:lnTo>
                <a:lnTo>
                  <a:pt x="24" y="57"/>
                </a:lnTo>
                <a:lnTo>
                  <a:pt x="20" y="46"/>
                </a:lnTo>
                <a:lnTo>
                  <a:pt x="15" y="34"/>
                </a:lnTo>
                <a:lnTo>
                  <a:pt x="11" y="23"/>
                </a:lnTo>
                <a:lnTo>
                  <a:pt x="5" y="11"/>
                </a:lnTo>
                <a:lnTo>
                  <a:pt x="0" y="0"/>
                </a:lnTo>
                <a:lnTo>
                  <a:pt x="13" y="5"/>
                </a:lnTo>
                <a:lnTo>
                  <a:pt x="24" y="10"/>
                </a:lnTo>
                <a:lnTo>
                  <a:pt x="35" y="18"/>
                </a:lnTo>
                <a:lnTo>
                  <a:pt x="45" y="28"/>
                </a:lnTo>
                <a:lnTo>
                  <a:pt x="54" y="39"/>
                </a:lnTo>
                <a:lnTo>
                  <a:pt x="61" y="50"/>
                </a:lnTo>
                <a:lnTo>
                  <a:pt x="66" y="62"/>
                </a:lnTo>
                <a:lnTo>
                  <a:pt x="69" y="7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14960" y="3541680"/>
            <a:ext cx="46080" cy="28440"/>
          </a:xfrm>
          <a:custGeom>
            <a:avLst/>
            <a:gdLst/>
            <a:ahLst/>
            <a:rect l="l" t="t" r="r" b="b"/>
            <a:pathLst>
              <a:path w="29" h="18">
                <a:moveTo>
                  <a:pt x="29" y="18"/>
                </a:moveTo>
                <a:lnTo>
                  <a:pt x="20" y="16"/>
                </a:lnTo>
                <a:lnTo>
                  <a:pt x="14" y="12"/>
                </a:lnTo>
                <a:lnTo>
                  <a:pt x="6" y="6"/>
                </a:lnTo>
                <a:lnTo>
                  <a:pt x="0" y="0"/>
                </a:lnTo>
                <a:lnTo>
                  <a:pt x="9" y="2"/>
                </a:lnTo>
                <a:lnTo>
                  <a:pt x="17" y="5"/>
                </a:lnTo>
                <a:lnTo>
                  <a:pt x="25" y="11"/>
                </a:lnTo>
                <a:lnTo>
                  <a:pt x="29" y="1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00640" y="3594240"/>
            <a:ext cx="174600" cy="93600"/>
          </a:xfrm>
          <a:custGeom>
            <a:avLst/>
            <a:gdLst/>
            <a:ahLst/>
            <a:rect l="l" t="t" r="r" b="b"/>
            <a:pathLst>
              <a:path w="110" h="59">
                <a:moveTo>
                  <a:pt x="110" y="59"/>
                </a:moveTo>
                <a:lnTo>
                  <a:pt x="96" y="53"/>
                </a:lnTo>
                <a:lnTo>
                  <a:pt x="82" y="48"/>
                </a:lnTo>
                <a:lnTo>
                  <a:pt x="67" y="42"/>
                </a:lnTo>
                <a:lnTo>
                  <a:pt x="54" y="37"/>
                </a:lnTo>
                <a:lnTo>
                  <a:pt x="39" y="30"/>
                </a:lnTo>
                <a:lnTo>
                  <a:pt x="26" y="21"/>
                </a:lnTo>
                <a:lnTo>
                  <a:pt x="12" y="11"/>
                </a:lnTo>
                <a:lnTo>
                  <a:pt x="0" y="0"/>
                </a:lnTo>
                <a:lnTo>
                  <a:pt x="14" y="5"/>
                </a:lnTo>
                <a:lnTo>
                  <a:pt x="30" y="10"/>
                </a:lnTo>
                <a:lnTo>
                  <a:pt x="45" y="16"/>
                </a:lnTo>
                <a:lnTo>
                  <a:pt x="59" y="21"/>
                </a:lnTo>
                <a:lnTo>
                  <a:pt x="73" y="28"/>
                </a:lnTo>
                <a:lnTo>
                  <a:pt x="86" y="37"/>
                </a:lnTo>
                <a:lnTo>
                  <a:pt x="98" y="47"/>
                </a:lnTo>
                <a:lnTo>
                  <a:pt x="110" y="5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592600" y="3598920"/>
            <a:ext cx="38160" cy="96840"/>
          </a:xfrm>
          <a:custGeom>
            <a:avLst/>
            <a:gdLst/>
            <a:ahLst/>
            <a:rect l="l" t="t" r="r" b="b"/>
            <a:pathLst>
              <a:path w="24" h="61">
                <a:moveTo>
                  <a:pt x="24" y="56"/>
                </a:moveTo>
                <a:lnTo>
                  <a:pt x="20" y="57"/>
                </a:lnTo>
                <a:lnTo>
                  <a:pt x="15" y="59"/>
                </a:lnTo>
                <a:lnTo>
                  <a:pt x="11" y="60"/>
                </a:lnTo>
                <a:lnTo>
                  <a:pt x="6" y="61"/>
                </a:lnTo>
                <a:lnTo>
                  <a:pt x="2" y="47"/>
                </a:lnTo>
                <a:lnTo>
                  <a:pt x="0" y="33"/>
                </a:lnTo>
                <a:lnTo>
                  <a:pt x="0" y="16"/>
                </a:lnTo>
                <a:lnTo>
                  <a:pt x="0" y="0"/>
                </a:lnTo>
                <a:lnTo>
                  <a:pt x="8" y="13"/>
                </a:lnTo>
                <a:lnTo>
                  <a:pt x="14" y="27"/>
                </a:lnTo>
                <a:lnTo>
                  <a:pt x="19" y="41"/>
                </a:lnTo>
                <a:lnTo>
                  <a:pt x="24" y="5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986440" y="360504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8"/>
                </a:moveTo>
                <a:lnTo>
                  <a:pt x="29" y="13"/>
                </a:lnTo>
                <a:lnTo>
                  <a:pt x="27" y="19"/>
                </a:lnTo>
                <a:lnTo>
                  <a:pt x="21" y="23"/>
                </a:lnTo>
                <a:lnTo>
                  <a:pt x="16" y="26"/>
                </a:lnTo>
                <a:lnTo>
                  <a:pt x="11" y="24"/>
                </a:lnTo>
                <a:lnTo>
                  <a:pt x="7" y="21"/>
                </a:lnTo>
                <a:lnTo>
                  <a:pt x="2" y="17"/>
                </a:lnTo>
                <a:lnTo>
                  <a:pt x="0" y="13"/>
                </a:lnTo>
                <a:lnTo>
                  <a:pt x="0" y="9"/>
                </a:lnTo>
                <a:lnTo>
                  <a:pt x="1" y="5"/>
                </a:lnTo>
                <a:lnTo>
                  <a:pt x="3" y="2"/>
                </a:lnTo>
                <a:lnTo>
                  <a:pt x="6" y="0"/>
                </a:lnTo>
                <a:lnTo>
                  <a:pt x="12" y="1"/>
                </a:lnTo>
                <a:lnTo>
                  <a:pt x="19" y="2"/>
                </a:lnTo>
                <a:lnTo>
                  <a:pt x="26" y="3"/>
                </a:lnTo>
                <a:lnTo>
                  <a:pt x="30" y="8"/>
                </a:lnTo>
                <a:close/>
              </a:path>
            </a:pathLst>
          </a:custGeom>
          <a:solidFill>
            <a:srgbClr val="dd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39000" y="3605040"/>
            <a:ext cx="142560" cy="106560"/>
          </a:xfrm>
          <a:custGeom>
            <a:avLst/>
            <a:gdLst/>
            <a:ahLst/>
            <a:rect l="l" t="t" r="r" b="b"/>
            <a:pathLst>
              <a:path w="90" h="67">
                <a:moveTo>
                  <a:pt x="90" y="65"/>
                </a:moveTo>
                <a:lnTo>
                  <a:pt x="78" y="65"/>
                </a:lnTo>
                <a:lnTo>
                  <a:pt x="66" y="66"/>
                </a:lnTo>
                <a:lnTo>
                  <a:pt x="53" y="67"/>
                </a:lnTo>
                <a:lnTo>
                  <a:pt x="40" y="67"/>
                </a:lnTo>
                <a:lnTo>
                  <a:pt x="29" y="65"/>
                </a:lnTo>
                <a:lnTo>
                  <a:pt x="17" y="62"/>
                </a:lnTo>
                <a:lnTo>
                  <a:pt x="7" y="56"/>
                </a:lnTo>
                <a:lnTo>
                  <a:pt x="0" y="47"/>
                </a:lnTo>
                <a:lnTo>
                  <a:pt x="4" y="35"/>
                </a:lnTo>
                <a:lnTo>
                  <a:pt x="11" y="25"/>
                </a:lnTo>
                <a:lnTo>
                  <a:pt x="15" y="13"/>
                </a:lnTo>
                <a:lnTo>
                  <a:pt x="14" y="0"/>
                </a:lnTo>
                <a:lnTo>
                  <a:pt x="24" y="8"/>
                </a:lnTo>
                <a:lnTo>
                  <a:pt x="34" y="16"/>
                </a:lnTo>
                <a:lnTo>
                  <a:pt x="43" y="25"/>
                </a:lnTo>
                <a:lnTo>
                  <a:pt x="51" y="35"/>
                </a:lnTo>
                <a:lnTo>
                  <a:pt x="60" y="45"/>
                </a:lnTo>
                <a:lnTo>
                  <a:pt x="69" y="53"/>
                </a:lnTo>
                <a:lnTo>
                  <a:pt x="79" y="61"/>
                </a:lnTo>
                <a:lnTo>
                  <a:pt x="90" y="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689440" y="3621240"/>
            <a:ext cx="108000" cy="114120"/>
          </a:xfrm>
          <a:custGeom>
            <a:avLst/>
            <a:gdLst/>
            <a:ahLst/>
            <a:rect l="l" t="t" r="r" b="b"/>
            <a:pathLst>
              <a:path w="68" h="72">
                <a:moveTo>
                  <a:pt x="68" y="0"/>
                </a:moveTo>
                <a:lnTo>
                  <a:pt x="64" y="11"/>
                </a:lnTo>
                <a:lnTo>
                  <a:pt x="58" y="23"/>
                </a:lnTo>
                <a:lnTo>
                  <a:pt x="53" y="34"/>
                </a:lnTo>
                <a:lnTo>
                  <a:pt x="46" y="45"/>
                </a:lnTo>
                <a:lnTo>
                  <a:pt x="37" y="55"/>
                </a:lnTo>
                <a:lnTo>
                  <a:pt x="28" y="63"/>
                </a:lnTo>
                <a:lnTo>
                  <a:pt x="17" y="69"/>
                </a:lnTo>
                <a:lnTo>
                  <a:pt x="5" y="72"/>
                </a:lnTo>
                <a:lnTo>
                  <a:pt x="1" y="65"/>
                </a:lnTo>
                <a:lnTo>
                  <a:pt x="0" y="59"/>
                </a:lnTo>
                <a:lnTo>
                  <a:pt x="0" y="51"/>
                </a:lnTo>
                <a:lnTo>
                  <a:pt x="2" y="44"/>
                </a:lnTo>
                <a:lnTo>
                  <a:pt x="8" y="35"/>
                </a:lnTo>
                <a:lnTo>
                  <a:pt x="15" y="27"/>
                </a:lnTo>
                <a:lnTo>
                  <a:pt x="23" y="20"/>
                </a:lnTo>
                <a:lnTo>
                  <a:pt x="30" y="14"/>
                </a:lnTo>
                <a:lnTo>
                  <a:pt x="39" y="9"/>
                </a:lnTo>
                <a:lnTo>
                  <a:pt x="48" y="4"/>
                </a:lnTo>
                <a:lnTo>
                  <a:pt x="58" y="2"/>
                </a:lnTo>
                <a:lnTo>
                  <a:pt x="6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826240" y="3625920"/>
            <a:ext cx="38160" cy="41040"/>
          </a:xfrm>
          <a:custGeom>
            <a:avLst/>
            <a:gdLst/>
            <a:ahLst/>
            <a:rect l="l" t="t" r="r" b="b"/>
            <a:pathLst>
              <a:path w="24" h="26">
                <a:moveTo>
                  <a:pt x="22" y="22"/>
                </a:moveTo>
                <a:lnTo>
                  <a:pt x="17" y="24"/>
                </a:lnTo>
                <a:lnTo>
                  <a:pt x="13" y="26"/>
                </a:lnTo>
                <a:lnTo>
                  <a:pt x="8" y="26"/>
                </a:lnTo>
                <a:lnTo>
                  <a:pt x="4" y="24"/>
                </a:lnTo>
                <a:lnTo>
                  <a:pt x="0" y="22"/>
                </a:lnTo>
                <a:lnTo>
                  <a:pt x="0" y="19"/>
                </a:lnTo>
                <a:lnTo>
                  <a:pt x="1" y="14"/>
                </a:lnTo>
                <a:lnTo>
                  <a:pt x="3" y="11"/>
                </a:lnTo>
                <a:lnTo>
                  <a:pt x="16" y="0"/>
                </a:lnTo>
                <a:lnTo>
                  <a:pt x="19" y="4"/>
                </a:lnTo>
                <a:lnTo>
                  <a:pt x="23" y="10"/>
                </a:lnTo>
                <a:lnTo>
                  <a:pt x="24" y="17"/>
                </a:lnTo>
                <a:lnTo>
                  <a:pt x="22" y="2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856120" y="3668760"/>
            <a:ext cx="128880" cy="129960"/>
          </a:xfrm>
          <a:custGeom>
            <a:avLst/>
            <a:gdLst/>
            <a:ahLst/>
            <a:rect l="l" t="t" r="r" b="b"/>
            <a:pathLst>
              <a:path w="81" h="82">
                <a:moveTo>
                  <a:pt x="81" y="6"/>
                </a:moveTo>
                <a:lnTo>
                  <a:pt x="76" y="19"/>
                </a:lnTo>
                <a:lnTo>
                  <a:pt x="70" y="30"/>
                </a:lnTo>
                <a:lnTo>
                  <a:pt x="62" y="41"/>
                </a:lnTo>
                <a:lnTo>
                  <a:pt x="52" y="51"/>
                </a:lnTo>
                <a:lnTo>
                  <a:pt x="42" y="60"/>
                </a:lnTo>
                <a:lnTo>
                  <a:pt x="31" y="68"/>
                </a:lnTo>
                <a:lnTo>
                  <a:pt x="18" y="75"/>
                </a:lnTo>
                <a:lnTo>
                  <a:pt x="7" y="82"/>
                </a:lnTo>
                <a:lnTo>
                  <a:pt x="0" y="82"/>
                </a:lnTo>
                <a:lnTo>
                  <a:pt x="1" y="71"/>
                </a:lnTo>
                <a:lnTo>
                  <a:pt x="3" y="60"/>
                </a:lnTo>
                <a:lnTo>
                  <a:pt x="5" y="48"/>
                </a:lnTo>
                <a:lnTo>
                  <a:pt x="7" y="37"/>
                </a:lnTo>
                <a:lnTo>
                  <a:pt x="12" y="27"/>
                </a:lnTo>
                <a:lnTo>
                  <a:pt x="17" y="17"/>
                </a:lnTo>
                <a:lnTo>
                  <a:pt x="25" y="11"/>
                </a:lnTo>
                <a:lnTo>
                  <a:pt x="36" y="5"/>
                </a:lnTo>
                <a:lnTo>
                  <a:pt x="42" y="4"/>
                </a:lnTo>
                <a:lnTo>
                  <a:pt x="47" y="2"/>
                </a:lnTo>
                <a:lnTo>
                  <a:pt x="54" y="1"/>
                </a:lnTo>
                <a:lnTo>
                  <a:pt x="60" y="1"/>
                </a:lnTo>
                <a:lnTo>
                  <a:pt x="65" y="0"/>
                </a:lnTo>
                <a:lnTo>
                  <a:pt x="71" y="1"/>
                </a:lnTo>
                <a:lnTo>
                  <a:pt x="76" y="3"/>
                </a:lnTo>
                <a:lnTo>
                  <a:pt x="81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10240" y="3718080"/>
            <a:ext cx="42840" cy="39600"/>
          </a:xfrm>
          <a:custGeom>
            <a:avLst/>
            <a:gdLst/>
            <a:ahLst/>
            <a:rect l="l" t="t" r="r" b="b"/>
            <a:pathLst>
              <a:path w="27" h="25">
                <a:moveTo>
                  <a:pt x="27" y="11"/>
                </a:moveTo>
                <a:lnTo>
                  <a:pt x="25" y="15"/>
                </a:lnTo>
                <a:lnTo>
                  <a:pt x="24" y="20"/>
                </a:lnTo>
                <a:lnTo>
                  <a:pt x="22" y="23"/>
                </a:lnTo>
                <a:lnTo>
                  <a:pt x="18" y="25"/>
                </a:lnTo>
                <a:lnTo>
                  <a:pt x="12" y="25"/>
                </a:lnTo>
                <a:lnTo>
                  <a:pt x="8" y="23"/>
                </a:lnTo>
                <a:lnTo>
                  <a:pt x="3" y="21"/>
                </a:lnTo>
                <a:lnTo>
                  <a:pt x="0" y="16"/>
                </a:lnTo>
                <a:lnTo>
                  <a:pt x="0" y="11"/>
                </a:lnTo>
                <a:lnTo>
                  <a:pt x="1" y="6"/>
                </a:lnTo>
                <a:lnTo>
                  <a:pt x="4" y="3"/>
                </a:lnTo>
                <a:lnTo>
                  <a:pt x="9" y="1"/>
                </a:lnTo>
                <a:lnTo>
                  <a:pt x="14" y="0"/>
                </a:lnTo>
                <a:lnTo>
                  <a:pt x="20" y="1"/>
                </a:lnTo>
                <a:lnTo>
                  <a:pt x="24" y="5"/>
                </a:lnTo>
                <a:lnTo>
                  <a:pt x="27" y="11"/>
                </a:lnTo>
                <a:close/>
              </a:path>
            </a:pathLst>
          </a:custGeom>
          <a:solidFill>
            <a:srgbClr val="dd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00800" y="3747960"/>
            <a:ext cx="101520" cy="79560"/>
          </a:xfrm>
          <a:custGeom>
            <a:avLst/>
            <a:gdLst/>
            <a:ahLst/>
            <a:rect l="l" t="t" r="r" b="b"/>
            <a:pathLst>
              <a:path w="64" h="50">
                <a:moveTo>
                  <a:pt x="64" y="15"/>
                </a:moveTo>
                <a:lnTo>
                  <a:pt x="56" y="21"/>
                </a:lnTo>
                <a:lnTo>
                  <a:pt x="49" y="25"/>
                </a:lnTo>
                <a:lnTo>
                  <a:pt x="41" y="30"/>
                </a:lnTo>
                <a:lnTo>
                  <a:pt x="33" y="35"/>
                </a:lnTo>
                <a:lnTo>
                  <a:pt x="25" y="40"/>
                </a:lnTo>
                <a:lnTo>
                  <a:pt x="17" y="43"/>
                </a:lnTo>
                <a:lnTo>
                  <a:pt x="9" y="46"/>
                </a:lnTo>
                <a:lnTo>
                  <a:pt x="0" y="50"/>
                </a:lnTo>
                <a:lnTo>
                  <a:pt x="5" y="42"/>
                </a:lnTo>
                <a:lnTo>
                  <a:pt x="11" y="35"/>
                </a:lnTo>
                <a:lnTo>
                  <a:pt x="16" y="28"/>
                </a:lnTo>
                <a:lnTo>
                  <a:pt x="22" y="22"/>
                </a:lnTo>
                <a:lnTo>
                  <a:pt x="28" y="15"/>
                </a:lnTo>
                <a:lnTo>
                  <a:pt x="35" y="10"/>
                </a:lnTo>
                <a:lnTo>
                  <a:pt x="42" y="4"/>
                </a:lnTo>
                <a:lnTo>
                  <a:pt x="49" y="0"/>
                </a:lnTo>
                <a:lnTo>
                  <a:pt x="64" y="1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67560" y="3757680"/>
            <a:ext cx="28440" cy="61920"/>
          </a:xfrm>
          <a:custGeom>
            <a:avLst/>
            <a:gdLst/>
            <a:ahLst/>
            <a:rect l="l" t="t" r="r" b="b"/>
            <a:pathLst>
              <a:path w="18" h="39">
                <a:moveTo>
                  <a:pt x="18" y="10"/>
                </a:moveTo>
                <a:lnTo>
                  <a:pt x="18" y="19"/>
                </a:lnTo>
                <a:lnTo>
                  <a:pt x="15" y="26"/>
                </a:lnTo>
                <a:lnTo>
                  <a:pt x="10" y="32"/>
                </a:lnTo>
                <a:lnTo>
                  <a:pt x="5" y="39"/>
                </a:lnTo>
                <a:lnTo>
                  <a:pt x="1" y="30"/>
                </a:lnTo>
                <a:lnTo>
                  <a:pt x="0" y="19"/>
                </a:lnTo>
                <a:lnTo>
                  <a:pt x="3" y="9"/>
                </a:lnTo>
                <a:lnTo>
                  <a:pt x="7" y="0"/>
                </a:lnTo>
                <a:lnTo>
                  <a:pt x="10" y="1"/>
                </a:lnTo>
                <a:lnTo>
                  <a:pt x="14" y="4"/>
                </a:lnTo>
                <a:lnTo>
                  <a:pt x="16" y="7"/>
                </a:lnTo>
                <a:lnTo>
                  <a:pt x="18" y="1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634000" y="3768840"/>
            <a:ext cx="77760" cy="176040"/>
          </a:xfrm>
          <a:custGeom>
            <a:avLst/>
            <a:gdLst/>
            <a:ahLst/>
            <a:rect l="l" t="t" r="r" b="b"/>
            <a:pathLst>
              <a:path w="49" h="111">
                <a:moveTo>
                  <a:pt x="42" y="86"/>
                </a:moveTo>
                <a:lnTo>
                  <a:pt x="37" y="93"/>
                </a:lnTo>
                <a:lnTo>
                  <a:pt x="34" y="99"/>
                </a:lnTo>
                <a:lnTo>
                  <a:pt x="31" y="105"/>
                </a:lnTo>
                <a:lnTo>
                  <a:pt x="26" y="111"/>
                </a:lnTo>
                <a:lnTo>
                  <a:pt x="26" y="98"/>
                </a:lnTo>
                <a:lnTo>
                  <a:pt x="24" y="86"/>
                </a:lnTo>
                <a:lnTo>
                  <a:pt x="19" y="75"/>
                </a:lnTo>
                <a:lnTo>
                  <a:pt x="14" y="64"/>
                </a:lnTo>
                <a:lnTo>
                  <a:pt x="8" y="54"/>
                </a:lnTo>
                <a:lnTo>
                  <a:pt x="4" y="43"/>
                </a:lnTo>
                <a:lnTo>
                  <a:pt x="0" y="31"/>
                </a:lnTo>
                <a:lnTo>
                  <a:pt x="0" y="19"/>
                </a:lnTo>
                <a:lnTo>
                  <a:pt x="8" y="17"/>
                </a:lnTo>
                <a:lnTo>
                  <a:pt x="17" y="12"/>
                </a:lnTo>
                <a:lnTo>
                  <a:pt x="24" y="7"/>
                </a:lnTo>
                <a:lnTo>
                  <a:pt x="30" y="0"/>
                </a:lnTo>
                <a:lnTo>
                  <a:pt x="42" y="19"/>
                </a:lnTo>
                <a:lnTo>
                  <a:pt x="49" y="41"/>
                </a:lnTo>
                <a:lnTo>
                  <a:pt x="49" y="64"/>
                </a:lnTo>
                <a:lnTo>
                  <a:pt x="42" y="8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18280" y="3797280"/>
            <a:ext cx="79200" cy="25560"/>
          </a:xfrm>
          <a:custGeom>
            <a:avLst/>
            <a:gdLst/>
            <a:ahLst/>
            <a:rect l="l" t="t" r="r" b="b"/>
            <a:pathLst>
              <a:path w="50" h="16">
                <a:moveTo>
                  <a:pt x="50" y="6"/>
                </a:moveTo>
                <a:lnTo>
                  <a:pt x="44" y="7"/>
                </a:lnTo>
                <a:lnTo>
                  <a:pt x="38" y="10"/>
                </a:lnTo>
                <a:lnTo>
                  <a:pt x="31" y="12"/>
                </a:lnTo>
                <a:lnTo>
                  <a:pt x="26" y="14"/>
                </a:lnTo>
                <a:lnTo>
                  <a:pt x="19" y="16"/>
                </a:lnTo>
                <a:lnTo>
                  <a:pt x="12" y="16"/>
                </a:lnTo>
                <a:lnTo>
                  <a:pt x="7" y="16"/>
                </a:lnTo>
                <a:lnTo>
                  <a:pt x="0" y="14"/>
                </a:lnTo>
                <a:lnTo>
                  <a:pt x="6" y="12"/>
                </a:lnTo>
                <a:lnTo>
                  <a:pt x="12" y="10"/>
                </a:lnTo>
                <a:lnTo>
                  <a:pt x="18" y="6"/>
                </a:lnTo>
                <a:lnTo>
                  <a:pt x="24" y="4"/>
                </a:lnTo>
                <a:lnTo>
                  <a:pt x="30" y="2"/>
                </a:lnTo>
                <a:lnTo>
                  <a:pt x="37" y="1"/>
                </a:lnTo>
                <a:lnTo>
                  <a:pt x="44" y="0"/>
                </a:lnTo>
                <a:lnTo>
                  <a:pt x="50" y="1"/>
                </a:lnTo>
                <a:lnTo>
                  <a:pt x="50" y="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64200" y="3803760"/>
            <a:ext cx="254160" cy="63360"/>
          </a:xfrm>
          <a:custGeom>
            <a:avLst/>
            <a:gdLst/>
            <a:ahLst/>
            <a:rect l="l" t="t" r="r" b="b"/>
            <a:pathLst>
              <a:path w="160" h="40">
                <a:moveTo>
                  <a:pt x="160" y="11"/>
                </a:moveTo>
                <a:lnTo>
                  <a:pt x="139" y="10"/>
                </a:lnTo>
                <a:lnTo>
                  <a:pt x="118" y="13"/>
                </a:lnTo>
                <a:lnTo>
                  <a:pt x="99" y="20"/>
                </a:lnTo>
                <a:lnTo>
                  <a:pt x="81" y="27"/>
                </a:lnTo>
                <a:lnTo>
                  <a:pt x="62" y="33"/>
                </a:lnTo>
                <a:lnTo>
                  <a:pt x="43" y="39"/>
                </a:lnTo>
                <a:lnTo>
                  <a:pt x="22" y="40"/>
                </a:lnTo>
                <a:lnTo>
                  <a:pt x="0" y="37"/>
                </a:lnTo>
                <a:lnTo>
                  <a:pt x="21" y="32"/>
                </a:lnTo>
                <a:lnTo>
                  <a:pt x="41" y="26"/>
                </a:lnTo>
                <a:lnTo>
                  <a:pt x="60" y="17"/>
                </a:lnTo>
                <a:lnTo>
                  <a:pt x="80" y="9"/>
                </a:lnTo>
                <a:lnTo>
                  <a:pt x="99" y="2"/>
                </a:lnTo>
                <a:lnTo>
                  <a:pt x="119" y="0"/>
                </a:lnTo>
                <a:lnTo>
                  <a:pt x="139" y="2"/>
                </a:lnTo>
                <a:lnTo>
                  <a:pt x="160" y="1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59280" y="3860640"/>
            <a:ext cx="34920" cy="38160"/>
          </a:xfrm>
          <a:custGeom>
            <a:avLst/>
            <a:gdLst/>
            <a:ahLst/>
            <a:rect l="l" t="t" r="r" b="b"/>
            <a:pathLst>
              <a:path w="22" h="24">
                <a:moveTo>
                  <a:pt x="21" y="16"/>
                </a:moveTo>
                <a:lnTo>
                  <a:pt x="17" y="24"/>
                </a:lnTo>
                <a:lnTo>
                  <a:pt x="12" y="21"/>
                </a:lnTo>
                <a:lnTo>
                  <a:pt x="6" y="17"/>
                </a:lnTo>
                <a:lnTo>
                  <a:pt x="2" y="13"/>
                </a:lnTo>
                <a:lnTo>
                  <a:pt x="0" y="8"/>
                </a:lnTo>
                <a:lnTo>
                  <a:pt x="2" y="4"/>
                </a:lnTo>
                <a:lnTo>
                  <a:pt x="6" y="2"/>
                </a:lnTo>
                <a:lnTo>
                  <a:pt x="11" y="1"/>
                </a:lnTo>
                <a:lnTo>
                  <a:pt x="15" y="0"/>
                </a:lnTo>
                <a:lnTo>
                  <a:pt x="21" y="1"/>
                </a:lnTo>
                <a:lnTo>
                  <a:pt x="22" y="5"/>
                </a:lnTo>
                <a:lnTo>
                  <a:pt x="22" y="11"/>
                </a:lnTo>
                <a:lnTo>
                  <a:pt x="21" y="1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50000" y="3865680"/>
            <a:ext cx="46080" cy="42840"/>
          </a:xfrm>
          <a:custGeom>
            <a:avLst/>
            <a:gdLst/>
            <a:ahLst/>
            <a:rect l="l" t="t" r="r" b="b"/>
            <a:pathLst>
              <a:path w="29" h="27">
                <a:moveTo>
                  <a:pt x="29" y="12"/>
                </a:moveTo>
                <a:lnTo>
                  <a:pt x="29" y="17"/>
                </a:lnTo>
                <a:lnTo>
                  <a:pt x="26" y="21"/>
                </a:lnTo>
                <a:lnTo>
                  <a:pt x="22" y="24"/>
                </a:lnTo>
                <a:lnTo>
                  <a:pt x="18" y="25"/>
                </a:lnTo>
                <a:lnTo>
                  <a:pt x="12" y="27"/>
                </a:lnTo>
                <a:lnTo>
                  <a:pt x="7" y="25"/>
                </a:lnTo>
                <a:lnTo>
                  <a:pt x="2" y="21"/>
                </a:lnTo>
                <a:lnTo>
                  <a:pt x="0" y="15"/>
                </a:lnTo>
                <a:lnTo>
                  <a:pt x="0" y="11"/>
                </a:lnTo>
                <a:lnTo>
                  <a:pt x="1" y="8"/>
                </a:lnTo>
                <a:lnTo>
                  <a:pt x="2" y="3"/>
                </a:lnTo>
                <a:lnTo>
                  <a:pt x="4" y="0"/>
                </a:lnTo>
                <a:lnTo>
                  <a:pt x="12" y="0"/>
                </a:lnTo>
                <a:lnTo>
                  <a:pt x="20" y="1"/>
                </a:lnTo>
                <a:lnTo>
                  <a:pt x="26" y="5"/>
                </a:lnTo>
                <a:lnTo>
                  <a:pt x="29" y="12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03960" y="3979800"/>
            <a:ext cx="56880" cy="42840"/>
          </a:xfrm>
          <a:custGeom>
            <a:avLst/>
            <a:gdLst/>
            <a:ahLst/>
            <a:rect l="l" t="t" r="r" b="b"/>
            <a:pathLst>
              <a:path w="36" h="27">
                <a:moveTo>
                  <a:pt x="36" y="8"/>
                </a:moveTo>
                <a:lnTo>
                  <a:pt x="32" y="10"/>
                </a:lnTo>
                <a:lnTo>
                  <a:pt x="29" y="13"/>
                </a:lnTo>
                <a:lnTo>
                  <a:pt x="24" y="17"/>
                </a:lnTo>
                <a:lnTo>
                  <a:pt x="20" y="20"/>
                </a:lnTo>
                <a:lnTo>
                  <a:pt x="16" y="22"/>
                </a:lnTo>
                <a:lnTo>
                  <a:pt x="11" y="24"/>
                </a:lnTo>
                <a:lnTo>
                  <a:pt x="5" y="27"/>
                </a:lnTo>
                <a:lnTo>
                  <a:pt x="0" y="27"/>
                </a:lnTo>
                <a:lnTo>
                  <a:pt x="4" y="20"/>
                </a:lnTo>
                <a:lnTo>
                  <a:pt x="11" y="13"/>
                </a:lnTo>
                <a:lnTo>
                  <a:pt x="18" y="7"/>
                </a:lnTo>
                <a:lnTo>
                  <a:pt x="24" y="0"/>
                </a:lnTo>
                <a:lnTo>
                  <a:pt x="36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10400" y="4683240"/>
            <a:ext cx="12600" cy="33120"/>
          </a:xfrm>
          <a:custGeom>
            <a:avLst/>
            <a:gdLst/>
            <a:ahLst/>
            <a:rect l="l" t="t" r="r" b="b"/>
            <a:pathLst>
              <a:path w="8" h="21">
                <a:moveTo>
                  <a:pt x="7" y="18"/>
                </a:moveTo>
                <a:lnTo>
                  <a:pt x="7" y="20"/>
                </a:lnTo>
                <a:lnTo>
                  <a:pt x="6" y="21"/>
                </a:lnTo>
                <a:lnTo>
                  <a:pt x="5" y="21"/>
                </a:lnTo>
                <a:lnTo>
                  <a:pt x="4" y="21"/>
                </a:lnTo>
                <a:lnTo>
                  <a:pt x="0" y="0"/>
                </a:lnTo>
                <a:lnTo>
                  <a:pt x="5" y="3"/>
                </a:lnTo>
                <a:lnTo>
                  <a:pt x="8" y="7"/>
                </a:lnTo>
                <a:lnTo>
                  <a:pt x="8" y="13"/>
                </a:lnTo>
                <a:lnTo>
                  <a:pt x="7" y="1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94240" y="4956120"/>
            <a:ext cx="30240" cy="34920"/>
          </a:xfrm>
          <a:custGeom>
            <a:avLst/>
            <a:gdLst/>
            <a:ahLst/>
            <a:rect l="l" t="t" r="r" b="b"/>
            <a:pathLst>
              <a:path w="19" h="22">
                <a:moveTo>
                  <a:pt x="19" y="21"/>
                </a:moveTo>
                <a:lnTo>
                  <a:pt x="14" y="22"/>
                </a:lnTo>
                <a:lnTo>
                  <a:pt x="9" y="20"/>
                </a:lnTo>
                <a:lnTo>
                  <a:pt x="6" y="16"/>
                </a:lnTo>
                <a:lnTo>
                  <a:pt x="2" y="12"/>
                </a:lnTo>
                <a:lnTo>
                  <a:pt x="0" y="0"/>
                </a:lnTo>
                <a:lnTo>
                  <a:pt x="6" y="4"/>
                </a:lnTo>
                <a:lnTo>
                  <a:pt x="11" y="10"/>
                </a:lnTo>
                <a:lnTo>
                  <a:pt x="16" y="15"/>
                </a:lnTo>
                <a:lnTo>
                  <a:pt x="19" y="2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77000" y="4991040"/>
            <a:ext cx="49320" cy="54000"/>
          </a:xfrm>
          <a:custGeom>
            <a:avLst/>
            <a:gdLst/>
            <a:ahLst/>
            <a:rect l="l" t="t" r="r" b="b"/>
            <a:pathLst>
              <a:path w="31" h="34">
                <a:moveTo>
                  <a:pt x="6" y="34"/>
                </a:moveTo>
                <a:lnTo>
                  <a:pt x="0" y="34"/>
                </a:lnTo>
                <a:lnTo>
                  <a:pt x="31" y="0"/>
                </a:lnTo>
                <a:lnTo>
                  <a:pt x="28" y="10"/>
                </a:lnTo>
                <a:lnTo>
                  <a:pt x="23" y="20"/>
                </a:lnTo>
                <a:lnTo>
                  <a:pt x="15" y="27"/>
                </a:lnTo>
                <a:lnTo>
                  <a:pt x="6" y="3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33840" y="5045040"/>
            <a:ext cx="163800" cy="523800"/>
          </a:xfrm>
          <a:custGeom>
            <a:avLst/>
            <a:gdLst/>
            <a:ahLst/>
            <a:rect l="l" t="t" r="r" b="b"/>
            <a:pathLst>
              <a:path w="103" h="330">
                <a:moveTo>
                  <a:pt x="61" y="157"/>
                </a:moveTo>
                <a:lnTo>
                  <a:pt x="64" y="179"/>
                </a:lnTo>
                <a:lnTo>
                  <a:pt x="68" y="201"/>
                </a:lnTo>
                <a:lnTo>
                  <a:pt x="73" y="223"/>
                </a:lnTo>
                <a:lnTo>
                  <a:pt x="79" y="244"/>
                </a:lnTo>
                <a:lnTo>
                  <a:pt x="85" y="265"/>
                </a:lnTo>
                <a:lnTo>
                  <a:pt x="92" y="286"/>
                </a:lnTo>
                <a:lnTo>
                  <a:pt x="97" y="309"/>
                </a:lnTo>
                <a:lnTo>
                  <a:pt x="103" y="330"/>
                </a:lnTo>
                <a:lnTo>
                  <a:pt x="93" y="310"/>
                </a:lnTo>
                <a:lnTo>
                  <a:pt x="84" y="289"/>
                </a:lnTo>
                <a:lnTo>
                  <a:pt x="76" y="267"/>
                </a:lnTo>
                <a:lnTo>
                  <a:pt x="69" y="245"/>
                </a:lnTo>
                <a:lnTo>
                  <a:pt x="61" y="224"/>
                </a:lnTo>
                <a:lnTo>
                  <a:pt x="54" y="203"/>
                </a:lnTo>
                <a:lnTo>
                  <a:pt x="45" y="182"/>
                </a:lnTo>
                <a:lnTo>
                  <a:pt x="33" y="162"/>
                </a:lnTo>
                <a:lnTo>
                  <a:pt x="29" y="142"/>
                </a:lnTo>
                <a:lnTo>
                  <a:pt x="26" y="121"/>
                </a:lnTo>
                <a:lnTo>
                  <a:pt x="22" y="101"/>
                </a:lnTo>
                <a:lnTo>
                  <a:pt x="18" y="80"/>
                </a:lnTo>
                <a:lnTo>
                  <a:pt x="14" y="60"/>
                </a:lnTo>
                <a:lnTo>
                  <a:pt x="10" y="40"/>
                </a:lnTo>
                <a:lnTo>
                  <a:pt x="5" y="20"/>
                </a:lnTo>
                <a:lnTo>
                  <a:pt x="0" y="0"/>
                </a:lnTo>
                <a:lnTo>
                  <a:pt x="7" y="20"/>
                </a:lnTo>
                <a:lnTo>
                  <a:pt x="16" y="39"/>
                </a:lnTo>
                <a:lnTo>
                  <a:pt x="26" y="58"/>
                </a:lnTo>
                <a:lnTo>
                  <a:pt x="36" y="77"/>
                </a:lnTo>
                <a:lnTo>
                  <a:pt x="45" y="96"/>
                </a:lnTo>
                <a:lnTo>
                  <a:pt x="53" y="114"/>
                </a:lnTo>
                <a:lnTo>
                  <a:pt x="59" y="134"/>
                </a:lnTo>
                <a:lnTo>
                  <a:pt x="61" y="15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29440" y="5076720"/>
            <a:ext cx="515880" cy="573120"/>
          </a:xfrm>
          <a:custGeom>
            <a:avLst/>
            <a:gdLst/>
            <a:ahLst/>
            <a:rect l="l" t="t" r="r" b="b"/>
            <a:pathLst>
              <a:path w="325" h="361">
                <a:moveTo>
                  <a:pt x="325" y="0"/>
                </a:moveTo>
                <a:lnTo>
                  <a:pt x="314" y="19"/>
                </a:lnTo>
                <a:lnTo>
                  <a:pt x="299" y="38"/>
                </a:lnTo>
                <a:lnTo>
                  <a:pt x="285" y="56"/>
                </a:lnTo>
                <a:lnTo>
                  <a:pt x="268" y="73"/>
                </a:lnTo>
                <a:lnTo>
                  <a:pt x="252" y="90"/>
                </a:lnTo>
                <a:lnTo>
                  <a:pt x="236" y="108"/>
                </a:lnTo>
                <a:lnTo>
                  <a:pt x="219" y="125"/>
                </a:lnTo>
                <a:lnTo>
                  <a:pt x="204" y="143"/>
                </a:lnTo>
                <a:lnTo>
                  <a:pt x="186" y="168"/>
                </a:lnTo>
                <a:lnTo>
                  <a:pt x="170" y="192"/>
                </a:lnTo>
                <a:lnTo>
                  <a:pt x="153" y="216"/>
                </a:lnTo>
                <a:lnTo>
                  <a:pt x="136" y="241"/>
                </a:lnTo>
                <a:lnTo>
                  <a:pt x="117" y="265"/>
                </a:lnTo>
                <a:lnTo>
                  <a:pt x="97" y="287"/>
                </a:lnTo>
                <a:lnTo>
                  <a:pt x="74" y="307"/>
                </a:lnTo>
                <a:lnTo>
                  <a:pt x="49" y="325"/>
                </a:lnTo>
                <a:lnTo>
                  <a:pt x="0" y="361"/>
                </a:lnTo>
                <a:lnTo>
                  <a:pt x="16" y="348"/>
                </a:lnTo>
                <a:lnTo>
                  <a:pt x="31" y="335"/>
                </a:lnTo>
                <a:lnTo>
                  <a:pt x="44" y="323"/>
                </a:lnTo>
                <a:lnTo>
                  <a:pt x="58" y="308"/>
                </a:lnTo>
                <a:lnTo>
                  <a:pt x="70" y="295"/>
                </a:lnTo>
                <a:lnTo>
                  <a:pt x="82" y="281"/>
                </a:lnTo>
                <a:lnTo>
                  <a:pt x="95" y="266"/>
                </a:lnTo>
                <a:lnTo>
                  <a:pt x="106" y="252"/>
                </a:lnTo>
                <a:lnTo>
                  <a:pt x="117" y="238"/>
                </a:lnTo>
                <a:lnTo>
                  <a:pt x="128" y="223"/>
                </a:lnTo>
                <a:lnTo>
                  <a:pt x="139" y="208"/>
                </a:lnTo>
                <a:lnTo>
                  <a:pt x="150" y="193"/>
                </a:lnTo>
                <a:lnTo>
                  <a:pt x="162" y="178"/>
                </a:lnTo>
                <a:lnTo>
                  <a:pt x="173" y="163"/>
                </a:lnTo>
                <a:lnTo>
                  <a:pt x="184" y="149"/>
                </a:lnTo>
                <a:lnTo>
                  <a:pt x="195" y="134"/>
                </a:lnTo>
                <a:lnTo>
                  <a:pt x="210" y="120"/>
                </a:lnTo>
                <a:lnTo>
                  <a:pt x="224" y="105"/>
                </a:lnTo>
                <a:lnTo>
                  <a:pt x="239" y="91"/>
                </a:lnTo>
                <a:lnTo>
                  <a:pt x="252" y="77"/>
                </a:lnTo>
                <a:lnTo>
                  <a:pt x="266" y="61"/>
                </a:lnTo>
                <a:lnTo>
                  <a:pt x="279" y="47"/>
                </a:lnTo>
                <a:lnTo>
                  <a:pt x="292" y="31"/>
                </a:lnTo>
                <a:lnTo>
                  <a:pt x="305" y="16"/>
                </a:lnTo>
                <a:lnTo>
                  <a:pt x="309" y="11"/>
                </a:lnTo>
                <a:lnTo>
                  <a:pt x="315" y="7"/>
                </a:lnTo>
                <a:lnTo>
                  <a:pt x="320" y="3"/>
                </a:lnTo>
                <a:lnTo>
                  <a:pt x="325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37400" y="5140440"/>
            <a:ext cx="47520" cy="463320"/>
          </a:xfrm>
          <a:custGeom>
            <a:avLst/>
            <a:gdLst/>
            <a:ahLst/>
            <a:rect l="l" t="t" r="r" b="b"/>
            <a:pathLst>
              <a:path w="30" h="292">
                <a:moveTo>
                  <a:pt x="29" y="153"/>
                </a:moveTo>
                <a:lnTo>
                  <a:pt x="30" y="182"/>
                </a:lnTo>
                <a:lnTo>
                  <a:pt x="24" y="209"/>
                </a:lnTo>
                <a:lnTo>
                  <a:pt x="16" y="235"/>
                </a:lnTo>
                <a:lnTo>
                  <a:pt x="13" y="263"/>
                </a:lnTo>
                <a:lnTo>
                  <a:pt x="10" y="292"/>
                </a:lnTo>
                <a:lnTo>
                  <a:pt x="13" y="246"/>
                </a:lnTo>
                <a:lnTo>
                  <a:pt x="19" y="201"/>
                </a:lnTo>
                <a:lnTo>
                  <a:pt x="20" y="156"/>
                </a:lnTo>
                <a:lnTo>
                  <a:pt x="11" y="112"/>
                </a:lnTo>
                <a:lnTo>
                  <a:pt x="6" y="85"/>
                </a:lnTo>
                <a:lnTo>
                  <a:pt x="1" y="58"/>
                </a:lnTo>
                <a:lnTo>
                  <a:pt x="0" y="29"/>
                </a:lnTo>
                <a:lnTo>
                  <a:pt x="1" y="0"/>
                </a:lnTo>
                <a:lnTo>
                  <a:pt x="6" y="39"/>
                </a:lnTo>
                <a:lnTo>
                  <a:pt x="12" y="78"/>
                </a:lnTo>
                <a:lnTo>
                  <a:pt x="20" y="115"/>
                </a:lnTo>
                <a:lnTo>
                  <a:pt x="29" y="15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3000" y="5145120"/>
            <a:ext cx="68040" cy="117360"/>
          </a:xfrm>
          <a:custGeom>
            <a:avLst/>
            <a:gdLst/>
            <a:ahLst/>
            <a:rect l="l" t="t" r="r" b="b"/>
            <a:pathLst>
              <a:path w="43" h="74">
                <a:moveTo>
                  <a:pt x="43" y="64"/>
                </a:moveTo>
                <a:lnTo>
                  <a:pt x="38" y="66"/>
                </a:lnTo>
                <a:lnTo>
                  <a:pt x="35" y="68"/>
                </a:lnTo>
                <a:lnTo>
                  <a:pt x="32" y="70"/>
                </a:lnTo>
                <a:lnTo>
                  <a:pt x="28" y="74"/>
                </a:lnTo>
                <a:lnTo>
                  <a:pt x="17" y="57"/>
                </a:lnTo>
                <a:lnTo>
                  <a:pt x="9" y="38"/>
                </a:lnTo>
                <a:lnTo>
                  <a:pt x="4" y="20"/>
                </a:lnTo>
                <a:lnTo>
                  <a:pt x="0" y="0"/>
                </a:lnTo>
                <a:lnTo>
                  <a:pt x="8" y="7"/>
                </a:lnTo>
                <a:lnTo>
                  <a:pt x="16" y="14"/>
                </a:lnTo>
                <a:lnTo>
                  <a:pt x="23" y="20"/>
                </a:lnTo>
                <a:lnTo>
                  <a:pt x="29" y="28"/>
                </a:lnTo>
                <a:lnTo>
                  <a:pt x="35" y="36"/>
                </a:lnTo>
                <a:lnTo>
                  <a:pt x="39" y="45"/>
                </a:lnTo>
                <a:lnTo>
                  <a:pt x="42" y="54"/>
                </a:lnTo>
                <a:lnTo>
                  <a:pt x="43" y="6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37240" y="5192640"/>
            <a:ext cx="3780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24" y="20"/>
                </a:moveTo>
                <a:lnTo>
                  <a:pt x="16" y="18"/>
                </a:lnTo>
                <a:lnTo>
                  <a:pt x="10" y="14"/>
                </a:lnTo>
                <a:lnTo>
                  <a:pt x="6" y="7"/>
                </a:lnTo>
                <a:lnTo>
                  <a:pt x="0" y="0"/>
                </a:lnTo>
                <a:lnTo>
                  <a:pt x="24" y="2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205680" y="5199120"/>
            <a:ext cx="79200" cy="90360"/>
          </a:xfrm>
          <a:custGeom>
            <a:avLst/>
            <a:gdLst/>
            <a:ahLst/>
            <a:rect l="l" t="t" r="r" b="b"/>
            <a:pathLst>
              <a:path w="50" h="57">
                <a:moveTo>
                  <a:pt x="50" y="0"/>
                </a:moveTo>
                <a:lnTo>
                  <a:pt x="47" y="7"/>
                </a:lnTo>
                <a:lnTo>
                  <a:pt x="43" y="15"/>
                </a:lnTo>
                <a:lnTo>
                  <a:pt x="41" y="24"/>
                </a:lnTo>
                <a:lnTo>
                  <a:pt x="39" y="32"/>
                </a:lnTo>
                <a:lnTo>
                  <a:pt x="36" y="41"/>
                </a:lnTo>
                <a:lnTo>
                  <a:pt x="31" y="47"/>
                </a:lnTo>
                <a:lnTo>
                  <a:pt x="26" y="53"/>
                </a:lnTo>
                <a:lnTo>
                  <a:pt x="17" y="57"/>
                </a:lnTo>
                <a:lnTo>
                  <a:pt x="14" y="46"/>
                </a:lnTo>
                <a:lnTo>
                  <a:pt x="10" y="36"/>
                </a:lnTo>
                <a:lnTo>
                  <a:pt x="5" y="26"/>
                </a:lnTo>
                <a:lnTo>
                  <a:pt x="0" y="17"/>
                </a:lnTo>
                <a:lnTo>
                  <a:pt x="5" y="14"/>
                </a:lnTo>
                <a:lnTo>
                  <a:pt x="12" y="12"/>
                </a:lnTo>
                <a:lnTo>
                  <a:pt x="18" y="9"/>
                </a:lnTo>
                <a:lnTo>
                  <a:pt x="24" y="6"/>
                </a:lnTo>
                <a:lnTo>
                  <a:pt x="30" y="4"/>
                </a:lnTo>
                <a:lnTo>
                  <a:pt x="37" y="2"/>
                </a:lnTo>
                <a:lnTo>
                  <a:pt x="43" y="1"/>
                </a:lnTo>
                <a:lnTo>
                  <a:pt x="5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88000" y="5254560"/>
            <a:ext cx="523800" cy="466920"/>
          </a:xfrm>
          <a:custGeom>
            <a:avLst/>
            <a:gdLst/>
            <a:ahLst/>
            <a:rect l="l" t="t" r="r" b="b"/>
            <a:pathLst>
              <a:path w="330" h="294">
                <a:moveTo>
                  <a:pt x="222" y="160"/>
                </a:moveTo>
                <a:lnTo>
                  <a:pt x="236" y="177"/>
                </a:lnTo>
                <a:lnTo>
                  <a:pt x="249" y="193"/>
                </a:lnTo>
                <a:lnTo>
                  <a:pt x="261" y="211"/>
                </a:lnTo>
                <a:lnTo>
                  <a:pt x="274" y="228"/>
                </a:lnTo>
                <a:lnTo>
                  <a:pt x="286" y="245"/>
                </a:lnTo>
                <a:lnTo>
                  <a:pt x="299" y="262"/>
                </a:lnTo>
                <a:lnTo>
                  <a:pt x="314" y="279"/>
                </a:lnTo>
                <a:lnTo>
                  <a:pt x="330" y="294"/>
                </a:lnTo>
                <a:lnTo>
                  <a:pt x="308" y="279"/>
                </a:lnTo>
                <a:lnTo>
                  <a:pt x="289" y="260"/>
                </a:lnTo>
                <a:lnTo>
                  <a:pt x="271" y="240"/>
                </a:lnTo>
                <a:lnTo>
                  <a:pt x="255" y="220"/>
                </a:lnTo>
                <a:lnTo>
                  <a:pt x="237" y="199"/>
                </a:lnTo>
                <a:lnTo>
                  <a:pt x="219" y="179"/>
                </a:lnTo>
                <a:lnTo>
                  <a:pt x="200" y="161"/>
                </a:lnTo>
                <a:lnTo>
                  <a:pt x="177" y="144"/>
                </a:lnTo>
                <a:lnTo>
                  <a:pt x="155" y="127"/>
                </a:lnTo>
                <a:lnTo>
                  <a:pt x="133" y="110"/>
                </a:lnTo>
                <a:lnTo>
                  <a:pt x="110" y="92"/>
                </a:lnTo>
                <a:lnTo>
                  <a:pt x="88" y="76"/>
                </a:lnTo>
                <a:lnTo>
                  <a:pt x="65" y="58"/>
                </a:lnTo>
                <a:lnTo>
                  <a:pt x="44" y="39"/>
                </a:lnTo>
                <a:lnTo>
                  <a:pt x="22" y="20"/>
                </a:lnTo>
                <a:lnTo>
                  <a:pt x="0" y="0"/>
                </a:lnTo>
                <a:lnTo>
                  <a:pt x="15" y="9"/>
                </a:lnTo>
                <a:lnTo>
                  <a:pt x="30" y="18"/>
                </a:lnTo>
                <a:lnTo>
                  <a:pt x="44" y="27"/>
                </a:lnTo>
                <a:lnTo>
                  <a:pt x="58" y="36"/>
                </a:lnTo>
                <a:lnTo>
                  <a:pt x="72" y="45"/>
                </a:lnTo>
                <a:lnTo>
                  <a:pt x="87" y="53"/>
                </a:lnTo>
                <a:lnTo>
                  <a:pt x="100" y="63"/>
                </a:lnTo>
                <a:lnTo>
                  <a:pt x="115" y="72"/>
                </a:lnTo>
                <a:lnTo>
                  <a:pt x="128" y="82"/>
                </a:lnTo>
                <a:lnTo>
                  <a:pt x="143" y="92"/>
                </a:lnTo>
                <a:lnTo>
                  <a:pt x="156" y="102"/>
                </a:lnTo>
                <a:lnTo>
                  <a:pt x="170" y="113"/>
                </a:lnTo>
                <a:lnTo>
                  <a:pt x="183" y="124"/>
                </a:lnTo>
                <a:lnTo>
                  <a:pt x="196" y="135"/>
                </a:lnTo>
                <a:lnTo>
                  <a:pt x="209" y="148"/>
                </a:lnTo>
                <a:lnTo>
                  <a:pt x="222" y="16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149880" y="5268960"/>
            <a:ext cx="38160" cy="31680"/>
          </a:xfrm>
          <a:custGeom>
            <a:avLst/>
            <a:gdLst/>
            <a:ahLst/>
            <a:rect l="l" t="t" r="r" b="b"/>
            <a:pathLst>
              <a:path w="24" h="20">
                <a:moveTo>
                  <a:pt x="24" y="8"/>
                </a:moveTo>
                <a:lnTo>
                  <a:pt x="24" y="12"/>
                </a:lnTo>
                <a:lnTo>
                  <a:pt x="20" y="16"/>
                </a:lnTo>
                <a:lnTo>
                  <a:pt x="17" y="18"/>
                </a:lnTo>
                <a:lnTo>
                  <a:pt x="14" y="20"/>
                </a:lnTo>
                <a:lnTo>
                  <a:pt x="9" y="20"/>
                </a:lnTo>
                <a:lnTo>
                  <a:pt x="6" y="18"/>
                </a:lnTo>
                <a:lnTo>
                  <a:pt x="2" y="14"/>
                </a:lnTo>
                <a:lnTo>
                  <a:pt x="0" y="11"/>
                </a:lnTo>
                <a:lnTo>
                  <a:pt x="0" y="7"/>
                </a:lnTo>
                <a:lnTo>
                  <a:pt x="0" y="3"/>
                </a:lnTo>
                <a:lnTo>
                  <a:pt x="1" y="1"/>
                </a:lnTo>
                <a:lnTo>
                  <a:pt x="5" y="0"/>
                </a:lnTo>
                <a:lnTo>
                  <a:pt x="10" y="0"/>
                </a:lnTo>
                <a:lnTo>
                  <a:pt x="16" y="0"/>
                </a:lnTo>
                <a:lnTo>
                  <a:pt x="20" y="3"/>
                </a:lnTo>
                <a:lnTo>
                  <a:pt x="24" y="8"/>
                </a:lnTo>
                <a:close/>
              </a:path>
            </a:pathLst>
          </a:custGeom>
          <a:solidFill>
            <a:srgbClr val="ddb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02280" y="5280120"/>
            <a:ext cx="141480" cy="131760"/>
          </a:xfrm>
          <a:custGeom>
            <a:avLst/>
            <a:gdLst/>
            <a:ahLst/>
            <a:rect l="l" t="t" r="r" b="b"/>
            <a:pathLst>
              <a:path w="89" h="83">
                <a:moveTo>
                  <a:pt x="89" y="27"/>
                </a:moveTo>
                <a:lnTo>
                  <a:pt x="80" y="36"/>
                </a:lnTo>
                <a:lnTo>
                  <a:pt x="70" y="45"/>
                </a:lnTo>
                <a:lnTo>
                  <a:pt x="60" y="54"/>
                </a:lnTo>
                <a:lnTo>
                  <a:pt x="49" y="63"/>
                </a:lnTo>
                <a:lnTo>
                  <a:pt x="38" y="70"/>
                </a:lnTo>
                <a:lnTo>
                  <a:pt x="26" y="76"/>
                </a:lnTo>
                <a:lnTo>
                  <a:pt x="14" y="81"/>
                </a:lnTo>
                <a:lnTo>
                  <a:pt x="0" y="83"/>
                </a:lnTo>
                <a:lnTo>
                  <a:pt x="7" y="72"/>
                </a:lnTo>
                <a:lnTo>
                  <a:pt x="14" y="60"/>
                </a:lnTo>
                <a:lnTo>
                  <a:pt x="20" y="47"/>
                </a:lnTo>
                <a:lnTo>
                  <a:pt x="27" y="36"/>
                </a:lnTo>
                <a:lnTo>
                  <a:pt x="35" y="25"/>
                </a:lnTo>
                <a:lnTo>
                  <a:pt x="44" y="15"/>
                </a:lnTo>
                <a:lnTo>
                  <a:pt x="55" y="6"/>
                </a:lnTo>
                <a:lnTo>
                  <a:pt x="67" y="0"/>
                </a:lnTo>
                <a:lnTo>
                  <a:pt x="76" y="2"/>
                </a:lnTo>
                <a:lnTo>
                  <a:pt x="80" y="10"/>
                </a:lnTo>
                <a:lnTo>
                  <a:pt x="83" y="20"/>
                </a:lnTo>
                <a:lnTo>
                  <a:pt x="89" y="2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65720" y="5315040"/>
            <a:ext cx="73080" cy="110880"/>
          </a:xfrm>
          <a:custGeom>
            <a:avLst/>
            <a:gdLst/>
            <a:ahLst/>
            <a:rect l="l" t="t" r="r" b="b"/>
            <a:pathLst>
              <a:path w="46" h="70">
                <a:moveTo>
                  <a:pt x="43" y="69"/>
                </a:moveTo>
                <a:lnTo>
                  <a:pt x="42" y="70"/>
                </a:lnTo>
                <a:lnTo>
                  <a:pt x="36" y="63"/>
                </a:lnTo>
                <a:lnTo>
                  <a:pt x="30" y="56"/>
                </a:lnTo>
                <a:lnTo>
                  <a:pt x="24" y="50"/>
                </a:lnTo>
                <a:lnTo>
                  <a:pt x="17" y="43"/>
                </a:lnTo>
                <a:lnTo>
                  <a:pt x="10" y="35"/>
                </a:lnTo>
                <a:lnTo>
                  <a:pt x="6" y="28"/>
                </a:lnTo>
                <a:lnTo>
                  <a:pt x="1" y="20"/>
                </a:lnTo>
                <a:lnTo>
                  <a:pt x="0" y="11"/>
                </a:lnTo>
                <a:lnTo>
                  <a:pt x="21" y="0"/>
                </a:lnTo>
                <a:lnTo>
                  <a:pt x="35" y="14"/>
                </a:lnTo>
                <a:lnTo>
                  <a:pt x="44" y="31"/>
                </a:lnTo>
                <a:lnTo>
                  <a:pt x="46" y="50"/>
                </a:lnTo>
                <a:lnTo>
                  <a:pt x="43" y="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01000" y="5551560"/>
            <a:ext cx="29880" cy="12600"/>
          </a:xfrm>
          <a:custGeom>
            <a:avLst/>
            <a:gdLst/>
            <a:ahLst/>
            <a:rect l="l" t="t" r="r" b="b"/>
            <a:pathLst>
              <a:path w="19" h="8">
                <a:moveTo>
                  <a:pt x="19" y="0"/>
                </a:moveTo>
                <a:lnTo>
                  <a:pt x="16" y="3"/>
                </a:lnTo>
                <a:lnTo>
                  <a:pt x="10" y="5"/>
                </a:lnTo>
                <a:lnTo>
                  <a:pt x="6" y="7"/>
                </a:lnTo>
                <a:lnTo>
                  <a:pt x="0" y="8"/>
                </a:lnTo>
                <a:lnTo>
                  <a:pt x="5" y="5"/>
                </a:lnTo>
                <a:lnTo>
                  <a:pt x="9" y="3"/>
                </a:lnTo>
                <a:lnTo>
                  <a:pt x="14" y="1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80400" y="5554800"/>
            <a:ext cx="106200" cy="52200"/>
          </a:xfrm>
          <a:custGeom>
            <a:avLst/>
            <a:gdLst/>
            <a:ahLst/>
            <a:rect l="l" t="t" r="r" b="b"/>
            <a:pathLst>
              <a:path w="67" h="33">
                <a:moveTo>
                  <a:pt x="67" y="0"/>
                </a:moveTo>
                <a:lnTo>
                  <a:pt x="59" y="4"/>
                </a:lnTo>
                <a:lnTo>
                  <a:pt x="51" y="10"/>
                </a:lnTo>
                <a:lnTo>
                  <a:pt x="44" y="16"/>
                </a:lnTo>
                <a:lnTo>
                  <a:pt x="36" y="22"/>
                </a:lnTo>
                <a:lnTo>
                  <a:pt x="28" y="26"/>
                </a:lnTo>
                <a:lnTo>
                  <a:pt x="20" y="31"/>
                </a:lnTo>
                <a:lnTo>
                  <a:pt x="10" y="33"/>
                </a:lnTo>
                <a:lnTo>
                  <a:pt x="0" y="33"/>
                </a:lnTo>
                <a:lnTo>
                  <a:pt x="0" y="31"/>
                </a:lnTo>
                <a:lnTo>
                  <a:pt x="8" y="25"/>
                </a:lnTo>
                <a:lnTo>
                  <a:pt x="16" y="21"/>
                </a:lnTo>
                <a:lnTo>
                  <a:pt x="23" y="15"/>
                </a:lnTo>
                <a:lnTo>
                  <a:pt x="32" y="11"/>
                </a:lnTo>
                <a:lnTo>
                  <a:pt x="40" y="6"/>
                </a:lnTo>
                <a:lnTo>
                  <a:pt x="49" y="3"/>
                </a:lnTo>
                <a:lnTo>
                  <a:pt x="58" y="1"/>
                </a:lnTo>
                <a:lnTo>
                  <a:pt x="67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89680" y="5564160"/>
            <a:ext cx="117720" cy="65160"/>
          </a:xfrm>
          <a:custGeom>
            <a:avLst/>
            <a:gdLst/>
            <a:ahLst/>
            <a:rect l="l" t="t" r="r" b="b"/>
            <a:pathLst>
              <a:path w="74" h="41">
                <a:moveTo>
                  <a:pt x="74" y="0"/>
                </a:moveTo>
                <a:lnTo>
                  <a:pt x="65" y="7"/>
                </a:lnTo>
                <a:lnTo>
                  <a:pt x="57" y="14"/>
                </a:lnTo>
                <a:lnTo>
                  <a:pt x="48" y="19"/>
                </a:lnTo>
                <a:lnTo>
                  <a:pt x="39" y="25"/>
                </a:lnTo>
                <a:lnTo>
                  <a:pt x="30" y="30"/>
                </a:lnTo>
                <a:lnTo>
                  <a:pt x="20" y="35"/>
                </a:lnTo>
                <a:lnTo>
                  <a:pt x="10" y="38"/>
                </a:lnTo>
                <a:lnTo>
                  <a:pt x="0" y="41"/>
                </a:lnTo>
                <a:lnTo>
                  <a:pt x="8" y="34"/>
                </a:lnTo>
                <a:lnTo>
                  <a:pt x="17" y="27"/>
                </a:lnTo>
                <a:lnTo>
                  <a:pt x="26" y="20"/>
                </a:lnTo>
                <a:lnTo>
                  <a:pt x="35" y="15"/>
                </a:lnTo>
                <a:lnTo>
                  <a:pt x="44" y="10"/>
                </a:lnTo>
                <a:lnTo>
                  <a:pt x="54" y="6"/>
                </a:lnTo>
                <a:lnTo>
                  <a:pt x="64" y="3"/>
                </a:lnTo>
                <a:lnTo>
                  <a:pt x="74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19600" y="5605560"/>
            <a:ext cx="11160" cy="42840"/>
          </a:xfrm>
          <a:custGeom>
            <a:avLst/>
            <a:gdLst/>
            <a:ahLst/>
            <a:rect l="l" t="t" r="r" b="b"/>
            <a:pathLst>
              <a:path w="7" h="27">
                <a:moveTo>
                  <a:pt x="7" y="27"/>
                </a:moveTo>
                <a:lnTo>
                  <a:pt x="3" y="22"/>
                </a:lnTo>
                <a:lnTo>
                  <a:pt x="0" y="14"/>
                </a:lnTo>
                <a:lnTo>
                  <a:pt x="0" y="8"/>
                </a:lnTo>
                <a:lnTo>
                  <a:pt x="0" y="0"/>
                </a:lnTo>
                <a:lnTo>
                  <a:pt x="4" y="7"/>
                </a:lnTo>
                <a:lnTo>
                  <a:pt x="6" y="13"/>
                </a:lnTo>
                <a:lnTo>
                  <a:pt x="7" y="20"/>
                </a:lnTo>
                <a:lnTo>
                  <a:pt x="7" y="27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94520" y="5618160"/>
            <a:ext cx="669960" cy="249120"/>
          </a:xfrm>
          <a:custGeom>
            <a:avLst/>
            <a:gdLst/>
            <a:ahLst/>
            <a:rect l="l" t="t" r="r" b="b"/>
            <a:pathLst>
              <a:path w="422" h="157">
                <a:moveTo>
                  <a:pt x="422" y="0"/>
                </a:moveTo>
                <a:lnTo>
                  <a:pt x="408" y="6"/>
                </a:lnTo>
                <a:lnTo>
                  <a:pt x="393" y="13"/>
                </a:lnTo>
                <a:lnTo>
                  <a:pt x="377" y="20"/>
                </a:lnTo>
                <a:lnTo>
                  <a:pt x="363" y="26"/>
                </a:lnTo>
                <a:lnTo>
                  <a:pt x="348" y="33"/>
                </a:lnTo>
                <a:lnTo>
                  <a:pt x="334" y="41"/>
                </a:lnTo>
                <a:lnTo>
                  <a:pt x="320" y="47"/>
                </a:lnTo>
                <a:lnTo>
                  <a:pt x="306" y="56"/>
                </a:lnTo>
                <a:lnTo>
                  <a:pt x="190" y="80"/>
                </a:lnTo>
                <a:lnTo>
                  <a:pt x="179" y="85"/>
                </a:lnTo>
                <a:lnTo>
                  <a:pt x="167" y="90"/>
                </a:lnTo>
                <a:lnTo>
                  <a:pt x="156" y="94"/>
                </a:lnTo>
                <a:lnTo>
                  <a:pt x="143" y="98"/>
                </a:lnTo>
                <a:lnTo>
                  <a:pt x="131" y="103"/>
                </a:lnTo>
                <a:lnTo>
                  <a:pt x="119" y="107"/>
                </a:lnTo>
                <a:lnTo>
                  <a:pt x="106" y="112"/>
                </a:lnTo>
                <a:lnTo>
                  <a:pt x="95" y="116"/>
                </a:lnTo>
                <a:lnTo>
                  <a:pt x="83" y="121"/>
                </a:lnTo>
                <a:lnTo>
                  <a:pt x="71" y="125"/>
                </a:lnTo>
                <a:lnTo>
                  <a:pt x="58" y="131"/>
                </a:lnTo>
                <a:lnTo>
                  <a:pt x="47" y="135"/>
                </a:lnTo>
                <a:lnTo>
                  <a:pt x="35" y="141"/>
                </a:lnTo>
                <a:lnTo>
                  <a:pt x="24" y="145"/>
                </a:lnTo>
                <a:lnTo>
                  <a:pt x="11" y="152"/>
                </a:lnTo>
                <a:lnTo>
                  <a:pt x="0" y="157"/>
                </a:lnTo>
                <a:lnTo>
                  <a:pt x="12" y="149"/>
                </a:lnTo>
                <a:lnTo>
                  <a:pt x="25" y="142"/>
                </a:lnTo>
                <a:lnTo>
                  <a:pt x="36" y="135"/>
                </a:lnTo>
                <a:lnTo>
                  <a:pt x="48" y="127"/>
                </a:lnTo>
                <a:lnTo>
                  <a:pt x="61" y="121"/>
                </a:lnTo>
                <a:lnTo>
                  <a:pt x="73" y="114"/>
                </a:lnTo>
                <a:lnTo>
                  <a:pt x="86" y="107"/>
                </a:lnTo>
                <a:lnTo>
                  <a:pt x="99" y="102"/>
                </a:lnTo>
                <a:lnTo>
                  <a:pt x="111" y="96"/>
                </a:lnTo>
                <a:lnTo>
                  <a:pt x="124" y="91"/>
                </a:lnTo>
                <a:lnTo>
                  <a:pt x="137" y="85"/>
                </a:lnTo>
                <a:lnTo>
                  <a:pt x="150" y="81"/>
                </a:lnTo>
                <a:lnTo>
                  <a:pt x="164" y="75"/>
                </a:lnTo>
                <a:lnTo>
                  <a:pt x="177" y="71"/>
                </a:lnTo>
                <a:lnTo>
                  <a:pt x="190" y="67"/>
                </a:lnTo>
                <a:lnTo>
                  <a:pt x="204" y="63"/>
                </a:lnTo>
                <a:lnTo>
                  <a:pt x="308" y="43"/>
                </a:lnTo>
                <a:lnTo>
                  <a:pt x="323" y="38"/>
                </a:lnTo>
                <a:lnTo>
                  <a:pt x="336" y="32"/>
                </a:lnTo>
                <a:lnTo>
                  <a:pt x="349" y="24"/>
                </a:lnTo>
                <a:lnTo>
                  <a:pt x="363" y="16"/>
                </a:lnTo>
                <a:lnTo>
                  <a:pt x="376" y="10"/>
                </a:lnTo>
                <a:lnTo>
                  <a:pt x="391" y="4"/>
                </a:lnTo>
                <a:lnTo>
                  <a:pt x="406" y="0"/>
                </a:lnTo>
                <a:lnTo>
                  <a:pt x="422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34160" y="5665680"/>
            <a:ext cx="34920" cy="100080"/>
          </a:xfrm>
          <a:custGeom>
            <a:avLst/>
            <a:gdLst/>
            <a:ahLst/>
            <a:rect l="l" t="t" r="r" b="b"/>
            <a:pathLst>
              <a:path w="22" h="63">
                <a:moveTo>
                  <a:pt x="22" y="63"/>
                </a:moveTo>
                <a:lnTo>
                  <a:pt x="11" y="50"/>
                </a:lnTo>
                <a:lnTo>
                  <a:pt x="3" y="33"/>
                </a:lnTo>
                <a:lnTo>
                  <a:pt x="0" y="16"/>
                </a:lnTo>
                <a:lnTo>
                  <a:pt x="2" y="0"/>
                </a:lnTo>
                <a:lnTo>
                  <a:pt x="10" y="14"/>
                </a:lnTo>
                <a:lnTo>
                  <a:pt x="17" y="30"/>
                </a:lnTo>
                <a:lnTo>
                  <a:pt x="20" y="46"/>
                </a:lnTo>
                <a:lnTo>
                  <a:pt x="22" y="63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51680" y="5694480"/>
            <a:ext cx="29880" cy="31680"/>
          </a:xfrm>
          <a:custGeom>
            <a:avLst/>
            <a:gdLst/>
            <a:ahLst/>
            <a:rect l="l" t="t" r="r" b="b"/>
            <a:pathLst>
              <a:path w="19" h="20">
                <a:moveTo>
                  <a:pt x="19" y="0"/>
                </a:moveTo>
                <a:lnTo>
                  <a:pt x="16" y="6"/>
                </a:lnTo>
                <a:lnTo>
                  <a:pt x="10" y="12"/>
                </a:lnTo>
                <a:lnTo>
                  <a:pt x="6" y="16"/>
                </a:lnTo>
                <a:lnTo>
                  <a:pt x="0" y="20"/>
                </a:lnTo>
                <a:lnTo>
                  <a:pt x="2" y="14"/>
                </a:lnTo>
                <a:lnTo>
                  <a:pt x="7" y="7"/>
                </a:lnTo>
                <a:lnTo>
                  <a:pt x="13" y="3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26240" y="5765760"/>
            <a:ext cx="20520" cy="41400"/>
          </a:xfrm>
          <a:custGeom>
            <a:avLst/>
            <a:gdLst/>
            <a:ahLst/>
            <a:rect l="l" t="t" r="r" b="b"/>
            <a:pathLst>
              <a:path w="13" h="26">
                <a:moveTo>
                  <a:pt x="13" y="24"/>
                </a:moveTo>
                <a:lnTo>
                  <a:pt x="9" y="26"/>
                </a:lnTo>
                <a:lnTo>
                  <a:pt x="5" y="21"/>
                </a:lnTo>
                <a:lnTo>
                  <a:pt x="3" y="14"/>
                </a:lnTo>
                <a:lnTo>
                  <a:pt x="1" y="7"/>
                </a:lnTo>
                <a:lnTo>
                  <a:pt x="0" y="0"/>
                </a:lnTo>
                <a:lnTo>
                  <a:pt x="6" y="4"/>
                </a:lnTo>
                <a:lnTo>
                  <a:pt x="10" y="10"/>
                </a:lnTo>
                <a:lnTo>
                  <a:pt x="13" y="16"/>
                </a:lnTo>
                <a:lnTo>
                  <a:pt x="13" y="24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59320" y="5772240"/>
            <a:ext cx="20880" cy="17280"/>
          </a:xfrm>
          <a:custGeom>
            <a:avLst/>
            <a:gdLst/>
            <a:ahLst/>
            <a:rect l="l" t="t" r="r" b="b"/>
            <a:pathLst>
              <a:path w="13" h="11">
                <a:moveTo>
                  <a:pt x="13" y="11"/>
                </a:moveTo>
                <a:lnTo>
                  <a:pt x="0" y="0"/>
                </a:lnTo>
                <a:lnTo>
                  <a:pt x="10" y="7"/>
                </a:lnTo>
                <a:lnTo>
                  <a:pt x="13" y="1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05480" y="5845320"/>
            <a:ext cx="131760" cy="21960"/>
          </a:xfrm>
          <a:custGeom>
            <a:avLst/>
            <a:gdLst/>
            <a:ahLst/>
            <a:rect l="l" t="t" r="r" b="b"/>
            <a:pathLst>
              <a:path w="83" h="14">
                <a:moveTo>
                  <a:pt x="83" y="9"/>
                </a:moveTo>
                <a:lnTo>
                  <a:pt x="73" y="11"/>
                </a:lnTo>
                <a:lnTo>
                  <a:pt x="63" y="12"/>
                </a:lnTo>
                <a:lnTo>
                  <a:pt x="52" y="13"/>
                </a:lnTo>
                <a:lnTo>
                  <a:pt x="40" y="14"/>
                </a:lnTo>
                <a:lnTo>
                  <a:pt x="30" y="14"/>
                </a:lnTo>
                <a:lnTo>
                  <a:pt x="19" y="13"/>
                </a:lnTo>
                <a:lnTo>
                  <a:pt x="9" y="11"/>
                </a:lnTo>
                <a:lnTo>
                  <a:pt x="0" y="8"/>
                </a:lnTo>
                <a:lnTo>
                  <a:pt x="10" y="5"/>
                </a:lnTo>
                <a:lnTo>
                  <a:pt x="20" y="4"/>
                </a:lnTo>
                <a:lnTo>
                  <a:pt x="32" y="2"/>
                </a:lnTo>
                <a:lnTo>
                  <a:pt x="42" y="1"/>
                </a:lnTo>
                <a:lnTo>
                  <a:pt x="53" y="0"/>
                </a:lnTo>
                <a:lnTo>
                  <a:pt x="63" y="1"/>
                </a:lnTo>
                <a:lnTo>
                  <a:pt x="73" y="3"/>
                </a:lnTo>
                <a:lnTo>
                  <a:pt x="83" y="6"/>
                </a:lnTo>
                <a:lnTo>
                  <a:pt x="83" y="9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870440" y="5850000"/>
            <a:ext cx="546120" cy="65160"/>
          </a:xfrm>
          <a:custGeom>
            <a:avLst/>
            <a:gdLst/>
            <a:ahLst/>
            <a:rect l="l" t="t" r="r" b="b"/>
            <a:pathLst>
              <a:path w="344" h="41">
                <a:moveTo>
                  <a:pt x="344" y="41"/>
                </a:moveTo>
                <a:lnTo>
                  <a:pt x="326" y="37"/>
                </a:lnTo>
                <a:lnTo>
                  <a:pt x="307" y="32"/>
                </a:lnTo>
                <a:lnTo>
                  <a:pt x="288" y="28"/>
                </a:lnTo>
                <a:lnTo>
                  <a:pt x="268" y="24"/>
                </a:lnTo>
                <a:lnTo>
                  <a:pt x="249" y="21"/>
                </a:lnTo>
                <a:lnTo>
                  <a:pt x="228" y="19"/>
                </a:lnTo>
                <a:lnTo>
                  <a:pt x="208" y="17"/>
                </a:lnTo>
                <a:lnTo>
                  <a:pt x="188" y="16"/>
                </a:lnTo>
                <a:lnTo>
                  <a:pt x="168" y="15"/>
                </a:lnTo>
                <a:lnTo>
                  <a:pt x="147" y="15"/>
                </a:lnTo>
                <a:lnTo>
                  <a:pt x="126" y="13"/>
                </a:lnTo>
                <a:lnTo>
                  <a:pt x="106" y="15"/>
                </a:lnTo>
                <a:lnTo>
                  <a:pt x="85" y="16"/>
                </a:lnTo>
                <a:lnTo>
                  <a:pt x="65" y="17"/>
                </a:lnTo>
                <a:lnTo>
                  <a:pt x="45" y="18"/>
                </a:lnTo>
                <a:lnTo>
                  <a:pt x="25" y="20"/>
                </a:lnTo>
                <a:lnTo>
                  <a:pt x="0" y="18"/>
                </a:lnTo>
                <a:lnTo>
                  <a:pt x="21" y="12"/>
                </a:lnTo>
                <a:lnTo>
                  <a:pt x="43" y="8"/>
                </a:lnTo>
                <a:lnTo>
                  <a:pt x="64" y="5"/>
                </a:lnTo>
                <a:lnTo>
                  <a:pt x="86" y="2"/>
                </a:lnTo>
                <a:lnTo>
                  <a:pt x="109" y="0"/>
                </a:lnTo>
                <a:lnTo>
                  <a:pt x="130" y="0"/>
                </a:lnTo>
                <a:lnTo>
                  <a:pt x="152" y="0"/>
                </a:lnTo>
                <a:lnTo>
                  <a:pt x="176" y="1"/>
                </a:lnTo>
                <a:lnTo>
                  <a:pt x="197" y="3"/>
                </a:lnTo>
                <a:lnTo>
                  <a:pt x="219" y="7"/>
                </a:lnTo>
                <a:lnTo>
                  <a:pt x="242" y="10"/>
                </a:lnTo>
                <a:lnTo>
                  <a:pt x="263" y="15"/>
                </a:lnTo>
                <a:lnTo>
                  <a:pt x="284" y="20"/>
                </a:lnTo>
                <a:lnTo>
                  <a:pt x="305" y="27"/>
                </a:lnTo>
                <a:lnTo>
                  <a:pt x="325" y="33"/>
                </a:lnTo>
                <a:lnTo>
                  <a:pt x="344" y="4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54520" y="5862600"/>
            <a:ext cx="38160" cy="12600"/>
          </a:xfrm>
          <a:custGeom>
            <a:avLst/>
            <a:gdLst/>
            <a:ahLst/>
            <a:rect l="l" t="t" r="r" b="b"/>
            <a:pathLst>
              <a:path w="24" h="8">
                <a:moveTo>
                  <a:pt x="0" y="8"/>
                </a:moveTo>
                <a:lnTo>
                  <a:pt x="6" y="4"/>
                </a:lnTo>
                <a:lnTo>
                  <a:pt x="11" y="3"/>
                </a:lnTo>
                <a:lnTo>
                  <a:pt x="18" y="1"/>
                </a:lnTo>
                <a:lnTo>
                  <a:pt x="24" y="0"/>
                </a:lnTo>
                <a:lnTo>
                  <a:pt x="20" y="3"/>
                </a:lnTo>
                <a:lnTo>
                  <a:pt x="15" y="5"/>
                </a:lnTo>
                <a:lnTo>
                  <a:pt x="8" y="8"/>
                </a:lnTo>
                <a:lnTo>
                  <a:pt x="0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21440" y="5878440"/>
            <a:ext cx="352440" cy="52560"/>
          </a:xfrm>
          <a:custGeom>
            <a:avLst/>
            <a:gdLst/>
            <a:ahLst/>
            <a:rect l="l" t="t" r="r" b="b"/>
            <a:pathLst>
              <a:path w="222" h="33">
                <a:moveTo>
                  <a:pt x="222" y="25"/>
                </a:moveTo>
                <a:lnTo>
                  <a:pt x="208" y="24"/>
                </a:lnTo>
                <a:lnTo>
                  <a:pt x="194" y="23"/>
                </a:lnTo>
                <a:lnTo>
                  <a:pt x="180" y="22"/>
                </a:lnTo>
                <a:lnTo>
                  <a:pt x="166" y="21"/>
                </a:lnTo>
                <a:lnTo>
                  <a:pt x="152" y="20"/>
                </a:lnTo>
                <a:lnTo>
                  <a:pt x="138" y="20"/>
                </a:lnTo>
                <a:lnTo>
                  <a:pt x="123" y="19"/>
                </a:lnTo>
                <a:lnTo>
                  <a:pt x="110" y="19"/>
                </a:lnTo>
                <a:lnTo>
                  <a:pt x="95" y="20"/>
                </a:lnTo>
                <a:lnTo>
                  <a:pt x="81" y="20"/>
                </a:lnTo>
                <a:lnTo>
                  <a:pt x="67" y="21"/>
                </a:lnTo>
                <a:lnTo>
                  <a:pt x="54" y="23"/>
                </a:lnTo>
                <a:lnTo>
                  <a:pt x="39" y="24"/>
                </a:lnTo>
                <a:lnTo>
                  <a:pt x="26" y="28"/>
                </a:lnTo>
                <a:lnTo>
                  <a:pt x="14" y="30"/>
                </a:lnTo>
                <a:lnTo>
                  <a:pt x="0" y="33"/>
                </a:lnTo>
                <a:lnTo>
                  <a:pt x="17" y="22"/>
                </a:lnTo>
                <a:lnTo>
                  <a:pt x="35" y="13"/>
                </a:lnTo>
                <a:lnTo>
                  <a:pt x="55" y="6"/>
                </a:lnTo>
                <a:lnTo>
                  <a:pt x="77" y="2"/>
                </a:lnTo>
                <a:lnTo>
                  <a:pt x="100" y="0"/>
                </a:lnTo>
                <a:lnTo>
                  <a:pt x="122" y="0"/>
                </a:lnTo>
                <a:lnTo>
                  <a:pt x="145" y="1"/>
                </a:lnTo>
                <a:lnTo>
                  <a:pt x="166" y="4"/>
                </a:lnTo>
                <a:lnTo>
                  <a:pt x="174" y="5"/>
                </a:lnTo>
                <a:lnTo>
                  <a:pt x="180" y="8"/>
                </a:lnTo>
                <a:lnTo>
                  <a:pt x="188" y="10"/>
                </a:lnTo>
                <a:lnTo>
                  <a:pt x="196" y="11"/>
                </a:lnTo>
                <a:lnTo>
                  <a:pt x="203" y="14"/>
                </a:lnTo>
                <a:lnTo>
                  <a:pt x="210" y="18"/>
                </a:lnTo>
                <a:lnTo>
                  <a:pt x="216" y="21"/>
                </a:lnTo>
                <a:lnTo>
                  <a:pt x="222" y="25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0240" y="5929200"/>
            <a:ext cx="30240" cy="12960"/>
          </a:xfrm>
          <a:custGeom>
            <a:avLst/>
            <a:gdLst/>
            <a:ahLst/>
            <a:rect l="l" t="t" r="r" b="b"/>
            <a:pathLst>
              <a:path w="19" h="8">
                <a:moveTo>
                  <a:pt x="19" y="8"/>
                </a:moveTo>
                <a:lnTo>
                  <a:pt x="0" y="3"/>
                </a:lnTo>
                <a:lnTo>
                  <a:pt x="4" y="0"/>
                </a:lnTo>
                <a:lnTo>
                  <a:pt x="10" y="0"/>
                </a:lnTo>
                <a:lnTo>
                  <a:pt x="16" y="3"/>
                </a:lnTo>
                <a:lnTo>
                  <a:pt x="19" y="8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40440" y="5954760"/>
            <a:ext cx="274680" cy="166680"/>
          </a:xfrm>
          <a:custGeom>
            <a:avLst/>
            <a:gdLst/>
            <a:ahLst/>
            <a:rect l="l" t="t" r="r" b="b"/>
            <a:pathLst>
              <a:path w="173" h="105">
                <a:moveTo>
                  <a:pt x="173" y="0"/>
                </a:moveTo>
                <a:lnTo>
                  <a:pt x="167" y="7"/>
                </a:lnTo>
                <a:lnTo>
                  <a:pt x="159" y="13"/>
                </a:lnTo>
                <a:lnTo>
                  <a:pt x="150" y="16"/>
                </a:lnTo>
                <a:lnTo>
                  <a:pt x="142" y="21"/>
                </a:lnTo>
                <a:lnTo>
                  <a:pt x="122" y="26"/>
                </a:lnTo>
                <a:lnTo>
                  <a:pt x="103" y="33"/>
                </a:lnTo>
                <a:lnTo>
                  <a:pt x="84" y="42"/>
                </a:lnTo>
                <a:lnTo>
                  <a:pt x="66" y="52"/>
                </a:lnTo>
                <a:lnTo>
                  <a:pt x="49" y="63"/>
                </a:lnTo>
                <a:lnTo>
                  <a:pt x="33" y="76"/>
                </a:lnTo>
                <a:lnTo>
                  <a:pt x="16" y="91"/>
                </a:lnTo>
                <a:lnTo>
                  <a:pt x="0" y="105"/>
                </a:lnTo>
                <a:lnTo>
                  <a:pt x="15" y="82"/>
                </a:lnTo>
                <a:lnTo>
                  <a:pt x="32" y="62"/>
                </a:lnTo>
                <a:lnTo>
                  <a:pt x="51" y="44"/>
                </a:lnTo>
                <a:lnTo>
                  <a:pt x="73" y="28"/>
                </a:lnTo>
                <a:lnTo>
                  <a:pt x="95" y="16"/>
                </a:lnTo>
                <a:lnTo>
                  <a:pt x="120" y="7"/>
                </a:lnTo>
                <a:lnTo>
                  <a:pt x="146" y="2"/>
                </a:lnTo>
                <a:lnTo>
                  <a:pt x="173" y="0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081760" y="6116760"/>
            <a:ext cx="14040" cy="25200"/>
          </a:xfrm>
          <a:custGeom>
            <a:avLst/>
            <a:gdLst/>
            <a:ahLst/>
            <a:rect l="l" t="t" r="r" b="b"/>
            <a:pathLst>
              <a:path w="9" h="16">
                <a:moveTo>
                  <a:pt x="8" y="11"/>
                </a:moveTo>
                <a:lnTo>
                  <a:pt x="1" y="16"/>
                </a:lnTo>
                <a:lnTo>
                  <a:pt x="0" y="12"/>
                </a:lnTo>
                <a:lnTo>
                  <a:pt x="1" y="7"/>
                </a:lnTo>
                <a:lnTo>
                  <a:pt x="4" y="3"/>
                </a:lnTo>
                <a:lnTo>
                  <a:pt x="7" y="0"/>
                </a:lnTo>
                <a:lnTo>
                  <a:pt x="9" y="2"/>
                </a:lnTo>
                <a:lnTo>
                  <a:pt x="9" y="5"/>
                </a:lnTo>
                <a:lnTo>
                  <a:pt x="9" y="8"/>
                </a:lnTo>
                <a:lnTo>
                  <a:pt x="8" y="11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943240" y="3429000"/>
            <a:ext cx="1600200" cy="1219320"/>
          </a:xfrm>
          <a:prstGeom prst="line">
            <a:avLst/>
          </a:prstGeom>
          <a:ln w="57240">
            <a:solidFill>
              <a:srgbClr val="cc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240" y="485280"/>
            <a:ext cx="7467480" cy="1266840"/>
          </a:xfrm>
          <a:prstGeom prst="rect">
            <a:avLst/>
          </a:prstGeom>
          <a:solidFill>
            <a:srgbClr val="ccffff"/>
          </a:solidFill>
          <a:ln w="76320">
            <a:solidFill>
              <a:srgbClr val="33339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What is the process by which plants produce food?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ffcc66"/>
          </a:solidFill>
          <a:ln w="57240">
            <a:solidFill>
              <a:srgbClr val="333399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38480" y="2437920"/>
            <a:ext cx="3733920" cy="2667240"/>
          </a:xfrm>
          <a:prstGeom prst="rect">
            <a:avLst/>
          </a:prstGeom>
          <a:solidFill>
            <a:srgbClr val="bca9f9"/>
          </a:solidFill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bd07690_" descr=""/>
          <p:cNvPicPr/>
          <p:nvPr/>
        </p:nvPicPr>
        <p:blipFill>
          <a:blip r:embed="rId1"/>
          <a:stretch/>
        </p:blipFill>
        <p:spPr>
          <a:xfrm>
            <a:off x="838080" y="2666880"/>
            <a:ext cx="2421000" cy="27432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240" y="533520"/>
            <a:ext cx="7467480" cy="1218960"/>
          </a:xfrm>
          <a:prstGeom prst="rect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00"/>
                </a:solidFill>
                <a:latin typeface="Arial Black"/>
              </a:rPr>
              <a:t>Name the three functions roots do for plants.</a:t>
            </a:r>
            <a:endParaRPr b="0" lang="en-US" sz="36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txBody>
          <a:bodyPr lIns="109080" rIns="109080" tIns="65880" bIns="658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114440" y="2666880"/>
            <a:ext cx="3352680" cy="27432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rb min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rb wa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ld or anchor plant into the 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na01448_" descr=""/>
          <p:cNvPicPr/>
          <p:nvPr/>
        </p:nvPicPr>
        <p:blipFill>
          <a:blip r:embed="rId1"/>
          <a:stretch/>
        </p:blipFill>
        <p:spPr>
          <a:xfrm>
            <a:off x="304920" y="2286000"/>
            <a:ext cx="2014560" cy="3468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 flipH="1">
            <a:off x="1752120" y="2590920"/>
            <a:ext cx="205740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240" y="282240"/>
            <a:ext cx="7467480" cy="1469880"/>
          </a:xfrm>
          <a:prstGeom prst="rect">
            <a:avLst/>
          </a:prstGeom>
          <a:solidFill>
            <a:srgbClr val="ccff33"/>
          </a:solidFill>
          <a:ln w="38160">
            <a:solidFill>
              <a:srgbClr val="009900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Name three ways seeds can travel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3695760" cy="4114800"/>
          </a:xfrm>
          <a:prstGeom prst="rect">
            <a:avLst/>
          </a:prstGeom>
          <a:solidFill>
            <a:srgbClr val="ff9933"/>
          </a:solidFill>
          <a:ln w="38160">
            <a:solidFill>
              <a:srgbClr val="996633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d by w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d by animals and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5f5f5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rried by wa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114800" y="1904760"/>
            <a:ext cx="3695760" cy="4724280"/>
          </a:xfrm>
          <a:prstGeom prst="rect">
            <a:avLst/>
          </a:prstGeom>
          <a:solidFill>
            <a:srgbClr val="e9c363"/>
          </a:solidFill>
          <a:ln w="57240">
            <a:solidFill>
              <a:srgbClr val="cc9900"/>
            </a:solidFill>
            <a:miter/>
          </a:ln>
        </p:spPr>
        <p:txBody>
          <a:bodyPr lIns="118440" rIns="118440" tIns="75240" bIns="752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h01189j" descr=""/>
          <p:cNvPicPr/>
          <p:nvPr/>
        </p:nvPicPr>
        <p:blipFill>
          <a:blip r:embed="rId1"/>
          <a:stretch/>
        </p:blipFill>
        <p:spPr>
          <a:xfrm>
            <a:off x="4267080" y="2209680"/>
            <a:ext cx="1981440" cy="1676520"/>
          </a:xfrm>
          <a:prstGeom prst="rect">
            <a:avLst/>
          </a:prstGeom>
          <a:ln w="0">
            <a:noFill/>
          </a:ln>
        </p:spPr>
      </p:pic>
      <p:pic>
        <p:nvPicPr>
          <p:cNvPr id="178" name="bd10953_" descr=""/>
          <p:cNvPicPr/>
          <p:nvPr/>
        </p:nvPicPr>
        <p:blipFill>
          <a:blip r:embed="rId2"/>
          <a:stretch/>
        </p:blipFill>
        <p:spPr>
          <a:xfrm>
            <a:off x="6400800" y="1981080"/>
            <a:ext cx="1201680" cy="1981440"/>
          </a:xfrm>
          <a:prstGeom prst="rect">
            <a:avLst/>
          </a:prstGeom>
          <a:ln w="0">
            <a:noFill/>
          </a:ln>
        </p:spPr>
      </p:pic>
      <p:pic>
        <p:nvPicPr>
          <p:cNvPr id="179" name="j0145120" descr=""/>
          <p:cNvPicPr/>
          <p:nvPr/>
        </p:nvPicPr>
        <p:blipFill>
          <a:blip r:embed="rId3"/>
          <a:stretch/>
        </p:blipFill>
        <p:spPr>
          <a:xfrm>
            <a:off x="4267080" y="4191120"/>
            <a:ext cx="3353040" cy="22143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5T18:35:04Z</dcterms:created>
  <dc:creator>LCSD</dc:creator>
  <dc:description/>
  <dc:language>en-US</dc:language>
  <cp:lastModifiedBy> </cp:lastModifiedBy>
  <dcterms:modified xsi:type="dcterms:W3CDTF">2008-05-05T13:38:19Z</dcterms:modified>
  <cp:revision>33</cp:revision>
  <dc:subject/>
  <dc:title>Pollination Review</dc:title>
</cp:coreProperties>
</file>