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1D7-A8B3-4696-A7A7-1A37841B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37B8-1BE0-49A1-B3DD-050CC62C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23F-EA6B-4C92-8399-42D47089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1C6-D24E-40DC-B417-651D3DFD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3261-F719-480D-9B3E-A5DCCBEE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407C-94B9-485C-9122-034EEE6C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7D6B-1AC7-4801-8A05-548950B5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8181-CF55-4E3B-837E-968C1457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8BEA-5386-42AD-AFE2-F108C187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C252-04C9-4490-B00E-B8E45BB5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7526-A616-4A58-B2B0-54C19F59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8B4-278E-4718-B7FB-CA963CB3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FC4D-C430-46B4-A007-CF92FE7F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A944-EA84-4F5D-82BA-0A8638B9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BEE9-5A73-4283-BE0C-7A55FF2D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89AC-7FF9-4103-BA3A-C817E81C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0497-7A94-49E2-AA8F-27A2757B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A4BA-B766-433E-A2C9-4E52FA6C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F45C-47C5-4D81-B45B-990C2B06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0DE-765B-4D19-A581-EE21B5BE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4681-745F-4653-94A6-89D2D400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F237-3067-4FDA-A23C-F37DA7FE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A3D-8F87-47F9-A776-9328B269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0BB-F84E-4A16-8136-598A1DA6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38CC-53DC-4D5A-89FF-F089BEF69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58F8-9C82-4621-B712-B05A1021B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tterfly Re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ell do you know your defini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it called when an animal sheds its ski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l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2280" y="22392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92280" y="22392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upae" descr="pupae.png - pupae"/>
          <p:cNvPicPr/>
          <p:nvPr/>
        </p:nvPicPr>
        <p:blipFill>
          <a:blip r:embed="rId1"/>
          <a:stretch/>
        </p:blipFill>
        <p:spPr>
          <a:xfrm>
            <a:off x="5867280" y="2590920"/>
            <a:ext cx="251460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uring the resting stage, when the larva is changing into an adult, it is called a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p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4880" y="24400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14880" y="24400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82940739_cf7d3093c8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3314880" cy="32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for the sense organ located on the head of an insec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en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3767590556_410f0e9d35" descr=""/>
          <p:cNvPicPr/>
          <p:nvPr/>
        </p:nvPicPr>
        <p:blipFill>
          <a:blip r:embed="rId1"/>
          <a:stretch/>
        </p:blipFill>
        <p:spPr>
          <a:xfrm>
            <a:off x="4038480" y="2209680"/>
            <a:ext cx="438156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another name for the pupa of a butterfly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ysal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06640" y="5716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06640" y="5716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monarch_4" descr="monarch_4.jpg - chrysalis"/>
          <p:cNvPicPr/>
          <p:nvPr/>
        </p:nvPicPr>
        <p:blipFill>
          <a:blip r:embed="rId1"/>
          <a:stretch/>
        </p:blipFill>
        <p:spPr>
          <a:xfrm>
            <a:off x="4648320" y="1746360"/>
            <a:ext cx="380988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an animal that has 6 legs, a head, thorax, and abdome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an02531_" descr=""/>
          <p:cNvPicPr/>
          <p:nvPr/>
        </p:nvPicPr>
        <p:blipFill>
          <a:blip r:embed="rId1"/>
          <a:stretch/>
        </p:blipFill>
        <p:spPr>
          <a:xfrm>
            <a:off x="4648320" y="184932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what a moth larva spins with silk that protects it when it becomes a pup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40381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co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-993600" y="-3898800"/>
            <a:ext cx="9150120" cy="14484240"/>
            <a:chOff x="-993600" y="-3898800"/>
            <a:chExt cx="9150120" cy="14484240"/>
          </a:xfrm>
        </p:grpSpPr>
        <p:grpSp>
          <p:nvGrpSpPr>
            <p:cNvPr id="105" name=""/>
            <p:cNvGrpSpPr/>
            <p:nvPr/>
          </p:nvGrpSpPr>
          <p:grpSpPr>
            <a:xfrm>
              <a:off x="-990360" y="-3895560"/>
              <a:ext cx="9143640" cy="14478120"/>
              <a:chOff x="-990360" y="-3895560"/>
              <a:chExt cx="9143640" cy="14478120"/>
            </a:xfrm>
          </p:grpSpPr>
          <p:sp>
            <p:nvSpPr>
              <p:cNvPr id="106" name=""/>
              <p:cNvSpPr/>
              <p:nvPr/>
            </p:nvSpPr>
            <p:spPr>
              <a:xfrm>
                <a:off x="-990360" y="-3895560"/>
                <a:ext cx="9143640" cy="144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920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-990360" y="-3895560"/>
                <a:ext cx="9143640" cy="14478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-993600" y="-3898800"/>
              <a:ext cx="9150120" cy="14484240"/>
            </a:xfrm>
            <a:prstGeom prst="rect">
              <a:avLst/>
            </a:prstGeom>
            <a:noFill/>
            <a:ln cap="sq"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9" name="PrometheaCocoon" descr="Promethea Cocoon"/>
          <p:cNvPicPr/>
          <p:nvPr/>
        </p:nvPicPr>
        <p:blipFill>
          <a:blip r:embed="rId1"/>
          <a:stretch/>
        </p:blipFill>
        <p:spPr>
          <a:xfrm>
            <a:off x="5029200" y="2971800"/>
            <a:ext cx="26877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the rear part of an insect?  (This is used to digest food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do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an04187_" descr=""/>
          <p:cNvPicPr/>
          <p:nvPr/>
        </p:nvPicPr>
        <p:blipFill>
          <a:blip r:embed="rId1"/>
          <a:stretch/>
        </p:blipFill>
        <p:spPr>
          <a:xfrm>
            <a:off x="4648320" y="2924280"/>
            <a:ext cx="380988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beginning stage of an animal that is made by the female is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g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an01322_" descr="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arva of a butterfly or moth is also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rpill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an04198_" descr=""/>
          <p:cNvPicPr/>
          <p:nvPr/>
        </p:nvPicPr>
        <p:blipFill>
          <a:blip r:embed="rId1"/>
          <a:stretch/>
        </p:blipFill>
        <p:spPr>
          <a:xfrm>
            <a:off x="4648320" y="2905200"/>
            <a:ext cx="380988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the middle part of an insect where the wings and legs are found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ora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an04191_" descr=""/>
          <p:cNvPicPr/>
          <p:nvPr/>
        </p:nvPicPr>
        <p:blipFill>
          <a:blip r:embed="rId1"/>
          <a:stretch/>
        </p:blipFill>
        <p:spPr>
          <a:xfrm>
            <a:off x="4648320" y="2314440"/>
            <a:ext cx="3809880" cy="31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iff hairs on the larva are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a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an04221_" descr=""/>
          <p:cNvPicPr/>
          <p:nvPr/>
        </p:nvPicPr>
        <p:blipFill>
          <a:blip r:embed="rId1"/>
          <a:stretch/>
        </p:blipFill>
        <p:spPr>
          <a:xfrm>
            <a:off x="5559480" y="2057400"/>
            <a:ext cx="22143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16:33:56Z</dcterms:created>
  <dc:creator>LCSD</dc:creator>
  <dc:description/>
  <dc:language>en-US</dc:language>
  <cp:lastModifiedBy>LCSD</cp:lastModifiedBy>
  <dcterms:modified xsi:type="dcterms:W3CDTF">2009-11-03T14:27:40Z</dcterms:modified>
  <cp:revision>12</cp:revision>
  <dc:subject/>
  <dc:title>Butterfly Review</dc:title>
</cp:coreProperties>
</file>