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3D6-5469-4BBE-84F6-94673EDB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86C5-103F-4C34-923E-57A11CA8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B2B-372B-47CC-B64E-6DE87925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3774-A2F3-436D-AD06-AD3C64ED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423E-45EC-4A94-984E-F1196A2F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2F87-FF3C-4BEE-92D2-763CF75C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7DBF-CB86-4671-A86B-4725DCC0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EE1B-69DC-4F55-91D2-B1D0A9E2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82A8-C2F7-4545-B334-C13FC6CE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9BC5-2721-4C1C-A5BF-B9EE81AE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F7E4-EB49-4F55-BBF3-E2B3C517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646-1729-4A6A-BD43-64BCC4AF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5AC3-0052-4299-8589-08015ACF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6676-CF98-4044-8FEB-9CBE2ADD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88E1-7806-4796-9A96-72A75B20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E23B-4E3B-41E7-9E54-8150F55D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53E1-65CC-4675-8C2A-C8841529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F4BE-32B8-40E5-8CCF-6F2F02F0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EE8-7264-45E4-AE2C-A7C7DA75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9FD6-4D7A-4073-A1DA-287F45D1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BC4-6648-4A27-9C69-D7996591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8F5-7D23-4A27-8493-ACFE1D92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ED82-BD3F-4C6C-93CE-98A83664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F261-28E0-47CB-B0EA-B4D63BDD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0405-4919-4C28-9AFA-F6CD1AD4C5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43AA-4BFB-4532-87BF-7AA81CF3C7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tterfly Re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ell do you know your defini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it called when an animal sheds its ski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l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2280" y="22392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92280" y="22392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upae" descr="pupae.png - pupae"/>
          <p:cNvPicPr/>
          <p:nvPr/>
        </p:nvPicPr>
        <p:blipFill>
          <a:blip r:embed="rId1"/>
          <a:stretch/>
        </p:blipFill>
        <p:spPr>
          <a:xfrm>
            <a:off x="5867280" y="2590920"/>
            <a:ext cx="251460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uring the resting stage, when the larva is changing into an adult, it is called a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p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4880" y="24400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14880" y="24400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82940739_cf7d3093c8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3314880" cy="32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for the sense organ located on the head of an insec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en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3767590556_410f0e9d35" descr=""/>
          <p:cNvPicPr/>
          <p:nvPr/>
        </p:nvPicPr>
        <p:blipFill>
          <a:blip r:embed="rId1"/>
          <a:stretch/>
        </p:blipFill>
        <p:spPr>
          <a:xfrm>
            <a:off x="4038480" y="2209680"/>
            <a:ext cx="438156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another name for the pupa of a butterfly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ysal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06640" y="5716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06640" y="5716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monarch_4" descr="monarch_4.jpg - chrysalis"/>
          <p:cNvPicPr/>
          <p:nvPr/>
        </p:nvPicPr>
        <p:blipFill>
          <a:blip r:embed="rId1"/>
          <a:stretch/>
        </p:blipFill>
        <p:spPr>
          <a:xfrm>
            <a:off x="4648320" y="1746360"/>
            <a:ext cx="380988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an animal that has 6 legs, a head, thorax, and abdome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an02531_" descr=""/>
          <p:cNvPicPr/>
          <p:nvPr/>
        </p:nvPicPr>
        <p:blipFill>
          <a:blip r:embed="rId1"/>
          <a:stretch/>
        </p:blipFill>
        <p:spPr>
          <a:xfrm>
            <a:off x="4648320" y="184932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what a moth larva spins with silk that protects it when it becomes a pupa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40381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co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-993600" y="-3898800"/>
            <a:ext cx="9150120" cy="14484240"/>
            <a:chOff x="-993600" y="-3898800"/>
            <a:chExt cx="9150120" cy="14484240"/>
          </a:xfrm>
        </p:grpSpPr>
        <p:grpSp>
          <p:nvGrpSpPr>
            <p:cNvPr id="105" name=""/>
            <p:cNvGrpSpPr/>
            <p:nvPr/>
          </p:nvGrpSpPr>
          <p:grpSpPr>
            <a:xfrm>
              <a:off x="-990360" y="-3895560"/>
              <a:ext cx="9143640" cy="14478120"/>
              <a:chOff x="-990360" y="-3895560"/>
              <a:chExt cx="9143640" cy="14478120"/>
            </a:xfrm>
          </p:grpSpPr>
          <p:sp>
            <p:nvSpPr>
              <p:cNvPr id="106" name=""/>
              <p:cNvSpPr/>
              <p:nvPr/>
            </p:nvSpPr>
            <p:spPr>
              <a:xfrm>
                <a:off x="-990360" y="-3895560"/>
                <a:ext cx="9143640" cy="144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920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-990360" y="-3895560"/>
                <a:ext cx="9143640" cy="14478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-993600" y="-3898800"/>
              <a:ext cx="9150120" cy="14484240"/>
            </a:xfrm>
            <a:prstGeom prst="rect">
              <a:avLst/>
            </a:prstGeom>
            <a:noFill/>
            <a:ln cap="sq"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9" name="PrometheaCocoon" descr="Promethea Cocoon"/>
          <p:cNvPicPr/>
          <p:nvPr/>
        </p:nvPicPr>
        <p:blipFill>
          <a:blip r:embed="rId1"/>
          <a:stretch/>
        </p:blipFill>
        <p:spPr>
          <a:xfrm>
            <a:off x="5029200" y="2971800"/>
            <a:ext cx="26877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the rear part of an insect?  (This is used to digest food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do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an04187_" descr=""/>
          <p:cNvPicPr/>
          <p:nvPr/>
        </p:nvPicPr>
        <p:blipFill>
          <a:blip r:embed="rId1"/>
          <a:stretch/>
        </p:blipFill>
        <p:spPr>
          <a:xfrm>
            <a:off x="4648320" y="2924280"/>
            <a:ext cx="380988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beginning stage of an animal that is made by the female is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g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an01322_" descr="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arva of a butterfly or moth is also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rpill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an04198_" descr=""/>
          <p:cNvPicPr/>
          <p:nvPr/>
        </p:nvPicPr>
        <p:blipFill>
          <a:blip r:embed="rId1"/>
          <a:stretch/>
        </p:blipFill>
        <p:spPr>
          <a:xfrm>
            <a:off x="4648320" y="2905200"/>
            <a:ext cx="380988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the middle part of an insect where the wings and legs are found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ora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an04191_" descr=""/>
          <p:cNvPicPr/>
          <p:nvPr/>
        </p:nvPicPr>
        <p:blipFill>
          <a:blip r:embed="rId1"/>
          <a:stretch/>
        </p:blipFill>
        <p:spPr>
          <a:xfrm>
            <a:off x="4648320" y="2314440"/>
            <a:ext cx="3809880" cy="31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iff hairs on the larva are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a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an04221_" descr=""/>
          <p:cNvPicPr/>
          <p:nvPr/>
        </p:nvPicPr>
        <p:blipFill>
          <a:blip r:embed="rId1"/>
          <a:stretch/>
        </p:blipFill>
        <p:spPr>
          <a:xfrm>
            <a:off x="5559480" y="2057400"/>
            <a:ext cx="22143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16:33:56Z</dcterms:created>
  <dc:creator>LCSD</dc:creator>
  <dc:description/>
  <dc:language>en-US</dc:language>
  <cp:lastModifiedBy>LCSD</cp:lastModifiedBy>
  <dcterms:modified xsi:type="dcterms:W3CDTF">2009-11-03T14:27:40Z</dcterms:modified>
  <cp:revision>12</cp:revision>
  <dc:subject/>
  <dc:title>Butterfly Review</dc:title>
</cp:coreProperties>
</file>