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3914-BA84-4F98-9638-8FFD2DBB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25A4-F343-406C-81F6-8644A2B4F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750C-BF20-44C7-8D70-20DFD98C8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301C-16D9-4E87-ABBD-9225B644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0E7E-0B50-4E13-9070-BA3472F04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57300-EA56-44BC-9A9D-96260DDCE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F50A-C696-4DD3-9B15-A001E0FA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E6F29-DBCA-4EB5-A19E-8B47C1DD0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E7E0E-BA7D-4E26-8999-52D8A761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C209-65C3-4F31-99F8-1FB675DC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452EE-F059-4784-8925-30A27598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5822-C3C7-4A07-B54D-63E5EBBD4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C5FC-0886-432A-AF90-901B43CB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4E44-B7EE-41AF-89F1-E1B48B97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EBED-4240-41AE-8BE3-9302F5C4E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10D5B-DF3E-4508-A03B-4BCB50296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545A-6C02-4531-998A-2F21CB436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FCB6-0C4A-4D16-9197-9C983D580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0ED8-B032-42C6-83ED-0D8E0E0A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9950-F72C-4B14-936C-29BFF0ACD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C257-16A4-4B0D-88CB-F4D26EB6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601E-30A8-41F2-8CBF-0A8FBA76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7F0-A019-4F85-A515-D5D72B5C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789-3891-4915-B940-7C61861C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6BDF-BF4D-484F-AA80-27B155EB9F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B8FB-6D0B-4906-BCDA-0B6E89B8A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come out of a cocoon. 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and usually a long, thin body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and a thick, furry body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usually spread my wings out when I rest.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8946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I eat a lot and shed my skin many times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8006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8946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process of insects changing from eggs to adults is called what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800600"/>
            <a:ext cx="5486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amorph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12319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part of the butterfly is used to suck nectar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4190760"/>
            <a:ext cx="3086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os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30168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part of an insect’s body is used to digest food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3695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d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n02692_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36957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696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is an animal known as when it is fully grow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3695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n01168_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36957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-3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bristles or stiff hairs that help protect caterpillars from predators are known as what?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an04221_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257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66672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first stage of an insect that is produced by the female is an . . . 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aintedLadyEggs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48006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335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I fly mostly in the daytime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832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Name in order the four stages of a butterfly’s life.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3695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r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na00755_" descr=""/>
          <p:cNvPicPr/>
          <p:nvPr/>
        </p:nvPicPr>
        <p:blipFill>
          <a:blip r:embed="rId1"/>
          <a:stretch/>
        </p:blipFill>
        <p:spPr>
          <a:xfrm>
            <a:off x="4076640" y="2387520"/>
            <a:ext cx="36957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thick, feathery antennae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74674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true legs and proleg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that usually have bright, vivid color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74674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	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come out of a chrysali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335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fly mostly at night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usually fold my wings up when I rest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am also called the larva stage of the life cycle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21:31:02Z</dcterms:created>
  <dc:creator>LCSD</dc:creator>
  <dc:description/>
  <dc:language>en-US</dc:language>
  <cp:lastModifiedBy>Lancaster Central School District</cp:lastModifiedBy>
  <dcterms:modified xsi:type="dcterms:W3CDTF">2009-11-03T14:25:39Z</dcterms:modified>
  <cp:revision>22</cp:revision>
  <dc:subject/>
  <dc:title>Caterpillar, Butterfly, Moth, or  Moth and Butterfly?</dc:title>
</cp:coreProperties>
</file>