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55EF-3CF5-4482-801A-659F71F48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6BFA-5F8C-415C-96EC-710D3DF4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D8EE-2DBB-404D-95A9-4205FB1E1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A9C4-93D1-479E-921B-0B07DCB8E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1A11-E0CD-400C-8169-2712812CE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933B-8744-44A6-8A9A-47C84134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CE4B-F108-4DC1-9B53-BD91C87F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ECD4-BE1A-4295-B1C7-CC628745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577C-D411-4E47-8A9C-79221DB2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CC1E-613F-479D-BCD0-8D46A0C7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81AF-AE36-48D5-A32C-F5D7085A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DA69-8A8D-4BB2-A73A-7687406C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41D0-0A56-4549-BFF4-9DC17EEB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5865-F392-44AA-9614-581A174B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6DE7-665B-424C-A02C-DD9C0FAA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8113-2B9F-46F7-9769-A06023A4A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126B-A714-4B55-8BC0-7B760686A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F59A-0E66-4DDB-80A5-0FE0B215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D445-311F-40A3-B5F8-23256A08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5A50-3399-4BCF-8816-8DCB841A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B2DC-FBF7-4E9D-8C04-E4714834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FA16-CE1C-4AD8-A19B-86188042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3B5F-1AEC-4BF3-8BE1-41B36CF2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AB5C-BBD8-45EC-B68A-3BB5A79B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9BF5-B53D-4F21-A801-E8AC093DF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D586-61D2-468F-9F7D-94621E6DC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6660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come out of a cocoon. </a:t>
            </a:r>
            <a:br>
              <a:rPr sz="4400"/>
            </a:b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6660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have wings and usually a long, thin body.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4343040"/>
            <a:ext cx="3657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utterf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6660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have wings and a thick, furry body.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6660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usually spread my wings out when I rest.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8946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</a:rPr>
              <a:t>I eat a lot and shed my skin many times.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4800600"/>
            <a:ext cx="3886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rpil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8946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The process of insects changing from eggs to adults is called what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800600"/>
            <a:ext cx="5486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amorph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12319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What part of the butterfly is used to suck nectar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4190760"/>
            <a:ext cx="3086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osc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301680"/>
            <a:ext cx="74674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What part of an insect’s body is used to digest food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3505320"/>
            <a:ext cx="36957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d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an02692_" descr=""/>
          <p:cNvPicPr/>
          <p:nvPr/>
        </p:nvPicPr>
        <p:blipFill>
          <a:blip r:embed="rId1"/>
          <a:stretch/>
        </p:blipFill>
        <p:spPr>
          <a:xfrm>
            <a:off x="4038480" y="3276720"/>
            <a:ext cx="369576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60696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What is an animal known as when it is fully grown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3505320"/>
            <a:ext cx="36957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an01168_" descr=""/>
          <p:cNvPicPr/>
          <p:nvPr/>
        </p:nvPicPr>
        <p:blipFill>
          <a:blip r:embed="rId1"/>
          <a:stretch/>
        </p:blipFill>
        <p:spPr>
          <a:xfrm>
            <a:off x="4114800" y="3200400"/>
            <a:ext cx="369576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-3960"/>
            <a:ext cx="746748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The bristles or stiff hairs that help protect caterpillars from predators are known as what?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4038120"/>
            <a:ext cx="36957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t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an04221_" descr=""/>
          <p:cNvPicPr/>
          <p:nvPr/>
        </p:nvPicPr>
        <p:blipFill>
          <a:blip r:embed="rId1"/>
          <a:stretch/>
        </p:blipFill>
        <p:spPr>
          <a:xfrm>
            <a:off x="4800600" y="2743200"/>
            <a:ext cx="2257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666720"/>
            <a:ext cx="74674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The first stage of an insect that is produced by the female is an . . . 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4038120"/>
            <a:ext cx="36957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g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aintedLadyEggs" descr=""/>
          <p:cNvPicPr/>
          <p:nvPr/>
        </p:nvPicPr>
        <p:blipFill>
          <a:blip r:embed="rId1"/>
          <a:stretch/>
        </p:blipFill>
        <p:spPr>
          <a:xfrm>
            <a:off x="2590920" y="2971800"/>
            <a:ext cx="48006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335960"/>
            <a:ext cx="746748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</a:rPr>
              <a:t>I fly mostly in the daytime.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erf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6832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Name in order the four stages of a butterfly’s life.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2819160"/>
            <a:ext cx="36957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g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r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u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na00755_" descr=""/>
          <p:cNvPicPr/>
          <p:nvPr/>
        </p:nvPicPr>
        <p:blipFill>
          <a:blip r:embed="rId1"/>
          <a:stretch/>
        </p:blipFill>
        <p:spPr>
          <a:xfrm>
            <a:off x="4076640" y="2387520"/>
            <a:ext cx="369576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6660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have thick, feathery antennae</a:t>
            </a:r>
            <a:r>
              <a:rPr b="0" i="1" lang="en-US" sz="4400" spc="-1" strike="noStrike">
                <a:solidFill>
                  <a:srgbClr val="0033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669960"/>
            <a:ext cx="746748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have true legs and prolegs.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terpill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6660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have wings that usually have bright, vivid colors.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utterf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669960"/>
            <a:ext cx="746748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	</a:t>
            </a: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come out of a chrysalis.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utterf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1335960"/>
            <a:ext cx="746748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fly mostly at night.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6660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usually fold my wings up when I rest</a:t>
            </a:r>
            <a:r>
              <a:rPr b="0" i="1" lang="en-US" sz="4400" spc="-1" strike="noStrike">
                <a:solidFill>
                  <a:srgbClr val="0033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utterf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6660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am also called the larva stage of the life cycle.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457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rpil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4T21:31:02Z</dcterms:created>
  <dc:creator>LCSD</dc:creator>
  <dc:description/>
  <dc:language>en-US</dc:language>
  <cp:lastModifiedBy>Lancaster Central School District</cp:lastModifiedBy>
  <dcterms:modified xsi:type="dcterms:W3CDTF">2009-11-03T14:25:39Z</dcterms:modified>
  <cp:revision>22</cp:revision>
  <dc:subject/>
  <dc:title>Caterpillar, Butterfly, Moth, or  Moth and Butterfly?</dc:title>
</cp:coreProperties>
</file>