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60CA-6A3D-4235-891D-6E3032867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B218-4D90-4302-9174-41FCC7BBD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180A-8EE0-4EE9-AF39-6F09E7021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46D2-131D-408E-84C9-D7198517D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77F6-7DE3-472D-8991-99237EB5B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6CFC-AC6E-4719-B1A1-5AB6CAD5C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ED3B7-7F74-4387-B018-421CC6ABD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FA43-606B-4700-8F92-7DE22CEA5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18E6-19DC-4313-9CEA-43262942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902CC-1B9B-427B-BC95-AAFEBA3D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9EC92-C3A7-4E8A-8054-DAC6276D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92C8-5D05-43F5-B0DE-EC0B07B40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F394-4844-4F62-B61B-9809CE60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3AFE-84C0-4493-A9D8-A136139F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11038-D603-4E67-A2F6-BB6D24F1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2BE4-EFC5-46C5-A662-74AAD8AC0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A989-1EBD-4F7C-9ED7-EEBFEF1D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9E1D-657F-4FC9-87BF-0E5EADBA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CDD5-DA62-458D-BC9E-09889B2F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8A8-6609-45C5-A0F2-112C1C16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E5FC-C16A-432B-94EC-BADA1CDFF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CBF2-83A2-4076-994C-FC80B23D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7C2E-17BA-46E7-AB42-AA52DC62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7B36-6328-438A-BA38-3B4FE5D2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amboo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1EF1-E6BD-4F38-B072-0E1E8246B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bamboo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A9C1-25C7-4D14-9D48-105ECF00E9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ocoon. </a:t>
            </a: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usually a long, thin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4343040"/>
            <a:ext cx="3657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and a thick, furry body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spread my wings out when I rest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eat a lot and shed my skin many times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4800600"/>
            <a:ext cx="3886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8946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process of insects changing from eggs to adults is called what?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800600"/>
            <a:ext cx="54864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amorpho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12319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the butterfly is used to suck nectar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7720" y="4190760"/>
            <a:ext cx="30862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osc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560" y="30168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part of an insect’s body is used to digest food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d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an02692_" descr=""/>
          <p:cNvPicPr/>
          <p:nvPr/>
        </p:nvPicPr>
        <p:blipFill>
          <a:blip r:embed="rId1"/>
          <a:stretch/>
        </p:blipFill>
        <p:spPr>
          <a:xfrm>
            <a:off x="4038480" y="3276720"/>
            <a:ext cx="369576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560" y="60696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What is an animal known as when it is fully grown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3505320"/>
            <a:ext cx="36957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an01168_" descr=""/>
          <p:cNvPicPr/>
          <p:nvPr/>
        </p:nvPicPr>
        <p:blipFill>
          <a:blip r:embed="rId1"/>
          <a:stretch/>
        </p:blipFill>
        <p:spPr>
          <a:xfrm>
            <a:off x="4114800" y="3200400"/>
            <a:ext cx="3695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560" y="-3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bristles or stiff hairs that help protect caterpillars from predators are known as what?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ta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an04221_" descr=""/>
          <p:cNvPicPr/>
          <p:nvPr/>
        </p:nvPicPr>
        <p:blipFill>
          <a:blip r:embed="rId1"/>
          <a:stretch/>
        </p:blipFill>
        <p:spPr>
          <a:xfrm>
            <a:off x="4800600" y="2743200"/>
            <a:ext cx="22575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666720"/>
            <a:ext cx="74674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The first stage of an insect that is produced by the female is an . . . 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4038120"/>
            <a:ext cx="36957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aintedLadyEggs" descr=""/>
          <p:cNvPicPr/>
          <p:nvPr/>
        </p:nvPicPr>
        <p:blipFill>
          <a:blip r:embed="rId1"/>
          <a:stretch/>
        </p:blipFill>
        <p:spPr>
          <a:xfrm>
            <a:off x="2590920" y="2971800"/>
            <a:ext cx="48006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I fly mostly in the daytime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560" y="68328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Name in order the four stages of a butterfly’s life.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2819160"/>
            <a:ext cx="369576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ar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up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na00755_" descr=""/>
          <p:cNvPicPr/>
          <p:nvPr/>
        </p:nvPicPr>
        <p:blipFill>
          <a:blip r:embed="rId1"/>
          <a:stretch/>
        </p:blipFill>
        <p:spPr>
          <a:xfrm>
            <a:off x="4076640" y="2387520"/>
            <a:ext cx="36957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hick, feathery antennae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true legs and proleg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have wings that usually have bright, vivid color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669960"/>
            <a:ext cx="7467480" cy="34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	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come out of a chrysalis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1335960"/>
            <a:ext cx="746748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fly mostly at night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usually fold my wings up when I rest</a:t>
            </a:r>
            <a:r>
              <a:rPr b="0" i="1" lang="en-US" sz="4400" spc="-1" strike="noStrike">
                <a:solidFill>
                  <a:srgbClr val="003300"/>
                </a:solidFill>
                <a:latin typeface="Comic Sans MS"/>
              </a:rPr>
              <a:t>.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3200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utter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666000"/>
            <a:ext cx="746748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Comic Sans MS"/>
              </a:rPr>
              <a:t>Caterpillar, Butterfly, or Moth?</a:t>
            </a:r>
            <a:br>
              <a:rPr sz="4400"/>
            </a:br>
            <a:br>
              <a:rPr sz="4400"/>
            </a:br>
            <a:r>
              <a:rPr b="0" i="1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I am also called the larva stage of the life cycle.</a:t>
            </a:r>
            <a:r>
              <a:rPr b="0" lang="en-US" sz="4400" spc="-1" strike="noStrike">
                <a:solidFill>
                  <a:srgbClr val="0033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43434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rpill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4T21:31:02Z</dcterms:created>
  <dc:creator>LCSD</dc:creator>
  <dc:description/>
  <dc:language>en-US</dc:language>
  <cp:lastModifiedBy>Lancaster Central School District</cp:lastModifiedBy>
  <dcterms:modified xsi:type="dcterms:W3CDTF">2009-11-03T14:25:39Z</dcterms:modified>
  <cp:revision>22</cp:revision>
  <dc:subject/>
  <dc:title>Caterpillar, Butterfly, Moth, or  Moth and Butterfly?</dc:title>
</cp:coreProperties>
</file>