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DBAC-053F-47E1-B0E4-2D1BF360D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95A8-C5E0-4217-9687-C32711C32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ACFB-C8EC-4A83-8A9C-009A4B36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18BC-B2A5-4604-A303-EA27692FD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F4E8-DBA4-499E-B598-28C42A4A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922-DEAF-40A0-9AB2-EA16BB95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7E5-85EA-4C0C-AF8A-FE723DBA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B56-B8A7-4E72-9B0A-56B69131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CBB4-84B8-4891-BDFA-215F0CDE2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0404-CA43-4E01-9585-58FF0AAD8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8E2D-279A-46D7-9D1C-09DC8D3D7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52C1D-3089-4AEC-B829-ADB24817A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E0BFD-E509-4764-8A13-8090B3E4D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CSD</cp:lastModifiedBy>
  <dcterms:modified xsi:type="dcterms:W3CDTF">2009-11-03T17:24:46Z</dcterms:modified>
  <cp:revision>37</cp:revision>
  <dc:subject/>
  <dc:title>Slide 1</dc:title>
</cp:coreProperties>
</file>