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C08-4DEA-4C05-8399-442F00B7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208-1CE4-4317-BD2C-751A7A58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277-1228-46FA-AE28-C028F681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D6D-A21C-4EF5-B7B7-9ED5290C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527-5856-43EC-BFE5-C03D4EDE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CD4-35F0-47FA-A21D-951040D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677-3243-441D-B34C-88FD8EE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5D1-E048-415C-A110-A66DCB3C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D10-56B4-4418-9802-82880953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600-6847-4C39-878E-12875E5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40F-D221-413B-9B0A-4C8F7BB1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7B5-05DB-48CE-8874-722B14D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9D73-AF06-4E4B-AA48-D5F546B4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CSD</cp:lastModifiedBy>
  <dcterms:modified xsi:type="dcterms:W3CDTF">2009-11-03T17:24:46Z</dcterms:modified>
  <cp:revision>37</cp:revision>
  <dc:subject/>
  <dc:title>Slide 1</dc:title>
</cp:coreProperties>
</file>