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4264-45FA-4A94-A835-BFBAECFFD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3F49-D476-4A04-8D3C-194FA029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3C16-8DCC-4EF8-8846-21F2531DA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C3E8-733D-4C48-A8C5-CCAC5BFB0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F8F1-4945-43E2-A100-2160E2B49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B9876-5D90-44C6-8B68-44C0BB00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A4DA-A93F-4C31-8D0A-56E9A53F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68E8F-B437-47F5-A491-24C84D7B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85C4-5970-40CE-AD72-37F42D4F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CC1BA-4AF8-4F25-889D-0074D43E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12629-2771-468A-82C8-0183BCF8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085A-8BFC-4482-B600-CE421F60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95954-1BFF-4F96-A6C0-5AD72E5E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A6214-02A9-40FD-8C3C-1006A89C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0385B-7BBD-4956-BF51-722D62139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5443D-E9C8-4C62-9430-2C458987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024A-DCBB-4635-ADC4-CB4A88B99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ECCB-42A6-4CB9-8855-E061402A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FC65-28E7-4DAD-9E6E-3C1F12737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8B1A-D20C-42F5-A42D-53933FD31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435A-66B1-44DC-9D3B-F52A4842B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2FB5-9AFC-44E7-8369-5338E40A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5E93-0878-43FE-9E42-2FCC1007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6B7B-AC66-4B51-BC6D-EE9F5145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C9187-4D72-422C-907D-F492B5639A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3982-2CFB-479F-90C5-1A206BFF99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empus Sans ITC"/>
              </a:rPr>
              <a:t>Butterflies-Learning Goal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Life cycle of the butterf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Characteristics of butterflies and moth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Butterfly body p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Interdependence among plants and butterfl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5:34:17Z</dcterms:created>
  <dc:creator> </dc:creator>
  <dc:description/>
  <dc:language>en-US</dc:language>
  <cp:lastModifiedBy>Lancaster Central School District</cp:lastModifiedBy>
  <dcterms:modified xsi:type="dcterms:W3CDTF">2009-11-03T14:39:38Z</dcterms:modified>
  <cp:revision>2</cp:revision>
  <dc:subject/>
  <dc:title>Butterflies-Learning Goals</dc:title>
</cp:coreProperties>
</file>