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2A36-B1A4-4AD5-87D8-8B5287535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DD9E-1323-4E18-A0C0-01F1E12C0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6FCA-B6BF-491D-92D0-3E08C6E08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62BE-2FBC-4A09-9F44-1A08D24EC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0526A-7516-4387-9817-FC2BF6593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5E107-7F8B-4F60-AF98-9A47F176B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8AC8F-CA45-4540-8053-62EF85220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DCD62-9312-48FD-A7C3-B49266695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8D05A-B779-4B73-BDBC-07E7F7283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47210-1C31-4E0E-BF5A-AD7F6D892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C2428-CADA-4EA9-B2BC-DC4D8D50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DC65-E60B-4D97-8E17-0F39F4FAA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24F64-44A0-4B09-8576-FEAD3980D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2B646-B682-458C-AAEE-4C23C9137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40A84-D66E-47D8-92B3-D1BC60F53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2D4B4-9223-4357-B419-895EEF013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FE127-4DDD-486F-A271-188C60556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7246-D35B-4283-8603-CE4CE1296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24DC-8216-45EC-8C4D-1C6F41DA5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E77C-53F4-494E-8F92-118BB5AF5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A294-E9CC-448D-80DC-7AA21F7D1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0CBC-18C0-4C7B-BDD8-C95D04E1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CF0A-9CBA-4692-8952-8140E4F69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C746-2978-49C2-B483-443FD7C75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949B6-D529-472A-A476-24ECF1A42A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7E5B6-6CF7-4B2C-8475-71575F8044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empus Sans ITC"/>
              </a:rPr>
              <a:t>Butterflies-Learning Goal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empus Sans ITC"/>
              </a:rPr>
              <a:t>Life cycle of the butterfl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empus Sans ITC"/>
              </a:rPr>
              <a:t>Characteristics of butterflies and moth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empus Sans ITC"/>
              </a:rPr>
              <a:t>Butterfly body par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empus Sans ITC"/>
              </a:rPr>
              <a:t>Interdependence among plants and butterfli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5:34:17Z</dcterms:created>
  <dc:creator> </dc:creator>
  <dc:description/>
  <dc:language>en-US</dc:language>
  <cp:lastModifiedBy>Lancaster Central School District</cp:lastModifiedBy>
  <dcterms:modified xsi:type="dcterms:W3CDTF">2009-11-03T14:39:38Z</dcterms:modified>
  <cp:revision>2</cp:revision>
  <dc:subject/>
  <dc:title>Butterflies-Learning Goals</dc:title>
</cp:coreProperties>
</file>