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C6D2B-93AD-4A01-B4ED-399896A6B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54748-32C6-4556-9A47-853CB20DF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89589-B7E6-43FB-BE2B-D6FA0D938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54E8B-81FF-4282-B84A-B55190106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A2806-D114-4E1A-B728-6950EE79E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FF1BB-22DD-408E-89F6-4AFB29366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30241-70E2-468C-BE99-6B924F93A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640C1-A081-461F-A29C-1D27110D4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B2263-38AB-4F4B-B1E5-5A8770232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00888-CCFD-4AED-A886-DCF22FE87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4CCED-1505-4F93-944D-B7C7981EA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30107-5D66-45A1-A3E1-1376A2CC5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DC891-C6CE-4A95-A323-F6C391BD9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06D49-E93A-4DF2-8B75-DD77E5F3B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1D8AC-EF83-4222-85EB-3271CB9EA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0BC29-BFB0-4DD3-B8EF-8B10CC70C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34466-6B49-4A40-9313-D8572583B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2582B-FD70-485B-84BC-F1AC4A61C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37CB4-32AB-4E32-B7BD-80B780238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C2E70-9FE1-47DA-AA16-F0737F843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A3E5F-0DA8-4615-A08A-F3213E70A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CC047-79D4-41E4-89CB-678921001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3BBDD-16C2-4FFD-9052-75B722998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E06EA-7E06-4ABC-9A1B-B1BCF180F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DA9DC-C6F3-4EA1-9DCA-CF1AE12CB7D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47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778FE-5A1C-477A-B1F3-F8361051DDF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empus Sans ITC"/>
              </a:rPr>
              <a:t>Butterflies-Learning Goals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empus Sans ITC"/>
              </a:rPr>
              <a:t>Life cycle of the butterfly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empus Sans ITC"/>
              </a:rPr>
              <a:t>Characteristics of butterflies and moth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empus Sans ITC"/>
              </a:rPr>
              <a:t>Butterfly body part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empus Sans ITC"/>
              </a:rPr>
              <a:t>Interdependence among plants and butterflie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15:34:17Z</dcterms:created>
  <dc:creator> </dc:creator>
  <dc:description/>
  <dc:language>en-US</dc:language>
  <cp:lastModifiedBy>Lancaster Central School District</cp:lastModifiedBy>
  <dcterms:modified xsi:type="dcterms:W3CDTF">2009-11-03T14:39:38Z</dcterms:modified>
  <cp:revision>2</cp:revision>
  <dc:subject/>
  <dc:title>Butterflies-Learning Goals</dc:title>
</cp:coreProperties>
</file>