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5BAC-D231-4CB1-A5B0-08E5E450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74F2-9793-49BF-A9A1-295F46E8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52C9-AF7D-4A05-A793-FCC216623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34F4-DF98-4FEC-AFA8-A68A83FF8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6ACE-746D-4462-8C60-3FF43ED1A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C44F9-29E3-4442-867F-195A64B6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82DA-6FFA-4B71-B31F-5E2D28A6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D3A42-57C3-445A-BB08-1474F6CE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E310-A78C-4B9B-B1B3-82ADDA4A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0F79-20C0-4AA2-8AAC-AC683C3F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4971F-75DD-4BB2-9AE3-D9A4FA1F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9B34-18B5-41A6-BEFA-8B730BCDA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C562-6D2F-432E-BE4C-B9E39619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D936-5D90-419A-AF62-5C60961C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798FC-DE17-4815-BF3A-A91068D7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16816-0458-4F85-8863-E4A81D6DA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26357-0067-441D-BE65-C37E898FF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6D63-4D0F-4DF2-B4D2-2D5AD59D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4FAD-40C1-4A4B-A9CD-9511E437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93F6-B53F-47EA-A621-A896965A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ED71-69A7-4FFF-8ECB-C14FBB12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BC72-40F0-4222-B3F3-ACC28D8F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20F-74EA-4532-AD56-8F25C01C3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4346-4B51-4DBB-A596-7C58D500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7340E-0E28-4C6A-828F-A0096C2BDD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D6AF-E72C-4D41-AD4C-EF6C1B788D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empus Sans ITC"/>
              </a:rPr>
              <a:t>Butterflies-Learning Goa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Life cycle of the butterf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Characteristics of butterflies and moth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Butterfly body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Interdependence among plants and butterfl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5:34:17Z</dcterms:created>
  <dc:creator> </dc:creator>
  <dc:description/>
  <dc:language>en-US</dc:language>
  <cp:lastModifiedBy>Lancaster Central School District</cp:lastModifiedBy>
  <dcterms:modified xsi:type="dcterms:W3CDTF">2009-11-03T14:39:38Z</dcterms:modified>
  <cp:revision>2</cp:revision>
  <dc:subject/>
  <dc:title>Butterflies-Learning Goals</dc:title>
</cp:coreProperties>
</file>