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C8C-23EB-4C23-86C6-A726D85D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91B-6E4A-49DB-9DD6-FA7CE977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DC9-8649-468F-8988-65860536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E32-B351-4D28-8F8A-EFD9B5A9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62B-BB17-41AA-B902-284D9E62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70B0-A7B9-4186-B941-980E7185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3E71-7457-439C-AECB-D0F7331A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04A8-31ED-4765-9FFE-5FAF9C83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A8B5-3503-4A36-BED6-CA8A1FF6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48DD-1B25-488B-9DD7-69D7B4F6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EDAD-D182-4D5A-873A-6B7686D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1C0-6810-4C04-9AB4-DBCCA1E5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C477-47B7-4A14-A246-00A2730A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9E8D-7A51-4B5B-933B-60BB0B2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35E1-0D86-405C-8A4F-2FBBDC8D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7E18-8276-4CB4-8E81-31CD80E7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59E4-0EF7-4ECF-91D5-0EABAB91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D11-68AA-401F-8F6D-2D822CDC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537-20AD-4EB4-AF42-7C5147B7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A0C-05CB-4C54-97BD-C99B18FF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70C-AA98-48CE-A866-9E411654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007-FFBF-4F19-88EA-F7F52053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EF1-722A-4AE0-B2B7-FC7F1EFD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014-EE37-4250-B693-0B08984C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8779-8390-4B6B-816A-49398D374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7DAC-9E57-4BB3-B4A7-06BAF08B3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mpus Sans ITC"/>
              </a:rPr>
              <a:t>Butterflies-Learning Goa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Life cycle of the butterf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Characteristics of butterflies and mo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Butterfly body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Interdependence among plants and butterfl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34:17Z</dcterms:created>
  <dc:creator> </dc:creator>
  <dc:description/>
  <dc:language>en-US</dc:language>
  <cp:lastModifiedBy>Lancaster Central School District</cp:lastModifiedBy>
  <dcterms:modified xsi:type="dcterms:W3CDTF">2009-11-03T14:39:38Z</dcterms:modified>
  <cp:revision>2</cp:revision>
  <dc:subject/>
  <dc:title>Butterflies-Learning Goals</dc:title>
</cp:coreProperties>
</file>