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AFA2-13A5-4FE0-B35A-D674E289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2899-25DD-44C9-8028-672E67AD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C928-16AF-47FE-81C6-0A8847824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2854-1A2D-4090-8FE9-24AB4E103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39DA-00ED-4FEF-9344-92273FC77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223E-68D5-43BD-98EB-324E6456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BCDC-B380-4DE5-B9F4-9A4E4C28A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8D5C-D59F-4EB1-BE10-5D79F7A5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E27B-86C3-45A2-BB84-002A94D54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F3BD-ADE0-498B-AA39-613A1D6F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F494-383C-4F7A-80EC-05CE0169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ED91-9810-43E5-8E21-0B37AAB6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2C90C-806A-4195-86F4-172998B8FC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ancaster Central School District</cp:lastModifiedBy>
  <dcterms:modified xsi:type="dcterms:W3CDTF">2009-11-03T14:07:30Z</dcterms:modified>
  <cp:revision>37</cp:revision>
  <dc:subject/>
  <dc:title>Slide 1</dc:title>
</cp:coreProperties>
</file>