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A87C-EE5E-403D-ADCC-ABAD3786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DD42-03D6-49D4-938D-C2896C78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753F-BEEA-4284-A2C4-54CEAED7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E43C-F817-46CC-8586-C0E17277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50F0-8BC5-4868-A17A-8D413F27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72F1-26BE-4240-B7B9-5D32B603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DC9-3798-4F69-83A6-8051C962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ED99-5A57-409E-A53B-0C9D613F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AC0A-7786-436C-AB02-4CBF257D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AD10-3DC1-4C57-BA68-8F035317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ECA-5750-4344-89BA-159429F8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A2C-2E44-4976-854E-3290C7B0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689D-66AA-4F89-8BD6-8AD2E9C08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" Target="slide6.xml"/><Relationship Id="rId5" Type="http://schemas.openxmlformats.org/officeDocument/2006/relationships/image" Target="../media/image1.jpeg"/><Relationship Id="rId6" Type="http://schemas.openxmlformats.org/officeDocument/2006/relationships/slide" Target="slide5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image" Target="../media/image1.jpeg"/><Relationship Id="rId10" Type="http://schemas.openxmlformats.org/officeDocument/2006/relationships/slide" Target="slide15.xml"/><Relationship Id="rId11" Type="http://schemas.openxmlformats.org/officeDocument/2006/relationships/image" Target="../media/image1.jpeg"/><Relationship Id="rId12" Type="http://schemas.openxmlformats.org/officeDocument/2006/relationships/slide" Target="slide16.xml"/><Relationship Id="rId13" Type="http://schemas.openxmlformats.org/officeDocument/2006/relationships/image" Target="../media/image1.jpeg"/><Relationship Id="rId14" Type="http://schemas.openxmlformats.org/officeDocument/2006/relationships/slide" Target="slide35.xml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.jpeg"/><Relationship Id="rId3" Type="http://schemas.openxmlformats.org/officeDocument/2006/relationships/slide" Target="slide30.xml"/><Relationship Id="rId4" Type="http://schemas.openxmlformats.org/officeDocument/2006/relationships/image" Target="../media/image1.jpeg"/><Relationship Id="rId5" Type="http://schemas.openxmlformats.org/officeDocument/2006/relationships/slide" Target="slide31.xml"/><Relationship Id="rId6" Type="http://schemas.openxmlformats.org/officeDocument/2006/relationships/image" Target="../media/image1.jpeg"/><Relationship Id="rId7" Type="http://schemas.openxmlformats.org/officeDocument/2006/relationships/slide" Target="slide32.xml"/><Relationship Id="rId8" Type="http://schemas.openxmlformats.org/officeDocument/2006/relationships/image" Target="../media/image1.jpeg"/><Relationship Id="rId9" Type="http://schemas.openxmlformats.org/officeDocument/2006/relationships/slide" Target="slide33.xml"/><Relationship Id="rId10" Type="http://schemas.openxmlformats.org/officeDocument/2006/relationships/image" Target="../media/image1.jpeg"/><Relationship Id="rId11" Type="http://schemas.openxmlformats.org/officeDocument/2006/relationships/slide" Target="slide34.xml"/><Relationship Id="rId12" Type="http://schemas.openxmlformats.org/officeDocument/2006/relationships/image" Target="../media/image1.jpeg"/><Relationship Id="rId13" Type="http://schemas.openxmlformats.org/officeDocument/2006/relationships/slide" Target="slide35.xml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924680" y="60199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 a paintbrush to gently place one painted lady butterfly larva in your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38862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4647960" y="4419720"/>
            <a:ext cx="228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rite your name and date on both sides of the filter pa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the filter paper over top of the culture vessel and fold it over the edge of th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495680"/>
            <a:ext cx="167616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24/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581280" y="4648320"/>
            <a:ext cx="16765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t the plastic lid on the culture vessel over the filter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lowly work your way around the edge of the plastic lid until the lid snaps in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filter paper and holes in the plastic lid let air into the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4648320"/>
            <a:ext cx="1752480" cy="175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4876920"/>
            <a:ext cx="76320" cy="759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609588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0680" y="5257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54864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ce the culture vessel in a saf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 sure to avoid temperature extremes like window sills, radiators, and direct sun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60958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57200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57150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124080" y="44193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44197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876560" y="44193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lenses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ich lens magnifies m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ight try to eat a lar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es a larva protect it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38080" y="266760"/>
            <a:ext cx="73440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can we find out about the larva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id you obs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 larvae eaten any of the foo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 animals 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y made any waste prod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 if a larva has gr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id your predictions compare with your observation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85840" y="228600"/>
            <a:ext cx="8400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tell how mu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larvae have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oup Cages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sking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copy paper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62000" y="380880"/>
            <a:ext cx="882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build a butterfly cag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1600200"/>
            <a:ext cx="4191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anging Cag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copy paper box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92776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udents turn to page 8 of the activity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1600200" y="1143000"/>
            <a:ext cx="1219320" cy="457200"/>
          </a:xfrm>
          <a:custGeom>
            <a:avLst/>
            <a:gdLst>
              <a:gd name="textAreaLeft" fmla="*/ 29520 w 1219320"/>
              <a:gd name="textAreaRight" fmla="*/ 1189800 w 1219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6177" y="1400"/>
                </a:lnTo>
                <a:lnTo>
                  <a:pt x="1400" y="14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6177" y="20200"/>
                </a:lnTo>
                <a:lnTo>
                  <a:pt x="56177" y="14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7" y="202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6095880" y="11430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: Group Cag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*Your cardboard box should be 12” by 9” by 18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the large piece of nylon netting into 6 pieces each measuring 15” by 24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4267080"/>
            <a:ext cx="6248520" cy="228600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54100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142640" y="5105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5105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819520" y="43430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2577240" y="45324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91440" y="4913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4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the box has flaps on the top where it was opened, cut them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ver any holes with tape, inside and out, so butterflies cannot esc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there are no sticky tape surfaces exposed inside 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ide which side of the box will be the top of the cage and place box with cage top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oose one side of the cage for a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raw a 6” by 6” square on the center of that side of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71800" y="411480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97180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952880" y="59432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288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486400" y="34286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3429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88000" y="35449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05520" y="430704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” by 6”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257440" y="44956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84120" y="15382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you raise a butterf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69000" y="245268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we treat butterflies humane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85560" y="336708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 we do when the butterfly larvae arr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84840" y="426708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can we find out about the larva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87360" y="5181480"/>
            <a:ext cx="53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tell how much the larvae have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84840" y="611028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build a butterfly c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48720" y="16765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0120" y="11430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990360" cy="76176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79" h="21600">
                <a:moveTo>
                  <a:pt x="0" y="0"/>
                </a:moveTo>
                <a:lnTo>
                  <a:pt x="28079" y="0"/>
                </a:lnTo>
                <a:lnTo>
                  <a:pt x="28079" y="21600"/>
                </a:lnTo>
                <a:lnTo>
                  <a:pt x="0" y="21600"/>
                </a:lnTo>
                <a:close/>
              </a:path>
              <a:path fill="lightenLess" w="28079" h="21600">
                <a:moveTo>
                  <a:pt x="0" y="0"/>
                </a:moveTo>
                <a:lnTo>
                  <a:pt x="28079" y="0"/>
                </a:lnTo>
                <a:lnTo>
                  <a:pt x="26679" y="1400"/>
                </a:lnTo>
                <a:lnTo>
                  <a:pt x="1400" y="1400"/>
                </a:lnTo>
                <a:close/>
              </a:path>
              <a:path fill="darken" w="28079" h="21600">
                <a:moveTo>
                  <a:pt x="28079" y="0"/>
                </a:moveTo>
                <a:lnTo>
                  <a:pt x="28079" y="21600"/>
                </a:lnTo>
                <a:lnTo>
                  <a:pt x="26679" y="20200"/>
                </a:lnTo>
                <a:lnTo>
                  <a:pt x="26679" y="1400"/>
                </a:lnTo>
                <a:close/>
              </a:path>
              <a:path fill="darkenLess" w="28079" h="21600">
                <a:moveTo>
                  <a:pt x="2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9" y="20200"/>
                </a:lnTo>
                <a:close/>
              </a:path>
              <a:path fill="lighten" w="2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9" h="21600">
                <a:moveTo>
                  <a:pt x="7033" y="3794"/>
                </a:moveTo>
                <a:lnTo>
                  <a:pt x="21046" y="10800"/>
                </a:lnTo>
                <a:lnTo>
                  <a:pt x="703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391520" y="5257800"/>
            <a:ext cx="1523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tents continu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140508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61800" y="32767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23623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80880" y="41911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61800" y="51055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61800" y="60199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981920" y="1785960"/>
            <a:ext cx="704880" cy="50004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endshow"/>
          </p:cNvPr>
          <p:cNvSpPr/>
          <p:nvPr/>
        </p:nvSpPr>
        <p:spPr>
          <a:xfrm>
            <a:off x="7805880" y="32004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84872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through 3 sides of the square. The fourth side will act as the hi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380988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97180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952880" y="56383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95288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486400" y="3123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31240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 rot="16200000">
            <a:off x="6949080" y="3870720"/>
            <a:ext cx="1189080" cy="12189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613200" y="3135240"/>
            <a:ext cx="21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squ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ut 3 s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257800" y="3581280"/>
            <a:ext cx="12952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two paper fasteners and a twist tie to make a door l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8120" y="3200400"/>
            <a:ext cx="2666880" cy="3124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9112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4648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3560" y="46483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8760" y="351648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66880" y="3809880"/>
            <a:ext cx="9144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4360" y="59547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905120" y="4876920"/>
            <a:ext cx="20574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3352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de of c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61640" y="35164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029200" y="3733920"/>
            <a:ext cx="13716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ce the box on a table with the opening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y precut nylon netting over the op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e masking tape to secure one side of the netting to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ull netting tight to other side of the box opening and secure with t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pe the two remaining edges of the netting to the box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5181480"/>
            <a:ext cx="29718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24480" y="464832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pening of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410080" y="487692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a hole ¾” by ¾” in the top of the cage for each pu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is where filter papers with hanging pupae will be att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419112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97180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952880" y="60195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95288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48640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3505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5760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5812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2428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913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5105160" y="373356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53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ld a box lid open side up for the top of the c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rap the uncut piece of netting around the lid so the edge of the netting is even with the top edge of the box 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ke sure the netting overlaps it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retch tight and sta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4800600"/>
            <a:ext cx="2590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581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17220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617220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67080" y="41911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2670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886200" y="4419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67080" y="4419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3244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514600" y="548604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81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7220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339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86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627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434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23888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324480" y="46479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629400" y="44193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781680" y="4495680"/>
            <a:ext cx="53352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36716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peat step 1 to attach bottom of c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inside of lid faces outside of cage, making stapl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2788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6483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32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209680" y="5486040"/>
            <a:ext cx="8384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8660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6476760" y="4495680"/>
            <a:ext cx="5331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41972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ttom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2 paper fasteners through the netting where it over laps so that butterflies cannot escape and so students can reach inside when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6224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006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48320" y="55627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8320" y="6172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97840" y="504036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34320" y="4419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525780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723920" y="4724280"/>
            <a:ext cx="22100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a ¾” by ¾” hole in the top for each pupa to be h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76720" y="3505320"/>
            <a:ext cx="2590560" cy="304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27672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86728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867280" y="32000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2895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530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6252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581280" y="31237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31240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672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53080" y="33526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4290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578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9920" y="3352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6324480" y="3124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006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48320" y="42670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48320" y="48769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48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15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91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2440" y="304812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90920" y="3276720"/>
            <a:ext cx="152388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9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cotton cord to hang the completed cage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76720" y="426708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27672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86728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67280" y="3962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657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530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581280" y="38862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62520" y="3886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4114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578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03848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6019920" y="4114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6324480" y="38858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8006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5029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48320" y="5638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814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791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670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62520" y="2819520"/>
            <a:ext cx="1981080" cy="1218960"/>
          </a:xfrm>
          <a:custGeom>
            <a:avLst/>
            <a:gdLst/>
            <a:ahLst/>
            <a:rect l="l" t="t" r="r" b="b"/>
            <a:pathLst>
              <a:path w="1248" h="768">
                <a:moveTo>
                  <a:pt x="0" y="768"/>
                </a:moveTo>
                <a:cubicBezTo>
                  <a:pt x="256" y="384"/>
                  <a:pt x="512" y="0"/>
                  <a:pt x="720" y="0"/>
                </a:cubicBezTo>
                <a:cubicBezTo>
                  <a:pt x="928" y="0"/>
                  <a:pt x="1088" y="384"/>
                  <a:pt x="1248" y="768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432080" y="31352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3352680"/>
            <a:ext cx="12189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35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ould we find 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akes a good experi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04920" y="152280"/>
            <a:ext cx="8381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design an experiment to fi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ut what might be in the culture mediu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9" name=""/>
          <p:cNvSpPr/>
          <p:nvPr/>
        </p:nvSpPr>
        <p:spPr>
          <a:xfrm>
            <a:off x="3505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800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33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352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29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105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3320" y="4608360"/>
            <a:ext cx="17398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ulture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0" y="4800600"/>
            <a:ext cx="17524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53680" y="2438280"/>
            <a:ext cx="49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happens when the larvae are fully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52240" y="3276720"/>
            <a:ext cx="40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es an adult butterfly look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8560" y="5181480"/>
            <a:ext cx="60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re does the next generation of butterflies come 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4160" y="609588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don’t all butterflies surv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8200" y="41911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adult butterflies f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85560" y="1339920"/>
            <a:ext cx="64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ould we design an experiment to find out what might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culture medi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169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772400" y="129528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7924680" y="58672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6" h="21600">
                <a:moveTo>
                  <a:pt x="7031" y="10800"/>
                </a:moveTo>
                <a:lnTo>
                  <a:pt x="21044" y="3794"/>
                </a:lnTo>
                <a:lnTo>
                  <a:pt x="2104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848720" y="5486400"/>
            <a:ext cx="108576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evi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447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23302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0880" y="32446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0880" y="41590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80880" y="50734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0880" y="6019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077320" y="18288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endshow"/>
          </p:cNvPr>
          <p:cNvSpPr/>
          <p:nvPr/>
        </p:nvSpPr>
        <p:spPr>
          <a:xfrm>
            <a:off x="7881840" y="3200400"/>
            <a:ext cx="1033560" cy="762120"/>
          </a:xfrm>
          <a:custGeom>
            <a:avLst/>
            <a:gdLst>
              <a:gd name="textAreaLeft" fmla="*/ 49320 w 1033560"/>
              <a:gd name="textAreaRight" fmla="*/ 984240 w 1033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90" h="21600">
                <a:moveTo>
                  <a:pt x="0" y="0"/>
                </a:moveTo>
                <a:lnTo>
                  <a:pt x="29290" y="0"/>
                </a:lnTo>
                <a:lnTo>
                  <a:pt x="29290" y="21600"/>
                </a:lnTo>
                <a:lnTo>
                  <a:pt x="0" y="21600"/>
                </a:lnTo>
                <a:close/>
              </a:path>
              <a:path fill="lightenLess" w="29290" h="21600">
                <a:moveTo>
                  <a:pt x="0" y="0"/>
                </a:moveTo>
                <a:lnTo>
                  <a:pt x="29290" y="0"/>
                </a:lnTo>
                <a:lnTo>
                  <a:pt x="27890" y="1400"/>
                </a:lnTo>
                <a:lnTo>
                  <a:pt x="1400" y="1400"/>
                </a:lnTo>
                <a:close/>
              </a:path>
              <a:path fill="darken" w="29290" h="21600">
                <a:moveTo>
                  <a:pt x="29290" y="0"/>
                </a:moveTo>
                <a:lnTo>
                  <a:pt x="29290" y="21600"/>
                </a:lnTo>
                <a:lnTo>
                  <a:pt x="27890" y="20200"/>
                </a:lnTo>
                <a:lnTo>
                  <a:pt x="27890" y="1400"/>
                </a:lnTo>
                <a:close/>
              </a:path>
              <a:path fill="darkenLess" w="29290" h="21600">
                <a:moveTo>
                  <a:pt x="29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90" y="20200"/>
                </a:lnTo>
                <a:close/>
              </a:path>
              <a:path fill="lighten" w="29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92468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 this a chrysalis or coc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do the pupae eat at this st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pupa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larva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change from larva to pupa and pupa to adult call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are we transferring pupae to the c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52280" y="304920"/>
            <a:ext cx="883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happens when the larvae are fully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 the butterfly wings exp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the adult butterfly an ins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0880" y="457200"/>
            <a:ext cx="8610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es an adult butterfly look lik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en do butterflies uncoil their probosc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o butterflies use their proboscis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795240" y="457200"/>
            <a:ext cx="755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adult butterflies fee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would happen to painted lady butterflies if they no longer laid eg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is the picture of the life stages called a life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happens to an individual butterfly after it m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04760" y="130320"/>
            <a:ext cx="881064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ere does the next gen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 butterflies come fro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n’t all eggs in nature develop into ad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uld it be good or bad if all eggs matu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00040" y="457200"/>
            <a:ext cx="8143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y don't all butterflies surv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dome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rear part of the body of an insect which has organs for digesting food and for m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aptatio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y a plant or animal is made so it can meet its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u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ully grown stage of an animal when it’s able to m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nn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a sense organ on the head of an ins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tic potential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 quickly a plant or animal population can grow if all its young surv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terfly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ong with moths and skippers, the ins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 scale covered wings. The easiest way to t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utterflies from their close relatives is by their club-shap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tenn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200400" y="380880"/>
            <a:ext cx="2457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erpilla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larva of a butterfly or a m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rysal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another name for the pupa of a butterfly. The outer covering is made from its own sk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co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covering made of silk spun by a moth larva to protect it when it becomes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lete metamorphosi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y some insects grow up. It includes egg, larva, pupa, and adult s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clusi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was discovered from doing an 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part of an experiment that stays the same and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 used for comparison with the changed part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7" name="">
            <a:hlinkClick r:id="" action="ppaction://hlinkshowjump?jump=nextslide"/>
          </p:cNvPr>
          <p:cNvSpPr/>
          <p:nvPr/>
        </p:nvSpPr>
        <p:spPr>
          <a:xfrm>
            <a:off x="7696080" y="3049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7848720" y="11430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9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gg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ginning stage of an animal, made by a female an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ri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test an idea by making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he process in which a plant or animal increases in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ront part of an insect with organs for sensing and e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e treat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eating an animal in ways that meet its life needs and do not cause it to feel uncomfortable, feel pain, or 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c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 animal with six legs, a head, thora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abdomen, and a hard outer layer but no b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96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8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va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 wingless, often worm-like, feeding and growing stage of an insect such as a butterf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body parts used by an animal to move on the ground. Insect legs are found on the thorax and are joi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Cycl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changes in form plants and animals go through from young to ad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Spa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length of time a plant or animal l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ing Facto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ny basic need of a plant or animal which is not being met very well and keeps that plant or animal from being more com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conium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Waste formed in the pupa which shows up just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 adult insect comes out of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2438280" y="274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05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7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ta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sweet liquid made by some plants and eaten by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ato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n animal which catches and eats other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osc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The long tube mouth of some kinds of insects such as butterf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p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resting stage of some insects in which a larva changes into an ad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14" name="">
            <a:hlinkClick r:id="" action="ppaction://hlinkshowjump?jump=nextslide"/>
          </p:cNvPr>
          <p:cNvSpPr/>
          <p:nvPr/>
        </p:nvSpPr>
        <p:spPr>
          <a:xfrm>
            <a:off x="769608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7924680" y="1066680"/>
            <a:ext cx="838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we will be do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 some of the questions below to have a conversation with your peers about ins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s anyone in class ever raised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long do insects l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the life cycle of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oes a baby butterfly look like an adult butterf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do insects survive through the win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 we answer any of these questions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ising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28880" y="457200"/>
            <a:ext cx="7086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you raise a Butterf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g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One of the sections of the body of some animals, insects and worms for ex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a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Bristles or stiff hairs which stick up from the skin of a l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rax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middle part of an insect where wings and legs are f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y part of an experiment which is changed to see how it changes the results of the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t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omething made by a plant or animal as it grows or uses energy which is not needed and must be gotten rid of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plant or animal to stay healt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5" name="">
            <a:hlinkClick r:id="" action="ppaction://hlinkshowjump?jump=endshow"/>
          </p:cNvPr>
          <p:cNvSpPr/>
          <p:nvPr/>
        </p:nvSpPr>
        <p:spPr>
          <a:xfrm>
            <a:off x="7848720" y="22860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7896240" y="380880"/>
            <a:ext cx="942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umane Treatment of Butterf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all stages of the butterfly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the containers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e sure the larvae and adults have enough food and space and the right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2280"/>
            <a:ext cx="837252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we treat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 humanel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4120" y="2171880"/>
            <a:ext cx="3504960" cy="2247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772400" y="5791320"/>
            <a:ext cx="99072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01040" y="52578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228600"/>
            <a:ext cx="91533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 we do when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larvae arr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58280" y="1676520"/>
            <a:ext cx="80319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ey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are there holes in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is there filter paper under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put medium in the culture vesse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use the paintbrush to transfer the larva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25800" y="5334120"/>
            <a:ext cx="549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udents should realize that the culture vessel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igned to meet the larvae’s need for oxygen, foo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ter, and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5334120"/>
            <a:ext cx="657360" cy="834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2388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lace a little medium in your cultur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medium gives the larva food and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426708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038480"/>
            <a:ext cx="1066680" cy="45720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23920" y="4648320"/>
            <a:ext cx="22860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7772400" y="16002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924680" y="243828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another culture vessel to pack the medium so that there are no air sp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air spaces are left, the larva can crawl into those spots and become st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49528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66294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57800" y="49525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42670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59436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257800" y="42667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624852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640080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0240" y="614664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ck the depth of the med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should be 5 mm d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60958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0240" y="58420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59436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6324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5943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943600" y="59432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5958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7:38:41Z</dcterms:created>
  <dc:creator>PCSD</dc:creator>
  <dc:description/>
  <dc:language>en-US</dc:language>
  <cp:lastModifiedBy>Lancaster Central School District</cp:lastModifiedBy>
  <dcterms:modified xsi:type="dcterms:W3CDTF">2009-11-03T14:07:30Z</dcterms:modified>
  <cp:revision>37</cp:revision>
  <dc:subject/>
  <dc:title>Slide 1</dc:title>
</cp:coreProperties>
</file>