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00AF-DAD2-48E7-950A-9DE5A2741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D137-0F31-47FE-8C27-A07B0C82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BC6-AC52-4973-871E-67B72FD2F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4E74-96B0-4FF6-BC35-79BB491D6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0A29-0EBC-4D86-B715-321252435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8942-9C1A-4B76-909F-1E36970F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757-A997-4E0D-A4D2-3D08A0A3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44FE-09DE-4862-A3DE-618F15D8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D22-5507-4822-A014-4C863759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FBEC-8FE1-4B87-A0F0-73EB0D4E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C5C7-34FA-48DD-B82B-4BD95005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1C67-B47A-4416-A389-2184E5FB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9C53-CB95-4FB8-BC7B-FB0A6B02F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" Target="slide24.xm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1.jpeg"/><Relationship Id="rId4" Type="http://schemas.openxmlformats.org/officeDocument/2006/relationships/slide" Target="slide6.xml"/><Relationship Id="rId5" Type="http://schemas.openxmlformats.org/officeDocument/2006/relationships/image" Target="../media/image1.jpeg"/><Relationship Id="rId6" Type="http://schemas.openxmlformats.org/officeDocument/2006/relationships/slide" Target="slide5.xml"/><Relationship Id="rId7" Type="http://schemas.openxmlformats.org/officeDocument/2006/relationships/image" Target="../media/image1.jpeg"/><Relationship Id="rId8" Type="http://schemas.openxmlformats.org/officeDocument/2006/relationships/slide" Target="slide14.xml"/><Relationship Id="rId9" Type="http://schemas.openxmlformats.org/officeDocument/2006/relationships/image" Target="../media/image1.jpeg"/><Relationship Id="rId10" Type="http://schemas.openxmlformats.org/officeDocument/2006/relationships/slide" Target="slide15.xml"/><Relationship Id="rId11" Type="http://schemas.openxmlformats.org/officeDocument/2006/relationships/image" Target="../media/image1.jpeg"/><Relationship Id="rId12" Type="http://schemas.openxmlformats.org/officeDocument/2006/relationships/slide" Target="slide16.xml"/><Relationship Id="rId13" Type="http://schemas.openxmlformats.org/officeDocument/2006/relationships/image" Target="../media/image1.jpeg"/><Relationship Id="rId14" Type="http://schemas.openxmlformats.org/officeDocument/2006/relationships/slide" Target="slide35.xml"/><Relationship Id="rId15" Type="http://schemas.openxmlformats.org/officeDocument/2006/relationships/image" Target="../media/image1.jpeg"/><Relationship Id="rId16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image" Target="../media/image1.jpeg"/><Relationship Id="rId3" Type="http://schemas.openxmlformats.org/officeDocument/2006/relationships/slide" Target="slide30.xml"/><Relationship Id="rId4" Type="http://schemas.openxmlformats.org/officeDocument/2006/relationships/image" Target="../media/image1.jpeg"/><Relationship Id="rId5" Type="http://schemas.openxmlformats.org/officeDocument/2006/relationships/slide" Target="slide31.xml"/><Relationship Id="rId6" Type="http://schemas.openxmlformats.org/officeDocument/2006/relationships/image" Target="../media/image1.jpeg"/><Relationship Id="rId7" Type="http://schemas.openxmlformats.org/officeDocument/2006/relationships/slide" Target="slide32.xml"/><Relationship Id="rId8" Type="http://schemas.openxmlformats.org/officeDocument/2006/relationships/image" Target="../media/image1.jpeg"/><Relationship Id="rId9" Type="http://schemas.openxmlformats.org/officeDocument/2006/relationships/slide" Target="slide33.xml"/><Relationship Id="rId10" Type="http://schemas.openxmlformats.org/officeDocument/2006/relationships/image" Target="../media/image1.jpeg"/><Relationship Id="rId11" Type="http://schemas.openxmlformats.org/officeDocument/2006/relationships/slide" Target="slide34.xml"/><Relationship Id="rId12" Type="http://schemas.openxmlformats.org/officeDocument/2006/relationships/image" Target="../media/image1.jpeg"/><Relationship Id="rId13" Type="http://schemas.openxmlformats.org/officeDocument/2006/relationships/slide" Target="slide35.xml"/><Relationship Id="rId14" Type="http://schemas.openxmlformats.org/officeDocument/2006/relationships/image" Target="../media/image1.jpeg"/><Relationship Id="rId15" Type="http://schemas.openxmlformats.org/officeDocument/2006/relationships/slideLayout" Target="../slideLayouts/slideLayout1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" name="">
            <a:hlinkClick r:id="" action="ppaction://hlinkshowjump?jump=nextslide"/>
          </p:cNvPr>
          <p:cNvSpPr/>
          <p:nvPr/>
        </p:nvSpPr>
        <p:spPr>
          <a:xfrm>
            <a:off x="7924680" y="6019920"/>
            <a:ext cx="1067040" cy="685800"/>
          </a:xfrm>
          <a:custGeom>
            <a:avLst/>
            <a:gdLst>
              <a:gd name="textAreaLeft" fmla="*/ 44280 w 1067040"/>
              <a:gd name="textAreaRight" fmla="*/ 1022760 w 1067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3601" h="21600">
                <a:moveTo>
                  <a:pt x="0" y="0"/>
                </a:moveTo>
                <a:lnTo>
                  <a:pt x="33601" y="0"/>
                </a:lnTo>
                <a:lnTo>
                  <a:pt x="33601" y="21600"/>
                </a:lnTo>
                <a:lnTo>
                  <a:pt x="0" y="21600"/>
                </a:lnTo>
                <a:close/>
              </a:path>
              <a:path fill="lightenLess" w="33601" h="21600">
                <a:moveTo>
                  <a:pt x="0" y="0"/>
                </a:moveTo>
                <a:lnTo>
                  <a:pt x="33601" y="0"/>
                </a:lnTo>
                <a:lnTo>
                  <a:pt x="32201" y="1400"/>
                </a:lnTo>
                <a:lnTo>
                  <a:pt x="1400" y="1400"/>
                </a:lnTo>
                <a:close/>
              </a:path>
              <a:path fill="darken" w="33601" h="21600">
                <a:moveTo>
                  <a:pt x="33601" y="0"/>
                </a:moveTo>
                <a:lnTo>
                  <a:pt x="33601" y="21600"/>
                </a:lnTo>
                <a:lnTo>
                  <a:pt x="32201" y="20200"/>
                </a:lnTo>
                <a:lnTo>
                  <a:pt x="32201" y="1400"/>
                </a:lnTo>
                <a:close/>
              </a:path>
              <a:path fill="darkenLess" w="33601" h="21600">
                <a:moveTo>
                  <a:pt x="336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201" y="20200"/>
                </a:lnTo>
                <a:close/>
              </a:path>
              <a:path fill="lighten" w="336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601" h="21600">
                <a:moveTo>
                  <a:pt x="9794" y="3794"/>
                </a:moveTo>
                <a:lnTo>
                  <a:pt x="23807" y="10800"/>
                </a:lnTo>
                <a:lnTo>
                  <a:pt x="979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523880" y="1523880"/>
            <a:ext cx="617220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 a paintbrush to gently place one painted lady butterfly larva in your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572000" y="3886200"/>
            <a:ext cx="3886200" cy="6858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4647960" y="4419720"/>
            <a:ext cx="228600" cy="1371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7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rite your name and date on both sides of the filter pap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the filter paper over top of the culture vessel and fold it over the edge of th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05120" y="4495680"/>
            <a:ext cx="167616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 Smi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/24/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3581280" y="4648320"/>
            <a:ext cx="167652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9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866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ut the plastic lid on the culture vessel over the filter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lowly work your way around the edge of the plastic lid until the lid snaps in pl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e filter paper and holes in the plastic lid let air into the culture vess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91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19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V="1">
            <a:off x="7086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19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638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7391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648320"/>
            <a:ext cx="1752480" cy="1752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9880" y="548640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00400" y="4876920"/>
            <a:ext cx="76320" cy="7596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0400" y="6095880"/>
            <a:ext cx="76320" cy="763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80680" y="52578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219320" y="5486400"/>
            <a:ext cx="1371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1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934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ce the culture vessel in a safe 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e sure to avoid temperature extremes like window sills, radiators, and direct sunl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7672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505320" y="60958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4572000" y="44197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05320" y="57150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124080" y="44193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44197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4876560" y="44193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2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many lenses are the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ich lens magnifies mo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ight try to eat a lar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es a larva protect itself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38080" y="266760"/>
            <a:ext cx="7344000" cy="79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can we find out about the larva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id you obser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 larvae eaten any of the foo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 animals ea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ave they made any waste produc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 if a larva has grow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id your predictions compare with your observation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85840" y="228600"/>
            <a:ext cx="8400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tell how much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larvae have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Group Cages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sking ta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u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 copy paper 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ci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62000" y="380880"/>
            <a:ext cx="882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build a butterfly cag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1" name=""/>
          <p:cNvSpPr/>
          <p:nvPr/>
        </p:nvSpPr>
        <p:spPr>
          <a:xfrm>
            <a:off x="4952880" y="1600200"/>
            <a:ext cx="41911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anging Cage Materi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copy paper box l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2 paper fa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ylon ne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ta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95280" y="5927760"/>
            <a:ext cx="579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udents turn to page 8 of the activity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1600200" y="1143000"/>
            <a:ext cx="1219320" cy="457200"/>
          </a:xfrm>
          <a:custGeom>
            <a:avLst/>
            <a:gdLst>
              <a:gd name="textAreaLeft" fmla="*/ 29520 w 1219320"/>
              <a:gd name="textAreaRight" fmla="*/ 1189800 w 12193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7577" h="21600">
                <a:moveTo>
                  <a:pt x="0" y="0"/>
                </a:moveTo>
                <a:lnTo>
                  <a:pt x="57577" y="0"/>
                </a:lnTo>
                <a:lnTo>
                  <a:pt x="57577" y="21600"/>
                </a:lnTo>
                <a:lnTo>
                  <a:pt x="0" y="21600"/>
                </a:lnTo>
                <a:close/>
              </a:path>
              <a:path fill="lightenLess" w="57577" h="21600">
                <a:moveTo>
                  <a:pt x="0" y="0"/>
                </a:moveTo>
                <a:lnTo>
                  <a:pt x="57577" y="0"/>
                </a:lnTo>
                <a:lnTo>
                  <a:pt x="56177" y="1400"/>
                </a:lnTo>
                <a:lnTo>
                  <a:pt x="1400" y="1400"/>
                </a:lnTo>
                <a:close/>
              </a:path>
              <a:path fill="darken" w="57577" h="21600">
                <a:moveTo>
                  <a:pt x="57577" y="0"/>
                </a:moveTo>
                <a:lnTo>
                  <a:pt x="57577" y="21600"/>
                </a:lnTo>
                <a:lnTo>
                  <a:pt x="56177" y="20200"/>
                </a:lnTo>
                <a:lnTo>
                  <a:pt x="56177" y="1400"/>
                </a:lnTo>
                <a:close/>
              </a:path>
              <a:path fill="darkenLess" w="57577" h="21600">
                <a:moveTo>
                  <a:pt x="57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77" y="20200"/>
                </a:lnTo>
                <a:close/>
              </a:path>
              <a:path fill="lighten" w="57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rId3" action="ppaction://hlinksldjump"/>
          </p:cNvPr>
          <p:cNvSpPr/>
          <p:nvPr/>
        </p:nvSpPr>
        <p:spPr>
          <a:xfrm>
            <a:off x="6095880" y="1143000"/>
            <a:ext cx="1295640" cy="457200"/>
          </a:xfrm>
          <a:custGeom>
            <a:avLst/>
            <a:gdLst>
              <a:gd name="textAreaLeft" fmla="*/ 29520 w 1295640"/>
              <a:gd name="textAreaRight" fmla="*/ 1266120 w 12956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80" h="21600">
                <a:moveTo>
                  <a:pt x="0" y="0"/>
                </a:moveTo>
                <a:lnTo>
                  <a:pt x="61180" y="0"/>
                </a:lnTo>
                <a:lnTo>
                  <a:pt x="61180" y="21600"/>
                </a:lnTo>
                <a:lnTo>
                  <a:pt x="0" y="21600"/>
                </a:lnTo>
                <a:close/>
              </a:path>
              <a:path fill="lightenLess" w="61180" h="21600">
                <a:moveTo>
                  <a:pt x="0" y="0"/>
                </a:moveTo>
                <a:lnTo>
                  <a:pt x="61180" y="0"/>
                </a:lnTo>
                <a:lnTo>
                  <a:pt x="59780" y="1400"/>
                </a:lnTo>
                <a:lnTo>
                  <a:pt x="1400" y="1400"/>
                </a:lnTo>
                <a:close/>
              </a:path>
              <a:path fill="darken" w="61180" h="21600">
                <a:moveTo>
                  <a:pt x="61180" y="0"/>
                </a:moveTo>
                <a:lnTo>
                  <a:pt x="61180" y="21600"/>
                </a:lnTo>
                <a:lnTo>
                  <a:pt x="59780" y="20200"/>
                </a:lnTo>
                <a:lnTo>
                  <a:pt x="59780" y="1400"/>
                </a:lnTo>
                <a:close/>
              </a:path>
              <a:path fill="darkenLess" w="61180" h="21600">
                <a:moveTo>
                  <a:pt x="61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80" y="20200"/>
                </a:lnTo>
                <a:close/>
              </a:path>
              <a:path fill="lighten" w="61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: Group Cag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*Your cardboard box should be 12” by 9” by 18”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the large piece of nylon netting into 6 pieces each measuring 15” by 24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4267080"/>
            <a:ext cx="6248520" cy="2286000"/>
          </a:xfrm>
          <a:prstGeom prst="rect">
            <a:avLst/>
          </a:prstGeom>
          <a:solidFill>
            <a:srgbClr val="3333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004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4343400"/>
            <a:ext cx="0" cy="220968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5410080"/>
            <a:ext cx="60958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142640" y="51055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38280" y="5105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19520" y="495288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819520" y="434304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2577240" y="45324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5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91440" y="491328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the box has flaps on the top where it was opened, cut them 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over any holes with tape, inside and out, so butterflies cannot esca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there are no sticky tape surfaces exposed inside the bo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cide which side of the box will be the top of the cage and place box with cage top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hoose one side of the cage for a do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raw a 6” by 6” square on the center of that side of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971800" y="411480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297180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952880" y="59432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4952880" y="342864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5486400" y="34286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505320" y="34290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888000" y="354492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005520" y="430704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” by 6” squ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5257440" y="4495680"/>
            <a:ext cx="685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284120" y="15382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you raise a butter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69000" y="2452680"/>
            <a:ext cx="406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we treat butterflies humane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285560" y="3367080"/>
            <a:ext cx="501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 we do when the butterfly larvae arr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84840" y="4267080"/>
            <a:ext cx="41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can we find out about the larva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87360" y="5181480"/>
            <a:ext cx="53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tell how much the larvae have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84840" y="611028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an we build a butterfly ca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1" action="ppaction://hlinksldjump"/>
          </p:cNvPr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8720" y="16765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620120" y="11430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" name="">
            <a:hlinkClick r:id="" action="ppaction://hlinkshowjump?jump=nextslide"/>
          </p:cNvPr>
          <p:cNvSpPr/>
          <p:nvPr/>
        </p:nvSpPr>
        <p:spPr>
          <a:xfrm>
            <a:off x="7848720" y="5791320"/>
            <a:ext cx="990360" cy="76176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8079" h="21600">
                <a:moveTo>
                  <a:pt x="0" y="0"/>
                </a:moveTo>
                <a:lnTo>
                  <a:pt x="28079" y="0"/>
                </a:lnTo>
                <a:lnTo>
                  <a:pt x="28079" y="21600"/>
                </a:lnTo>
                <a:lnTo>
                  <a:pt x="0" y="21600"/>
                </a:lnTo>
                <a:close/>
              </a:path>
              <a:path fill="lightenLess" w="28079" h="21600">
                <a:moveTo>
                  <a:pt x="0" y="0"/>
                </a:moveTo>
                <a:lnTo>
                  <a:pt x="28079" y="0"/>
                </a:lnTo>
                <a:lnTo>
                  <a:pt x="26679" y="1400"/>
                </a:lnTo>
                <a:lnTo>
                  <a:pt x="1400" y="1400"/>
                </a:lnTo>
                <a:close/>
              </a:path>
              <a:path fill="darken" w="28079" h="21600">
                <a:moveTo>
                  <a:pt x="28079" y="0"/>
                </a:moveTo>
                <a:lnTo>
                  <a:pt x="28079" y="21600"/>
                </a:lnTo>
                <a:lnTo>
                  <a:pt x="26679" y="20200"/>
                </a:lnTo>
                <a:lnTo>
                  <a:pt x="26679" y="1400"/>
                </a:lnTo>
                <a:close/>
              </a:path>
              <a:path fill="darkenLess" w="28079" h="21600">
                <a:moveTo>
                  <a:pt x="280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9" y="20200"/>
                </a:lnTo>
                <a:close/>
              </a:path>
              <a:path fill="lighten" w="280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9" h="21600">
                <a:moveTo>
                  <a:pt x="7033" y="3794"/>
                </a:moveTo>
                <a:lnTo>
                  <a:pt x="21046" y="10800"/>
                </a:lnTo>
                <a:lnTo>
                  <a:pt x="70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391520" y="5257800"/>
            <a:ext cx="152388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tents continue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380880" y="140508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361800" y="32767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380880" y="23623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80880" y="41911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361800" y="51055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361800" y="6019920"/>
            <a:ext cx="704880" cy="5000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7981920" y="1785960"/>
            <a:ext cx="704880" cy="500040"/>
          </a:xfrm>
          <a:prstGeom prst="rect">
            <a:avLst/>
          </a:prstGeom>
          <a:ln w="0">
            <a:noFill/>
          </a:ln>
        </p:spPr>
      </p:pic>
      <p:sp>
        <p:nvSpPr>
          <p:cNvPr id="68" name="">
            <a:hlinkClick r:id="" action="ppaction://hlinkshowjump?jump=endshow"/>
          </p:cNvPr>
          <p:cNvSpPr/>
          <p:nvPr/>
        </p:nvSpPr>
        <p:spPr>
          <a:xfrm>
            <a:off x="7805880" y="32004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784872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162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through 3 sides of the square. The fourth side will act as the hin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971800" y="380988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297180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952880" y="56383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4952880" y="3123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V="1">
            <a:off x="5486400" y="312372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05320" y="31240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 rot="16200000">
            <a:off x="6949080" y="3870720"/>
            <a:ext cx="1189080" cy="121896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6613200" y="313524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squ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ut 3 si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5257800" y="3581280"/>
            <a:ext cx="12952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0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two paper fasteners and a twist tie to make a door lat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48120" y="3200400"/>
            <a:ext cx="2666880" cy="3124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038480" y="4267080"/>
            <a:ext cx="838440" cy="8384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65760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191120" y="4648320"/>
            <a:ext cx="22860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809880" y="464832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3560" y="464832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08760" y="351648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666880" y="3809880"/>
            <a:ext cx="91440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94360" y="5954760"/>
            <a:ext cx="11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wist t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905120" y="4876920"/>
            <a:ext cx="205740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3352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ide of c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61640" y="3516480"/>
            <a:ext cx="179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6” by 6” do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029200" y="3733920"/>
            <a:ext cx="1371600" cy="76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2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6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lace the box on a table with the opening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y precut nylon netting over the ope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Use masking tape to secure one side of the netting to the bo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ull netting tight to other side of the box opening and secure with ta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ape the two remaining edges of the netting to the box.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5181480"/>
            <a:ext cx="2971800" cy="1371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324480" y="4648320"/>
            <a:ext cx="260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pening of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10080" y="4876920"/>
            <a:ext cx="9144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3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7 : Group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ut a hole ¾” by ¾” in the top of the cage for each pup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is where filter papers with hanging pupae will be attach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4191120"/>
            <a:ext cx="1981080" cy="25146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297180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4952880" y="60195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4952880" y="350496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5486400" y="350496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35053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5812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65760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191120" y="3581280"/>
            <a:ext cx="30456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8098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724280" y="3581280"/>
            <a:ext cx="304920" cy="2286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791320" y="36576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 flipV="1">
            <a:off x="5105160" y="373356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5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53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7620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old a box lid open side up for the top of the c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rap the uncut piece of netting around the lid so the edge of the netting is even with the top edge of the box l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Make sure the netting overlaps itself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retch tight and stap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581280" y="4800600"/>
            <a:ext cx="259092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3581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17220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617220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7080" y="419112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26708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3886200" y="441972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67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43244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90920" y="464832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8088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514600" y="5486040"/>
            <a:ext cx="8380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81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17220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5800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88620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627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528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434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23888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324480" y="46479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V="1">
            <a:off x="6629400" y="44193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6781680" y="4495680"/>
            <a:ext cx="53352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36716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386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peat step 1 to attach bottom of c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e sure inside of lid faces outside of cage, making stapling eas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27880" y="4430880"/>
            <a:ext cx="1163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x to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286000" y="46483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76320" y="557388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etting han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rom 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2209680" y="5486040"/>
            <a:ext cx="83844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86600" y="44197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a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6476760" y="4495680"/>
            <a:ext cx="53316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41972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ottom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1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ut 2 paper fasteners through the netting where it over laps so that butterflies cannot escape and so students can reach inside when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276720" y="480060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327672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5867280" y="41907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5867280" y="44956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962520" y="419112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553080" y="4191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962520" y="4191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3581280" y="44197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962520" y="441972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7672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867280" y="5257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55308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290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581280" y="5105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5780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64832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4952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V="1">
            <a:off x="6019920" y="464796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6324480" y="441936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2240" y="4403880"/>
            <a:ext cx="15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op of c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5720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800600" y="53341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8320" y="55627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648320" y="6172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97840" y="5040360"/>
            <a:ext cx="207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aper faste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934320" y="4419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over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5257800"/>
            <a:ext cx="160020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4723920" y="4724280"/>
            <a:ext cx="221004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4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ut a ¾” by ¾” hole in the top for each pupa to be hu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276720" y="3505320"/>
            <a:ext cx="2590560" cy="3045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327672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5867280" y="2895480"/>
            <a:ext cx="68580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5867280" y="32000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62520" y="289548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553080" y="2895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62520" y="2895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3581280" y="312372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2520" y="31240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672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867280" y="3962520"/>
            <a:ext cx="0" cy="289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53080" y="33526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34290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581280" y="3809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5780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64832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3657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6019920" y="3352680"/>
            <a:ext cx="1522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6324480" y="3124080"/>
            <a:ext cx="15264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5720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800600" y="4038480"/>
            <a:ext cx="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8320" y="42670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648320" y="487692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648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1055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1500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91320" y="31240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191120" y="327672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267080" y="3124080"/>
            <a:ext cx="15264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32440" y="3048120"/>
            <a:ext cx="20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¾” by ¾” h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2590920" y="3276720"/>
            <a:ext cx="1523880" cy="75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49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5 : Hanging C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cotton cord to hang the completed cage in the classroo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76720" y="4267080"/>
            <a:ext cx="2590560" cy="304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327672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67280" y="365724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5867280" y="3962160"/>
            <a:ext cx="68580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62520" y="3657600"/>
            <a:ext cx="25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53080" y="3657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9625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3581280" y="388620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62520" y="388620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7672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867280" y="4724280"/>
            <a:ext cx="0" cy="2133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553080" y="41148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4572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5780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64832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038480" y="4419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6019920" y="411444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6324480" y="388584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5720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800600" y="480060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648320" y="5029200"/>
            <a:ext cx="152280" cy="152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648320" y="5638680"/>
            <a:ext cx="152280" cy="152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572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648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1500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791320" y="38862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191120" y="403848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267080" y="3886200"/>
            <a:ext cx="15264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962520" y="2819520"/>
            <a:ext cx="1981080" cy="1218960"/>
          </a:xfrm>
          <a:custGeom>
            <a:avLst/>
            <a:gdLst/>
            <a:ahLst/>
            <a:rect l="l" t="t" r="r" b="b"/>
            <a:pathLst>
              <a:path w="1248" h="768">
                <a:moveTo>
                  <a:pt x="0" y="768"/>
                </a:moveTo>
                <a:cubicBezTo>
                  <a:pt x="256" y="384"/>
                  <a:pt x="512" y="0"/>
                  <a:pt x="720" y="0"/>
                </a:cubicBezTo>
                <a:cubicBezTo>
                  <a:pt x="928" y="0"/>
                  <a:pt x="1088" y="384"/>
                  <a:pt x="1248" y="768"/>
                </a:cubicBezTo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432080" y="313524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otton 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048120" y="3352680"/>
            <a:ext cx="121896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35" name="">
            <a:hlinkClick r:id="" action="ppaction://hlinkshowjump?jump=endshow"/>
          </p:cNvPr>
          <p:cNvSpPr/>
          <p:nvPr/>
        </p:nvSpPr>
        <p:spPr>
          <a:xfrm>
            <a:off x="7805880" y="228600"/>
            <a:ext cx="1033200" cy="762120"/>
          </a:xfrm>
          <a:custGeom>
            <a:avLst/>
            <a:gdLst>
              <a:gd name="textAreaLeft" fmla="*/ 49320 w 1033200"/>
              <a:gd name="textAreaRight" fmla="*/ 983880 w 10332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79" h="21600">
                <a:moveTo>
                  <a:pt x="0" y="0"/>
                </a:moveTo>
                <a:lnTo>
                  <a:pt x="29279" y="0"/>
                </a:lnTo>
                <a:lnTo>
                  <a:pt x="29279" y="21600"/>
                </a:lnTo>
                <a:lnTo>
                  <a:pt x="0" y="21600"/>
                </a:lnTo>
                <a:close/>
              </a:path>
              <a:path fill="lightenLess" w="29279" h="21600">
                <a:moveTo>
                  <a:pt x="0" y="0"/>
                </a:moveTo>
                <a:lnTo>
                  <a:pt x="29279" y="0"/>
                </a:lnTo>
                <a:lnTo>
                  <a:pt x="27879" y="1400"/>
                </a:lnTo>
                <a:lnTo>
                  <a:pt x="1400" y="1400"/>
                </a:lnTo>
                <a:close/>
              </a:path>
              <a:path fill="darken" w="29279" h="21600">
                <a:moveTo>
                  <a:pt x="29279" y="0"/>
                </a:moveTo>
                <a:lnTo>
                  <a:pt x="29279" y="21600"/>
                </a:lnTo>
                <a:lnTo>
                  <a:pt x="27879" y="20200"/>
                </a:lnTo>
                <a:lnTo>
                  <a:pt x="27879" y="1400"/>
                </a:lnTo>
                <a:close/>
              </a:path>
              <a:path fill="darkenLess" w="29279" h="21600">
                <a:moveTo>
                  <a:pt x="292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79" y="20200"/>
                </a:lnTo>
                <a:close/>
              </a:path>
              <a:path fill="lighten" w="292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7848720" y="3808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ould we find 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makes a good experi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04920" y="152280"/>
            <a:ext cx="8381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can we design an experiment to fi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t what might be in the culture mediu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39" name=""/>
          <p:cNvSpPr/>
          <p:nvPr/>
        </p:nvSpPr>
        <p:spPr>
          <a:xfrm>
            <a:off x="35053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7339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48006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7339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52680" y="4647960"/>
            <a:ext cx="76320" cy="2286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429000" y="4648320"/>
            <a:ext cx="16765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5105160" y="4647960"/>
            <a:ext cx="75960" cy="152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63320" y="4608360"/>
            <a:ext cx="1739880" cy="3682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ulture medi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2286000" y="4800600"/>
            <a:ext cx="175248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8600" y="5867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9528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03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31240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22096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53680" y="2438280"/>
            <a:ext cx="49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happens when the larvae are fully grow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52240" y="3276720"/>
            <a:ext cx="403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does an adult butterfly look lik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528560" y="5181480"/>
            <a:ext cx="600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re does the next generation of butterflies come fro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04160" y="609588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don’t all butterflies survi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28200" y="4191120"/>
            <a:ext cx="319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do adult butterflies fe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85560" y="1339920"/>
            <a:ext cx="64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 could we design an experiment to find out what might b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the culture mediu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12952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924680" y="1698480"/>
            <a:ext cx="990720" cy="76212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772400" y="129528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95440" y="343080"/>
            <a:ext cx="79531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Unit Table of Content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85" name="">
            <a:hlinkClick r:id="" action="ppaction://hlinkshowjump?jump=previousslide"/>
          </p:cNvPr>
          <p:cNvSpPr/>
          <p:nvPr/>
        </p:nvSpPr>
        <p:spPr>
          <a:xfrm>
            <a:off x="7924680" y="5867280"/>
            <a:ext cx="990720" cy="762120"/>
          </a:xfrm>
          <a:custGeom>
            <a:avLst/>
            <a:gdLst>
              <a:gd name="textAreaLeft" fmla="*/ 49320 w 990720"/>
              <a:gd name="textAreaRight" fmla="*/ 941400 w 9907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76" h="21600">
                <a:moveTo>
                  <a:pt x="0" y="0"/>
                </a:moveTo>
                <a:lnTo>
                  <a:pt x="28076" y="0"/>
                </a:lnTo>
                <a:lnTo>
                  <a:pt x="28076" y="21600"/>
                </a:lnTo>
                <a:lnTo>
                  <a:pt x="0" y="21600"/>
                </a:lnTo>
                <a:close/>
              </a:path>
              <a:path fill="lightenLess" w="28076" h="21600">
                <a:moveTo>
                  <a:pt x="0" y="0"/>
                </a:moveTo>
                <a:lnTo>
                  <a:pt x="28076" y="0"/>
                </a:lnTo>
                <a:lnTo>
                  <a:pt x="26676" y="1400"/>
                </a:lnTo>
                <a:lnTo>
                  <a:pt x="1400" y="1400"/>
                </a:lnTo>
                <a:close/>
              </a:path>
              <a:path fill="darken" w="28076" h="21600">
                <a:moveTo>
                  <a:pt x="28076" y="0"/>
                </a:moveTo>
                <a:lnTo>
                  <a:pt x="28076" y="21600"/>
                </a:lnTo>
                <a:lnTo>
                  <a:pt x="26676" y="20200"/>
                </a:lnTo>
                <a:lnTo>
                  <a:pt x="26676" y="1400"/>
                </a:lnTo>
                <a:close/>
              </a:path>
              <a:path fill="darkenLess" w="28076" h="21600">
                <a:moveTo>
                  <a:pt x="28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76" y="20200"/>
                </a:lnTo>
                <a:close/>
              </a:path>
              <a:path fill="lighten" w="28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76" h="21600">
                <a:moveTo>
                  <a:pt x="7031" y="10800"/>
                </a:moveTo>
                <a:lnTo>
                  <a:pt x="21044" y="3794"/>
                </a:lnTo>
                <a:lnTo>
                  <a:pt x="21044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7848720" y="5486400"/>
            <a:ext cx="108576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reviou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1447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23302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380880" y="32446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80880" y="41590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380880" y="5073480"/>
            <a:ext cx="68580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0880" y="6019920"/>
            <a:ext cx="685800" cy="488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8077320" y="18288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94" name="">
            <a:hlinkClick r:id="" action="ppaction://hlinkshowjump?jump=endshow"/>
          </p:cNvPr>
          <p:cNvSpPr/>
          <p:nvPr/>
        </p:nvSpPr>
        <p:spPr>
          <a:xfrm>
            <a:off x="7881840" y="3200400"/>
            <a:ext cx="1033560" cy="762120"/>
          </a:xfrm>
          <a:custGeom>
            <a:avLst/>
            <a:gdLst>
              <a:gd name="textAreaLeft" fmla="*/ 49320 w 1033560"/>
              <a:gd name="textAreaRight" fmla="*/ 984240 w 10335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9290" h="21600">
                <a:moveTo>
                  <a:pt x="0" y="0"/>
                </a:moveTo>
                <a:lnTo>
                  <a:pt x="29290" y="0"/>
                </a:lnTo>
                <a:lnTo>
                  <a:pt x="29290" y="21600"/>
                </a:lnTo>
                <a:lnTo>
                  <a:pt x="0" y="21600"/>
                </a:lnTo>
                <a:close/>
              </a:path>
              <a:path fill="lightenLess" w="29290" h="21600">
                <a:moveTo>
                  <a:pt x="0" y="0"/>
                </a:moveTo>
                <a:lnTo>
                  <a:pt x="29290" y="0"/>
                </a:lnTo>
                <a:lnTo>
                  <a:pt x="27890" y="1400"/>
                </a:lnTo>
                <a:lnTo>
                  <a:pt x="1400" y="1400"/>
                </a:lnTo>
                <a:close/>
              </a:path>
              <a:path fill="darken" w="29290" h="21600">
                <a:moveTo>
                  <a:pt x="29290" y="0"/>
                </a:moveTo>
                <a:lnTo>
                  <a:pt x="29290" y="21600"/>
                </a:lnTo>
                <a:lnTo>
                  <a:pt x="27890" y="20200"/>
                </a:lnTo>
                <a:lnTo>
                  <a:pt x="27890" y="1400"/>
                </a:lnTo>
                <a:close/>
              </a:path>
              <a:path fill="darkenLess" w="29290" h="21600">
                <a:moveTo>
                  <a:pt x="29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890" y="20200"/>
                </a:lnTo>
                <a:close/>
              </a:path>
              <a:path fill="lighten" w="29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924680" y="3352680"/>
            <a:ext cx="91440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Is this a chrysalis or coco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do the pupae eat at this st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pupa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main function of the larvae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is the change from larva to pupa and pupa to adult call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y are we transferring pupae to the cag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52280" y="304920"/>
            <a:ext cx="88394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happens when the larvae are fully grown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do the butterfly wings expa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s the adult butterfly an inse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 can you te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380880" y="457200"/>
            <a:ext cx="86108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es an adult butterfly look lik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5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en do butterflies uncoil their probosc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do butterflies use their proboscis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795240" y="457200"/>
            <a:ext cx="755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adult butterflies feed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would happen to painted lady butterflies if they no longer laid egg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is the picture of the life stages called a life cy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at happens to an individual butterfly after it ma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04760" y="130320"/>
            <a:ext cx="8810640" cy="15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ere does the next gener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f butterflies come from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6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hy don’t all eggs in nature develop into adul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Would it be good or bad if all eggs matur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500040" y="457200"/>
            <a:ext cx="8143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y don't all butterflies surv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dome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rear part of the body of an insect which has organs for digesting food and for m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aptation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y a plant or animal is made so it can meet its nee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u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ully grown stage of an animal when it’s able to m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tenna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a sense organ on the head of an ins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tic potential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ow quickly a plant or animal population can grow if all its young surv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tterfly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long with moths and skippers, the ins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th scale covered wings. The easiest way to te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utterflies from their close relatives is by their club-shap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tenna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3200400" y="380880"/>
            <a:ext cx="2457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lossar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78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1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erpilla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larva of a butterfly or a m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rysal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- another name for the pupa of a butterfly. The outer covering is made from its own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co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covering made of silk spun by a moth larva to protect it when it becomes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lete metamorphosi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y some insects grow up. It includes egg, larva, pupa, and adult s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clusio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at was discovered from doing an 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part of an experiment that stays the same and ca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 used for comparison with the changed parts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eri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8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7696080" y="3049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7848720" y="11430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89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gg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ginning stage of an animal, made by a female ani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o test an idea by making observ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owth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the process in which a plant or animal increases in siz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ront part of an insect with organs for sensing and ea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umane treatmen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reating an animal in ways that meet its life needs and do not cause it to feel uncomfortable, feel pain, or 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c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 animal with six legs, a head, thorax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abdomen, and a hard outer layer but no b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59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596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98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va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 wingless, often worm-like, feeding and growing stage of an insect such as a butter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g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body parts used by an animal to move on the ground. Insect legs are found on the thorax and are join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Cycle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changes in form plants and animals go through from young to adu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e Span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The length of time a plant or animal liv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ing Factor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Any basic need of a plant or animal which is not being met very well and keeps that plant or animal from being more comm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conium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Waste formed in the pupa which shows up just af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adult insect comes out of a pup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438280" y="274680"/>
            <a:ext cx="4572000" cy="1143000"/>
          </a:xfrm>
          <a:prstGeom prst="rect">
            <a:avLst/>
          </a:prstGeom>
        </p:spPr>
        <p:txBody>
          <a:bodyPr wrap="none" lIns="90000" rIns="90000" tIns="46800" bIns="46800" anchor="ctr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0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05" name="">
            <a:hlinkClick r:id="" action="ppaction://hlinkshowjump?jump=nextslide"/>
          </p:cNvPr>
          <p:cNvSpPr/>
          <p:nvPr/>
        </p:nvSpPr>
        <p:spPr>
          <a:xfrm>
            <a:off x="7696080" y="1522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7848720" y="990720"/>
            <a:ext cx="9144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07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lt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ta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sweet liquid made by some plants and eaten by insec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dator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n animal which catches and eats other anim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osc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The long tube mouth of some kinds of insects such as butterfl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p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A resting stage of some insects in which a larva changes into an ad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1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769608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7924680" y="1066680"/>
            <a:ext cx="83844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16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What we will be do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se some of the questions below to have a conversation with your peers about ins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s anyone in class ever raised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long do insects li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at is the life cycle of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oes a baby butterfly look like an adult butterfl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w do insects survive through the wint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an we answer any of these questions b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aising an ins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028880" y="457200"/>
            <a:ext cx="7086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you raise a Butterfly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gmen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One of the sections of the body of some animals, insects and worms for exa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a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- Bristles or stiff hairs which stick up from the skin of a la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orax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middle part of an insect where wings and legs are fou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riable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Any part of an experiment which is changed to see how it changes the results of the experi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te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omething made by a plant or animal as it grows or uses energy which is not needed and must be gotten rid of f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plant or animal to stay health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2438280" y="274320"/>
            <a:ext cx="4572360" cy="114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2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623" name="">
            <a:hlinkClick r:id="" action="ppaction://hlinkshowjump?jump=previousslide"/>
          </p:cNvPr>
          <p:cNvSpPr/>
          <p:nvPr/>
        </p:nvSpPr>
        <p:spPr>
          <a:xfrm>
            <a:off x="228600" y="2286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10800"/>
                </a:moveTo>
                <a:lnTo>
                  <a:pt x="24282" y="3794"/>
                </a:lnTo>
                <a:lnTo>
                  <a:pt x="24282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4920" y="1028880"/>
            <a:ext cx="99036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ck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625" name="">
            <a:hlinkClick r:id="" action="ppaction://hlinkshowjump?jump=endshow"/>
          </p:cNvPr>
          <p:cNvSpPr/>
          <p:nvPr/>
        </p:nvSpPr>
        <p:spPr>
          <a:xfrm>
            <a:off x="7848720" y="22860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7896240" y="380880"/>
            <a:ext cx="94284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d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Humane Treatment of Butterf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all stages of the butterfly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andle the containers gen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ake sure the larvae and adults have enough food and space and the right tempera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52280"/>
            <a:ext cx="8372520" cy="13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w do we treat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ies humanely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34120" y="2171880"/>
            <a:ext cx="3504960" cy="2247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772400" y="5791320"/>
            <a:ext cx="99072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7601040" y="5257800"/>
            <a:ext cx="131436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07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924680" y="5943600"/>
            <a:ext cx="685800" cy="48888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0" y="228600"/>
            <a:ext cx="915336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What do we do when th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tterfly larvae arrive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09" name=""/>
          <p:cNvSpPr/>
          <p:nvPr/>
        </p:nvSpPr>
        <p:spPr>
          <a:xfrm>
            <a:off x="458280" y="1676520"/>
            <a:ext cx="803196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ey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are there holes in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is there filter paper under the li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put medium in the culture vesse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hy do we use the paintbrush to transfer the larva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25800" y="5334120"/>
            <a:ext cx="549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udents should realize that the culture vessel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igned to meet the larvae’s need for oxygen, food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ter, and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5334120"/>
            <a:ext cx="657360" cy="8348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1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1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23888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Place a little medium in your culture vess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The medium gives the larva food and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38680" y="4267080"/>
            <a:ext cx="1600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0" y="4038480"/>
            <a:ext cx="1066680" cy="457200"/>
          </a:xfrm>
          <a:prstGeom prst="ellipse">
            <a:avLst/>
          </a:prstGeom>
          <a:solidFill>
            <a:srgbClr val="00008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723920" y="4648320"/>
            <a:ext cx="228600" cy="1218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7772400" y="160020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7924680" y="243828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2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Use another culture vessel to pack the medium so that there are no air spac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f air spaces are left, the larva can crawl into those spots and become st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62520" y="49528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66294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5257800" y="49525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62520" y="426708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191120" y="594360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5257800" y="4266720"/>
            <a:ext cx="228600" cy="1676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91120" y="624852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971800" y="640080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830240" y="614664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4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tep 3 : Arrival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heck the depth of the med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t should be 5 mm d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6324480"/>
            <a:ext cx="10666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257800" y="4648320"/>
            <a:ext cx="228600" cy="16761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191120" y="5943600"/>
            <a:ext cx="1066680" cy="38088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971800" y="6095880"/>
            <a:ext cx="15238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830240" y="58420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4120" y="594360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63244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943600" y="5943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5943600" y="59432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05520" y="5958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5791320"/>
            <a:ext cx="990360" cy="76176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7677000" y="5257800"/>
            <a:ext cx="1314720" cy="40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om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1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001000" y="5943600"/>
            <a:ext cx="685800" cy="488880"/>
          </a:xfrm>
          <a:prstGeom prst="rect">
            <a:avLst/>
          </a:prstGeom>
          <a:ln w="0">
            <a:noFill/>
          </a:ln>
        </p:spPr>
      </p:pic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7696080" y="1676520"/>
            <a:ext cx="1219320" cy="76176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4568" h="21600">
                <a:moveTo>
                  <a:pt x="0" y="0"/>
                </a:moveTo>
                <a:lnTo>
                  <a:pt x="34568" y="0"/>
                </a:lnTo>
                <a:lnTo>
                  <a:pt x="34568" y="21600"/>
                </a:lnTo>
                <a:lnTo>
                  <a:pt x="0" y="21600"/>
                </a:lnTo>
                <a:close/>
              </a:path>
              <a:path fill="lightenLess" w="34568" h="21600">
                <a:moveTo>
                  <a:pt x="0" y="0"/>
                </a:moveTo>
                <a:lnTo>
                  <a:pt x="34568" y="0"/>
                </a:lnTo>
                <a:lnTo>
                  <a:pt x="33168" y="1400"/>
                </a:lnTo>
                <a:lnTo>
                  <a:pt x="1400" y="1400"/>
                </a:lnTo>
                <a:close/>
              </a:path>
              <a:path fill="darken" w="34568" h="21600">
                <a:moveTo>
                  <a:pt x="34568" y="0"/>
                </a:moveTo>
                <a:lnTo>
                  <a:pt x="34568" y="21600"/>
                </a:lnTo>
                <a:lnTo>
                  <a:pt x="33168" y="20200"/>
                </a:lnTo>
                <a:lnTo>
                  <a:pt x="33168" y="1400"/>
                </a:lnTo>
                <a:close/>
              </a:path>
              <a:path fill="darkenLess" w="34568" h="21600">
                <a:moveTo>
                  <a:pt x="34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68" y="20200"/>
                </a:lnTo>
                <a:close/>
              </a:path>
              <a:path fill="lighten" w="34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68" h="21600">
                <a:moveTo>
                  <a:pt x="10278" y="3794"/>
                </a:moveTo>
                <a:lnTo>
                  <a:pt x="24291" y="10800"/>
                </a:lnTo>
                <a:lnTo>
                  <a:pt x="10278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7848720" y="2514600"/>
            <a:ext cx="9144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ex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7T17:38:41Z</dcterms:created>
  <dc:creator>PCSD</dc:creator>
  <dc:description/>
  <dc:language>en-US</dc:language>
  <cp:lastModifiedBy>Lancaster Central School District</cp:lastModifiedBy>
  <dcterms:modified xsi:type="dcterms:W3CDTF">2009-11-03T14:07:30Z</dcterms:modified>
  <cp:revision>37</cp:revision>
  <dc:subject/>
  <dc:title>Slide 1</dc:title>
</cp:coreProperties>
</file>