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A6DA-8694-48D1-898B-0CDF9D699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B310-23B5-4609-8C2D-A7A44C2B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D1FB-5A03-41DF-98E7-E8C0F1457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6B2F-5025-4CE9-9578-CEA3F4C88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81D7-4EBD-44B6-8290-E7DD851B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24EC-B11E-416D-9D4A-41182D00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6481-C5B7-48DB-8755-D5499A0D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8EEF-6D81-438E-B8FF-8DD8DF1C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B9A8-7E5E-415B-912F-105DABE4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7753-FC77-4E93-9D5A-5594E278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0242-35CF-4539-A401-D61B5E13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4C79-4F73-4DCB-9150-B2BA629A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B84A-E029-40C0-9ECD-40E801539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" Target="slide24.xm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image" Target="../media/image1.jpeg"/><Relationship Id="rId4" Type="http://schemas.openxmlformats.org/officeDocument/2006/relationships/slide" Target="slide6.xml"/><Relationship Id="rId5" Type="http://schemas.openxmlformats.org/officeDocument/2006/relationships/image" Target="../media/image1.jpeg"/><Relationship Id="rId6" Type="http://schemas.openxmlformats.org/officeDocument/2006/relationships/slide" Target="slide5.xml"/><Relationship Id="rId7" Type="http://schemas.openxmlformats.org/officeDocument/2006/relationships/image" Target="../media/image1.jpeg"/><Relationship Id="rId8" Type="http://schemas.openxmlformats.org/officeDocument/2006/relationships/slide" Target="slide14.xml"/><Relationship Id="rId9" Type="http://schemas.openxmlformats.org/officeDocument/2006/relationships/image" Target="../media/image1.jpeg"/><Relationship Id="rId10" Type="http://schemas.openxmlformats.org/officeDocument/2006/relationships/slide" Target="slide15.xml"/><Relationship Id="rId11" Type="http://schemas.openxmlformats.org/officeDocument/2006/relationships/image" Target="../media/image1.jpeg"/><Relationship Id="rId12" Type="http://schemas.openxmlformats.org/officeDocument/2006/relationships/slide" Target="slide16.xml"/><Relationship Id="rId13" Type="http://schemas.openxmlformats.org/officeDocument/2006/relationships/image" Target="../media/image1.jpeg"/><Relationship Id="rId14" Type="http://schemas.openxmlformats.org/officeDocument/2006/relationships/slide" Target="slide35.xml"/><Relationship Id="rId15" Type="http://schemas.openxmlformats.org/officeDocument/2006/relationships/image" Target="../media/image1.jpeg"/><Relationship Id="rId1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1.jpeg"/><Relationship Id="rId3" Type="http://schemas.openxmlformats.org/officeDocument/2006/relationships/slide" Target="slide30.xml"/><Relationship Id="rId4" Type="http://schemas.openxmlformats.org/officeDocument/2006/relationships/image" Target="../media/image1.jpeg"/><Relationship Id="rId5" Type="http://schemas.openxmlformats.org/officeDocument/2006/relationships/slide" Target="slide31.xml"/><Relationship Id="rId6" Type="http://schemas.openxmlformats.org/officeDocument/2006/relationships/image" Target="../media/image1.jpeg"/><Relationship Id="rId7" Type="http://schemas.openxmlformats.org/officeDocument/2006/relationships/slide" Target="slide32.xml"/><Relationship Id="rId8" Type="http://schemas.openxmlformats.org/officeDocument/2006/relationships/image" Target="../media/image1.jpeg"/><Relationship Id="rId9" Type="http://schemas.openxmlformats.org/officeDocument/2006/relationships/slide" Target="slide33.xml"/><Relationship Id="rId10" Type="http://schemas.openxmlformats.org/officeDocument/2006/relationships/image" Target="../media/image1.jpeg"/><Relationship Id="rId11" Type="http://schemas.openxmlformats.org/officeDocument/2006/relationships/slide" Target="slide34.xml"/><Relationship Id="rId12" Type="http://schemas.openxmlformats.org/officeDocument/2006/relationships/image" Target="../media/image1.jpeg"/><Relationship Id="rId13" Type="http://schemas.openxmlformats.org/officeDocument/2006/relationships/slide" Target="slide35.xml"/><Relationship Id="rId14" Type="http://schemas.openxmlformats.org/officeDocument/2006/relationships/image" Target="../media/image1.jpeg"/><Relationship Id="rId15" Type="http://schemas.openxmlformats.org/officeDocument/2006/relationships/slideLayout" Target="../slideLayouts/slideLayout1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95440" y="343080"/>
            <a:ext cx="795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7924680" y="6019920"/>
            <a:ext cx="1067040" cy="685800"/>
          </a:xfrm>
          <a:custGeom>
            <a:avLst/>
            <a:gdLst>
              <a:gd name="textAreaLeft" fmla="*/ 44280 w 1067040"/>
              <a:gd name="textAreaRight" fmla="*/ 1022760 w 10670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601" h="21600">
                <a:moveTo>
                  <a:pt x="0" y="0"/>
                </a:moveTo>
                <a:lnTo>
                  <a:pt x="33601" y="0"/>
                </a:lnTo>
                <a:lnTo>
                  <a:pt x="33601" y="21600"/>
                </a:lnTo>
                <a:lnTo>
                  <a:pt x="0" y="21600"/>
                </a:lnTo>
                <a:close/>
              </a:path>
              <a:path fill="lightenLess" w="33601" h="21600">
                <a:moveTo>
                  <a:pt x="0" y="0"/>
                </a:moveTo>
                <a:lnTo>
                  <a:pt x="33601" y="0"/>
                </a:lnTo>
                <a:lnTo>
                  <a:pt x="32201" y="1400"/>
                </a:lnTo>
                <a:lnTo>
                  <a:pt x="1400" y="1400"/>
                </a:lnTo>
                <a:close/>
              </a:path>
              <a:path fill="darken" w="33601" h="21600">
                <a:moveTo>
                  <a:pt x="33601" y="0"/>
                </a:moveTo>
                <a:lnTo>
                  <a:pt x="33601" y="21600"/>
                </a:lnTo>
                <a:lnTo>
                  <a:pt x="32201" y="20200"/>
                </a:lnTo>
                <a:lnTo>
                  <a:pt x="32201" y="1400"/>
                </a:lnTo>
                <a:close/>
              </a:path>
              <a:path fill="darkenLess" w="33601" h="21600">
                <a:moveTo>
                  <a:pt x="33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01" y="20200"/>
                </a:lnTo>
                <a:close/>
              </a:path>
              <a:path fill="lighten" w="33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01" h="21600">
                <a:moveTo>
                  <a:pt x="9794" y="3794"/>
                </a:moveTo>
                <a:lnTo>
                  <a:pt x="23807" y="10800"/>
                </a:lnTo>
                <a:lnTo>
                  <a:pt x="979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17220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4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se a paintbrush to gently place one painted lady butterfly larva in your culture vess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625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911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0" y="3886200"/>
            <a:ext cx="3886200" cy="685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 flipH="1">
            <a:off x="4647960" y="4419720"/>
            <a:ext cx="22860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7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5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rite your name and date on both sides of the filter pap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ut the filter paper over top of the culture vessel and fold it over the edge of the vess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913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199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0866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199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05120" y="4495680"/>
            <a:ext cx="167616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 Sm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/24/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581280" y="4648320"/>
            <a:ext cx="16765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5638680" y="4647960"/>
            <a:ext cx="7632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15000" y="464832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7391160" y="4647960"/>
            <a:ext cx="7596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9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91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6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086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ut the plastic lid on the culture vessel over the filter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lowly work your way around the edge of the plastic lid until the lid snaps in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filter paper and holes in the plastic lid let air into the culture vess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913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199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70866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199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638680" y="4647960"/>
            <a:ext cx="7632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715000" y="464832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7391160" y="4647960"/>
            <a:ext cx="7596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62320" y="4648320"/>
            <a:ext cx="1752480" cy="1752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5486400"/>
            <a:ext cx="76320" cy="763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5486400"/>
            <a:ext cx="76320" cy="763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09880" y="5486400"/>
            <a:ext cx="76320" cy="763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00400" y="4876920"/>
            <a:ext cx="76320" cy="759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6095880"/>
            <a:ext cx="76320" cy="763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80680" y="52578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19320" y="548640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1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13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7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ace the culture vessel in a safe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e sure to avoid temperature extremes like window sills, radiators, and direct sun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76720" y="44197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60958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572000" y="44197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05320" y="57150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124080" y="4419360"/>
            <a:ext cx="7632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441972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4876560" y="4419360"/>
            <a:ext cx="7596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2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27" name="">
            <a:hlinkClick r:id="" action="ppaction://hlinkshowjump?jump=endshow"/>
          </p:cNvPr>
          <p:cNvSpPr/>
          <p:nvPr/>
        </p:nvSpPr>
        <p:spPr>
          <a:xfrm>
            <a:off x="7805880" y="228600"/>
            <a:ext cx="1033200" cy="762120"/>
          </a:xfrm>
          <a:custGeom>
            <a:avLst/>
            <a:gdLst>
              <a:gd name="textAreaLeft" fmla="*/ 49320 w 1033200"/>
              <a:gd name="textAreaRight" fmla="*/ 983880 w 1033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7848720" y="3808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many lenses are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ich lens magnifies mo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might try to eat a lar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does a larva protect itsel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38080" y="266760"/>
            <a:ext cx="734400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can we find out about the larva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3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did you obser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ave the larvae eaten any of the foo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can you t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y do animals e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ave they made any waste produ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can you tell if a larva has gr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did your predictions compare with your observation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85840" y="228600"/>
            <a:ext cx="8400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can we tell how mu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larvae have grown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6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roup Cages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 paper faste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sking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ylon n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wist 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 copy paper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ci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62000" y="380880"/>
            <a:ext cx="882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can we build a butterfly cag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4952880" y="1600200"/>
            <a:ext cx="41911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anging Cage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 copy paper box l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 paper faste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tton 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ylon n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ap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592776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udents turn to page 8 of the activity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46" name="">
            <a:hlinkClick r:id="" action="ppaction://hlinkshowjump?jump=nextslide"/>
          </p:cNvPr>
          <p:cNvSpPr/>
          <p:nvPr/>
        </p:nvSpPr>
        <p:spPr>
          <a:xfrm>
            <a:off x="1600200" y="1143000"/>
            <a:ext cx="1219320" cy="457200"/>
          </a:xfrm>
          <a:custGeom>
            <a:avLst/>
            <a:gdLst>
              <a:gd name="textAreaLeft" fmla="*/ 29520 w 1219320"/>
              <a:gd name="textAreaRight" fmla="*/ 1189800 w 12193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77" h="21600">
                <a:moveTo>
                  <a:pt x="0" y="0"/>
                </a:moveTo>
                <a:lnTo>
                  <a:pt x="57577" y="0"/>
                </a:lnTo>
                <a:lnTo>
                  <a:pt x="57577" y="21600"/>
                </a:lnTo>
                <a:lnTo>
                  <a:pt x="0" y="21600"/>
                </a:lnTo>
                <a:close/>
              </a:path>
              <a:path fill="lightenLess" w="57577" h="21600">
                <a:moveTo>
                  <a:pt x="0" y="0"/>
                </a:moveTo>
                <a:lnTo>
                  <a:pt x="57577" y="0"/>
                </a:lnTo>
                <a:lnTo>
                  <a:pt x="56177" y="1400"/>
                </a:lnTo>
                <a:lnTo>
                  <a:pt x="1400" y="1400"/>
                </a:lnTo>
                <a:close/>
              </a:path>
              <a:path fill="darken" w="57577" h="21600">
                <a:moveTo>
                  <a:pt x="57577" y="0"/>
                </a:moveTo>
                <a:lnTo>
                  <a:pt x="57577" y="21600"/>
                </a:lnTo>
                <a:lnTo>
                  <a:pt x="56177" y="20200"/>
                </a:lnTo>
                <a:lnTo>
                  <a:pt x="56177" y="1400"/>
                </a:lnTo>
                <a:close/>
              </a:path>
              <a:path fill="darkenLess" w="57577" h="21600">
                <a:moveTo>
                  <a:pt x="575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7" y="20200"/>
                </a:lnTo>
                <a:close/>
              </a:path>
              <a:path fill="lighten" w="575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rId3" action="ppaction://hlinksldjump"/>
          </p:cNvPr>
          <p:cNvSpPr/>
          <p:nvPr/>
        </p:nvSpPr>
        <p:spPr>
          <a:xfrm>
            <a:off x="6095880" y="1143000"/>
            <a:ext cx="1295640" cy="457200"/>
          </a:xfrm>
          <a:custGeom>
            <a:avLst/>
            <a:gdLst>
              <a:gd name="textAreaLeft" fmla="*/ 29520 w 1295640"/>
              <a:gd name="textAreaRight" fmla="*/ 1266120 w 1295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80" h="21600">
                <a:moveTo>
                  <a:pt x="0" y="0"/>
                </a:moveTo>
                <a:lnTo>
                  <a:pt x="61180" y="0"/>
                </a:lnTo>
                <a:lnTo>
                  <a:pt x="61180" y="21600"/>
                </a:lnTo>
                <a:lnTo>
                  <a:pt x="0" y="21600"/>
                </a:lnTo>
                <a:close/>
              </a:path>
              <a:path fill="lightenLess" w="61180" h="21600">
                <a:moveTo>
                  <a:pt x="0" y="0"/>
                </a:moveTo>
                <a:lnTo>
                  <a:pt x="61180" y="0"/>
                </a:lnTo>
                <a:lnTo>
                  <a:pt x="59780" y="1400"/>
                </a:lnTo>
                <a:lnTo>
                  <a:pt x="1400" y="1400"/>
                </a:lnTo>
                <a:close/>
              </a:path>
              <a:path fill="darken" w="61180" h="21600">
                <a:moveTo>
                  <a:pt x="61180" y="0"/>
                </a:moveTo>
                <a:lnTo>
                  <a:pt x="61180" y="21600"/>
                </a:lnTo>
                <a:lnTo>
                  <a:pt x="59780" y="20200"/>
                </a:lnTo>
                <a:lnTo>
                  <a:pt x="59780" y="1400"/>
                </a:lnTo>
                <a:close/>
              </a:path>
              <a:path fill="darkenLess" w="61180" h="21600">
                <a:moveTo>
                  <a:pt x="61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80" y="20200"/>
                </a:lnTo>
                <a:close/>
              </a:path>
              <a:path fill="lighten" w="61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1: Group Cag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*Your cardboard box should be 12” by 9” by 18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ut the large piece of nylon netting into 6 pieces each measuring 15” by 24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4267080"/>
            <a:ext cx="6248520" cy="2286000"/>
          </a:xfrm>
          <a:prstGeom prst="rect">
            <a:avLst/>
          </a:prstGeom>
          <a:solidFill>
            <a:srgbClr val="33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00400" y="434340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57800" y="434340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43000" y="541008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142640" y="51055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38280" y="5105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19520" y="4952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819520" y="43430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3" name=""/>
          <p:cNvSpPr/>
          <p:nvPr/>
        </p:nvSpPr>
        <p:spPr>
          <a:xfrm>
            <a:off x="2577240" y="45324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5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891440" y="491328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4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2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f the box has flaps on the top where it was opened, cut them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ver any holes with tape, inside and out, so butterflies cannot esca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e sure there are no sticky tape surfaces exposed inside the bo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70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3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cide which side of the box will be the top of the cage and place box with cage top 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oose one side of the cage for a do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raw a 6” by 6” square on the center of that side of the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971800" y="4114800"/>
            <a:ext cx="1981080" cy="2514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971800" y="342864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952880" y="594324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952880" y="342864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486400" y="34286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505320" y="34290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88000" y="354492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05520" y="430704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6” by 6” squ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5257440" y="449568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86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84120" y="15382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do you raise a butterf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69000" y="2452680"/>
            <a:ext cx="40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do we treat butterflies humane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85560" y="3367080"/>
            <a:ext cx="50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do we do when the butterfly larvae arr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84840" y="4267080"/>
            <a:ext cx="41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can we find out about the larva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87360" y="5181480"/>
            <a:ext cx="53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can we tell how much the larvae have grow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84840" y="611028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can we build a butterfly ca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58672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9528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40384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31240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22096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" action="ppaction://hlinksldjump"/>
          </p:cNvPr>
          <p:cNvSpPr/>
          <p:nvPr/>
        </p:nvSpPr>
        <p:spPr>
          <a:xfrm>
            <a:off x="228600" y="12952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48720" y="16765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620120" y="1143000"/>
            <a:ext cx="131436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lossa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95440" y="343080"/>
            <a:ext cx="795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y Unit Table of Conte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7848720" y="5791320"/>
            <a:ext cx="990360" cy="761760"/>
          </a:xfrm>
          <a:custGeom>
            <a:avLst/>
            <a:gdLst>
              <a:gd name="textAreaLeft" fmla="*/ 49320 w 990360"/>
              <a:gd name="textAreaRight" fmla="*/ 941040 w 9903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8079" h="21600">
                <a:moveTo>
                  <a:pt x="0" y="0"/>
                </a:moveTo>
                <a:lnTo>
                  <a:pt x="28079" y="0"/>
                </a:lnTo>
                <a:lnTo>
                  <a:pt x="28079" y="21600"/>
                </a:lnTo>
                <a:lnTo>
                  <a:pt x="0" y="21600"/>
                </a:lnTo>
                <a:close/>
              </a:path>
              <a:path fill="lightenLess" w="28079" h="21600">
                <a:moveTo>
                  <a:pt x="0" y="0"/>
                </a:moveTo>
                <a:lnTo>
                  <a:pt x="28079" y="0"/>
                </a:lnTo>
                <a:lnTo>
                  <a:pt x="26679" y="1400"/>
                </a:lnTo>
                <a:lnTo>
                  <a:pt x="1400" y="1400"/>
                </a:lnTo>
                <a:close/>
              </a:path>
              <a:path fill="darken" w="28079" h="21600">
                <a:moveTo>
                  <a:pt x="28079" y="0"/>
                </a:moveTo>
                <a:lnTo>
                  <a:pt x="28079" y="21600"/>
                </a:lnTo>
                <a:lnTo>
                  <a:pt x="26679" y="20200"/>
                </a:lnTo>
                <a:lnTo>
                  <a:pt x="26679" y="1400"/>
                </a:lnTo>
                <a:close/>
              </a:path>
              <a:path fill="darkenLess" w="28079" h="21600">
                <a:moveTo>
                  <a:pt x="280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9" y="20200"/>
                </a:lnTo>
                <a:close/>
              </a:path>
              <a:path fill="lighten" w="280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9" h="21600">
                <a:moveTo>
                  <a:pt x="7033" y="3794"/>
                </a:moveTo>
                <a:lnTo>
                  <a:pt x="21046" y="10800"/>
                </a:lnTo>
                <a:lnTo>
                  <a:pt x="703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391520" y="5257800"/>
            <a:ext cx="1523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ntents continu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140508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61800" y="32767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80880" y="23623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80880" y="41911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61800" y="51055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61800" y="60199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7981920" y="1785960"/>
            <a:ext cx="704880" cy="500040"/>
          </a:xfrm>
          <a:prstGeom prst="rect">
            <a:avLst/>
          </a:prstGeom>
          <a:ln w="0">
            <a:noFill/>
          </a:ln>
        </p:spPr>
      </p:pic>
      <p:sp>
        <p:nvSpPr>
          <p:cNvPr id="68" name="">
            <a:hlinkClick r:id="" action="ppaction://hlinkshowjump?jump=endshow"/>
          </p:cNvPr>
          <p:cNvSpPr/>
          <p:nvPr/>
        </p:nvSpPr>
        <p:spPr>
          <a:xfrm>
            <a:off x="7805880" y="3200400"/>
            <a:ext cx="1033200" cy="762120"/>
          </a:xfrm>
          <a:custGeom>
            <a:avLst/>
            <a:gdLst>
              <a:gd name="textAreaLeft" fmla="*/ 49320 w 1033200"/>
              <a:gd name="textAreaRight" fmla="*/ 983880 w 1033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848720" y="33526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4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ut through 3 sides of the square. The fourth side will act as the hi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971800" y="3809880"/>
            <a:ext cx="1981080" cy="2514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971800" y="31237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952880" y="56383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4952880" y="31237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486400" y="31237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05320" y="31240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 rot="16200000">
            <a:off x="6949080" y="3870720"/>
            <a:ext cx="1189080" cy="12189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613200" y="3135240"/>
            <a:ext cx="213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6” by 6” squ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ut 3 si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5257800" y="3581280"/>
            <a:ext cx="12952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0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02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5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 two paper fasteners and a twist tie to make a door lat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48120" y="3200400"/>
            <a:ext cx="2666880" cy="31240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4267080"/>
            <a:ext cx="838440" cy="8384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657600" y="46483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191120" y="46483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09880" y="46483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3560" y="464832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8760" y="3516480"/>
            <a:ext cx="20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per faste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666880" y="3809880"/>
            <a:ext cx="91440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94360" y="595476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wist 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1905120" y="4876920"/>
            <a:ext cx="205740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3352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ide of c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61640" y="3516480"/>
            <a:ext cx="17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6” by 6” d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5029200" y="3733920"/>
            <a:ext cx="137160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2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22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6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lace the box on a table with the opening 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y precut nylon netting over the ope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se masking tape to secure one side of the netting to the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ull netting tight to other side of the box opening and secure with ta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ape the two remaining edges of the netting to the box.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5181480"/>
            <a:ext cx="2971800" cy="1371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324480" y="4648320"/>
            <a:ext cx="260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pening of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5410080" y="4876920"/>
            <a:ext cx="9144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32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7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ut a hole ¾” by ¾” in the top of the cage for each pup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s is where filter papers with hanging pupae will be attach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971800" y="4191120"/>
            <a:ext cx="1981080" cy="2514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971800" y="350496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952880" y="601956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4952880" y="350496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548640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505320" y="35053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581280" y="38098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657600" y="35812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038480" y="38098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191120" y="3581280"/>
            <a:ext cx="30456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8098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724280" y="35812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91320" y="3657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¾” by ¾” h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5105160" y="373356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53" name="">
            <a:hlinkClick r:id="" action="ppaction://hlinkshowjump?jump=endshow"/>
          </p:cNvPr>
          <p:cNvSpPr/>
          <p:nvPr/>
        </p:nvSpPr>
        <p:spPr>
          <a:xfrm>
            <a:off x="7805880" y="228600"/>
            <a:ext cx="1033200" cy="762120"/>
          </a:xfrm>
          <a:custGeom>
            <a:avLst/>
            <a:gdLst>
              <a:gd name="textAreaLeft" fmla="*/ 49320 w 1033200"/>
              <a:gd name="textAreaRight" fmla="*/ 983880 w 1033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7848720" y="3808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1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ld a box lid open side up for the top of the c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rap the uncut piece of netting around the lid so the edge of the netting is even with the top edge of the box l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ke sure the netting overlaps itsel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tretch tight and sta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581280" y="4800600"/>
            <a:ext cx="259092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358128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617220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6172200" y="4495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267080" y="41911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26708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3886200" y="44197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267080" y="44197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32440" y="4430880"/>
            <a:ext cx="1163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ox t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590920" y="46483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880" y="557388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etting han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rom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514600" y="5486040"/>
            <a:ext cx="8380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8128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17220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0" y="4648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7339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886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627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95288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3434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238880" y="44197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ta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6324480" y="46479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6629400" y="44193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6781680" y="4495680"/>
            <a:ext cx="53352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367160" y="440388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op of c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86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2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peat step 1 to attach bottom of c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e sure inside of lid faces outside of cage, making stapling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276720" y="4800600"/>
            <a:ext cx="259056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327672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86728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867280" y="4495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962520" y="41911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55308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96252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3581280" y="4419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962520" y="44197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27880" y="4430880"/>
            <a:ext cx="1163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ox t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464832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6320" y="557388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etting han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rom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2209680" y="5486040"/>
            <a:ext cx="83844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27672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86728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553080" y="4648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4290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5812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2578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03848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086600" y="44197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ta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6019920" y="46479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6324480" y="44193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 flipV="1">
            <a:off x="6476760" y="4495680"/>
            <a:ext cx="53316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962520" y="4419720"/>
            <a:ext cx="20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ottom of c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1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419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3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ut 2 paper fasteners through the netting where it over laps so that butterflies cannot escape and so students can reach inside when necess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276720" y="4800600"/>
            <a:ext cx="259056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327672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586728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5867280" y="4495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962520" y="41911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55308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96252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3581280" y="4419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962520" y="44197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27672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86728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553080" y="4648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4290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5812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2578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6483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03848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6019920" y="46479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6324480" y="44193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062240" y="440388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op of c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572000" y="53341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800600" y="53341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648320" y="556272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648320" y="61722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97840" y="5040360"/>
            <a:ext cx="20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per faste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934320" y="44197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verl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048120" y="5257800"/>
            <a:ext cx="16002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4723920" y="4724280"/>
            <a:ext cx="221004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454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4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ut a ¾” by ¾” hole in the top for each pupa to be hu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276720" y="3505320"/>
            <a:ext cx="2590560" cy="304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3276720" y="28954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5867280" y="28954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5867280" y="32000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62520" y="28954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553080" y="2895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96252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3581280" y="31237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2520" y="31240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6720" y="39625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867280" y="39625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553080" y="335268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42900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25780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64832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03848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019920" y="3352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6324480" y="31240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572000" y="40384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800600" y="40384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648320" y="42670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648320" y="487692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572000" y="32767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648320" y="31240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105520" y="32767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181480" y="3124080"/>
            <a:ext cx="15264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715000" y="32767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791320" y="31240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191120" y="32767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267080" y="3124080"/>
            <a:ext cx="15264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32440" y="3048120"/>
            <a:ext cx="203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¾” by ¾” h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90920" y="3276720"/>
            <a:ext cx="1523880" cy="75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9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494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5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 cotton cord to hang the completed cage in the class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276720" y="4267080"/>
            <a:ext cx="259056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3276720" y="36572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5867280" y="36572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5867280" y="3962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962520" y="36576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553080" y="3657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9625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3581280" y="38862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962520" y="38862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76720" y="4724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867280" y="4724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553080" y="41148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42900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581280" y="4572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25780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64832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03848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6019920" y="41144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6324480" y="388584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572000" y="48006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800600" y="48006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648320" y="50292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648320" y="56386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572000" y="4038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648320" y="38862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105520" y="4038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181480" y="388620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715000" y="4038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791320" y="38862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191120" y="4038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267080" y="388620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962520" y="2819520"/>
            <a:ext cx="1981080" cy="1218960"/>
          </a:xfrm>
          <a:custGeom>
            <a:avLst/>
            <a:gdLst/>
            <a:ahLst/>
            <a:rect l="l" t="t" r="r" b="b"/>
            <a:pathLst>
              <a:path w="1248" h="768">
                <a:moveTo>
                  <a:pt x="0" y="768"/>
                </a:moveTo>
                <a:cubicBezTo>
                  <a:pt x="256" y="384"/>
                  <a:pt x="512" y="0"/>
                  <a:pt x="720" y="0"/>
                </a:cubicBezTo>
                <a:cubicBezTo>
                  <a:pt x="928" y="0"/>
                  <a:pt x="1088" y="384"/>
                  <a:pt x="1248" y="768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432080" y="313524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tton 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048120" y="3352680"/>
            <a:ext cx="121896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3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535" name="">
            <a:hlinkClick r:id="" action="ppaction://hlinkshowjump?jump=endshow"/>
          </p:cNvPr>
          <p:cNvSpPr/>
          <p:nvPr/>
        </p:nvSpPr>
        <p:spPr>
          <a:xfrm>
            <a:off x="7805880" y="228600"/>
            <a:ext cx="1033200" cy="762120"/>
          </a:xfrm>
          <a:custGeom>
            <a:avLst/>
            <a:gdLst>
              <a:gd name="textAreaLeft" fmla="*/ 49320 w 1033200"/>
              <a:gd name="textAreaRight" fmla="*/ 983880 w 1033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7848720" y="3808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could we find 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makes a good experi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04920" y="152280"/>
            <a:ext cx="83818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can we design an experiment to fi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ut what might be in the culture medium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9" name=""/>
          <p:cNvSpPr/>
          <p:nvPr/>
        </p:nvSpPr>
        <p:spPr>
          <a:xfrm>
            <a:off x="35053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48006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7339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3352680" y="4647960"/>
            <a:ext cx="7632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429000" y="464832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 flipV="1">
            <a:off x="5105160" y="4647960"/>
            <a:ext cx="7596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63320" y="4608360"/>
            <a:ext cx="173988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ulture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286000" y="4800600"/>
            <a:ext cx="175248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8600" y="58672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49528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0384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31240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22096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53680" y="2438280"/>
            <a:ext cx="49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happens when the larvae are fully grow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52240" y="3276720"/>
            <a:ext cx="403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does an adult butterfly look li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28560" y="5181480"/>
            <a:ext cx="60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re does the next generation of butterflies come fr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04160" y="6095880"/>
            <a:ext cx="34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 don’t all butterflies surv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28200" y="419112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do adult butterflies fe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85560" y="1339920"/>
            <a:ext cx="64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could we design an experiment to find out what might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 culture mediu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2952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924680" y="16984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772400" y="1295280"/>
            <a:ext cx="131436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lossa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95440" y="343080"/>
            <a:ext cx="795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y Unit Table of Conte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5" name="">
            <a:hlinkClick r:id="" action="ppaction://hlinkshowjump?jump=previousslide"/>
          </p:cNvPr>
          <p:cNvSpPr/>
          <p:nvPr/>
        </p:nvSpPr>
        <p:spPr>
          <a:xfrm>
            <a:off x="7924680" y="5867280"/>
            <a:ext cx="990720" cy="762120"/>
          </a:xfrm>
          <a:custGeom>
            <a:avLst/>
            <a:gdLst>
              <a:gd name="textAreaLeft" fmla="*/ 49320 w 990720"/>
              <a:gd name="textAreaRight" fmla="*/ 941400 w 9907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76" h="21600">
                <a:moveTo>
                  <a:pt x="0" y="0"/>
                </a:moveTo>
                <a:lnTo>
                  <a:pt x="28076" y="0"/>
                </a:lnTo>
                <a:lnTo>
                  <a:pt x="28076" y="21600"/>
                </a:lnTo>
                <a:lnTo>
                  <a:pt x="0" y="21600"/>
                </a:lnTo>
                <a:close/>
              </a:path>
              <a:path fill="lightenLess" w="28076" h="21600">
                <a:moveTo>
                  <a:pt x="0" y="0"/>
                </a:moveTo>
                <a:lnTo>
                  <a:pt x="28076" y="0"/>
                </a:lnTo>
                <a:lnTo>
                  <a:pt x="26676" y="1400"/>
                </a:lnTo>
                <a:lnTo>
                  <a:pt x="1400" y="1400"/>
                </a:lnTo>
                <a:close/>
              </a:path>
              <a:path fill="darken" w="28076" h="21600">
                <a:moveTo>
                  <a:pt x="28076" y="0"/>
                </a:moveTo>
                <a:lnTo>
                  <a:pt x="28076" y="21600"/>
                </a:lnTo>
                <a:lnTo>
                  <a:pt x="26676" y="20200"/>
                </a:lnTo>
                <a:lnTo>
                  <a:pt x="26676" y="1400"/>
                </a:lnTo>
                <a:close/>
              </a:path>
              <a:path fill="darkenLess" w="28076" h="21600">
                <a:moveTo>
                  <a:pt x="28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6" y="20200"/>
                </a:lnTo>
                <a:close/>
              </a:path>
              <a:path fill="lighten" w="28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6" h="21600">
                <a:moveTo>
                  <a:pt x="7031" y="10800"/>
                </a:moveTo>
                <a:lnTo>
                  <a:pt x="21044" y="3794"/>
                </a:lnTo>
                <a:lnTo>
                  <a:pt x="2104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848720" y="5486400"/>
            <a:ext cx="108576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eviou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1447920"/>
            <a:ext cx="685800" cy="4888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0880" y="2330280"/>
            <a:ext cx="685800" cy="489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80880" y="3244680"/>
            <a:ext cx="685800" cy="489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80880" y="4159080"/>
            <a:ext cx="685800" cy="489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80880" y="5073480"/>
            <a:ext cx="685800" cy="489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80880" y="6019920"/>
            <a:ext cx="685800" cy="488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8077320" y="18288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94" name="">
            <a:hlinkClick r:id="" action="ppaction://hlinkshowjump?jump=endshow"/>
          </p:cNvPr>
          <p:cNvSpPr/>
          <p:nvPr/>
        </p:nvSpPr>
        <p:spPr>
          <a:xfrm>
            <a:off x="7881840" y="3200400"/>
            <a:ext cx="1033560" cy="762120"/>
          </a:xfrm>
          <a:custGeom>
            <a:avLst/>
            <a:gdLst>
              <a:gd name="textAreaLeft" fmla="*/ 49320 w 1033560"/>
              <a:gd name="textAreaRight" fmla="*/ 984240 w 10335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90" h="21600">
                <a:moveTo>
                  <a:pt x="0" y="0"/>
                </a:moveTo>
                <a:lnTo>
                  <a:pt x="29290" y="0"/>
                </a:lnTo>
                <a:lnTo>
                  <a:pt x="29290" y="21600"/>
                </a:lnTo>
                <a:lnTo>
                  <a:pt x="0" y="21600"/>
                </a:lnTo>
                <a:close/>
              </a:path>
              <a:path fill="lightenLess" w="29290" h="21600">
                <a:moveTo>
                  <a:pt x="0" y="0"/>
                </a:moveTo>
                <a:lnTo>
                  <a:pt x="29290" y="0"/>
                </a:lnTo>
                <a:lnTo>
                  <a:pt x="27890" y="1400"/>
                </a:lnTo>
                <a:lnTo>
                  <a:pt x="1400" y="1400"/>
                </a:lnTo>
                <a:close/>
              </a:path>
              <a:path fill="darken" w="29290" h="21600">
                <a:moveTo>
                  <a:pt x="29290" y="0"/>
                </a:moveTo>
                <a:lnTo>
                  <a:pt x="29290" y="21600"/>
                </a:lnTo>
                <a:lnTo>
                  <a:pt x="27890" y="20200"/>
                </a:lnTo>
                <a:lnTo>
                  <a:pt x="27890" y="1400"/>
                </a:lnTo>
                <a:close/>
              </a:path>
              <a:path fill="darkenLess" w="29290" h="21600">
                <a:moveTo>
                  <a:pt x="29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90" y="20200"/>
                </a:lnTo>
                <a:close/>
              </a:path>
              <a:path fill="lighten" w="29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924680" y="33526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5345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s this a chrysalis or coco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do the pupae eat at this st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is the main function of the pupa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is the main function of the larva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is the change from larva to pupa and pupa to adult call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y are we transferring pupae to the c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52280" y="304920"/>
            <a:ext cx="8839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happens when the larvae are fully grown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do the butterfly wings exp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 the adult butterfly an ins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can you t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80880" y="457200"/>
            <a:ext cx="8610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does an adult butterfly look lik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en do butterflies uncoil their probosc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do butterflies use their proboscis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795240" y="457200"/>
            <a:ext cx="7553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do adult butterflies feed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would happen to painted lady butterflies if they no longer laid eg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y is the picture of the life stages called a life cy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happens to an individual butterfly after it ma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04760" y="130320"/>
            <a:ext cx="8810640" cy="15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ere does the next gener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f butterflies come from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y don’t all eggs in nature develop into adul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ould it be good or bad if all eggs matu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500040" y="457200"/>
            <a:ext cx="8143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y don't all butterflies surviv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domen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rear part of the body of an insect which has organs for digesting food and for ma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aptation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way a plant or animal is made so it can meet its nee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ul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fully grown stage of an animal when it’s able to m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tenn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a sense organ on the head of an ins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otic potential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ow quickly a plant or animal population can grow if all its young surv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tterfly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long with moths and skippers, the ins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 scale covered wings. The easiest way to te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utterflies from their close relatives is by their club-shap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tenna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200400" y="380880"/>
            <a:ext cx="24573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lossa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8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581" name="">
            <a:hlinkClick r:id="" action="ppaction://hlinkshowjump?jump=nextslide"/>
          </p:cNvPr>
          <p:cNvSpPr/>
          <p:nvPr/>
        </p:nvSpPr>
        <p:spPr>
          <a:xfrm>
            <a:off x="7696080" y="15228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7848720" y="9907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terpillar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larva of a butterfly or a m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rysali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another name for the pupa of a butterfly. The outer covering is made from its own sk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coon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covering made of silk spun by a moth larva to protect it when it becomes a pu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lete metamorphosi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way some insects grow up. It includes egg, larva, pupa, and adult st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clusion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was discovered from doing an experi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rol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e part of an experiment that stays the same and 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 used for comparison with the changed parts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peri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8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587" name="">
            <a:hlinkClick r:id="" action="ppaction://hlinkshowjump?jump=nextslide"/>
          </p:cNvPr>
          <p:cNvSpPr/>
          <p:nvPr/>
        </p:nvSpPr>
        <p:spPr>
          <a:xfrm>
            <a:off x="7696080" y="3049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7848720" y="11430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9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gg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beginning stage of an animal, made by a female anim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erimen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 test an idea by making observ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owth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the process in which a plant or animal increases in 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ad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front part of an insect with organs for sensing and ea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umane treatmen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reating an animal in ways that meet its life needs and do not cause it to feel uncomfortable, feel pain, or 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c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 animal with six legs, a head, thorax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d abdomen, and a hard outer layer but no b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2438280" y="274320"/>
            <a:ext cx="4572360" cy="114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9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596" name="">
            <a:hlinkClick r:id="" action="ppaction://hlinkshowjump?jump=nextslide"/>
          </p:cNvPr>
          <p:cNvSpPr/>
          <p:nvPr/>
        </p:nvSpPr>
        <p:spPr>
          <a:xfrm>
            <a:off x="7696080" y="15228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7848720" y="9907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98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rva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a wingless, often worm-like, feeding and growing stage of an insect such as a butterf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g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The body parts used by an animal to move on the ground. Insect legs are found on the thorax and are join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fe Cycle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The changes in form plants and animals go through from young to ad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fe Span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The length of time a plant or animal l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miting Factor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Any basic need of a plant or animal which is not being met very well and keeps that plant or animal from being more comm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conium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Waste formed in the pupa which shows up just a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 adult insect comes out of a pu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2438280" y="274680"/>
            <a:ext cx="4572000" cy="114300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2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0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605" name="">
            <a:hlinkClick r:id="" action="ppaction://hlinkshowjump?jump=nextslide"/>
          </p:cNvPr>
          <p:cNvSpPr/>
          <p:nvPr/>
        </p:nvSpPr>
        <p:spPr>
          <a:xfrm>
            <a:off x="7696080" y="15228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7848720" y="9907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7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l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Sh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cta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A sweet liquid made by some plants and eaten by ins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dato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An animal which catches and eats other anim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osc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The long tube mouth of some kinds of insects such as butterfl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pa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A resting stage of some insects in which a larva changes into an ad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2438280" y="274320"/>
            <a:ext cx="4572360" cy="114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614" name="">
            <a:hlinkClick r:id="" action="ppaction://hlinkshowjump?jump=nextslide"/>
          </p:cNvPr>
          <p:cNvSpPr/>
          <p:nvPr/>
        </p:nvSpPr>
        <p:spPr>
          <a:xfrm>
            <a:off x="769608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7924680" y="1066680"/>
            <a:ext cx="838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6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we will be do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se some of the questions below to have a conversation with your peers about ins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as anyone in class ever raised an ins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ow long do insects l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at is the life cycle of an ins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oes a baby butterfly look like an adult butterf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ow do insects survive through the win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 we answer any of these questions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aising an ins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28880" y="457200"/>
            <a:ext cx="7086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do you raise a Butterf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gmen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One of the sections of the body of some animals, insects and worms for exa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a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Bristles or stiff hairs which stick up from the skin of a la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orax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middle part of an insect where wings and legs are f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riable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y part of an experiment which is changed to see how it changes the results of the experi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ste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Something made by a plant or animal as it grows or uses energy which is not needed and must be gotten rid of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plant or animal to stay healt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2438280" y="274320"/>
            <a:ext cx="4572360" cy="114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2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623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25" name="">
            <a:hlinkClick r:id="" action="ppaction://hlinkshowjump?jump=endshow"/>
          </p:cNvPr>
          <p:cNvSpPr/>
          <p:nvPr/>
        </p:nvSpPr>
        <p:spPr>
          <a:xfrm>
            <a:off x="7848720" y="228600"/>
            <a:ext cx="1066680" cy="762120"/>
          </a:xfrm>
          <a:custGeom>
            <a:avLst/>
            <a:gdLst>
              <a:gd name="textAreaLeft" fmla="*/ 49320 w 1066680"/>
              <a:gd name="textAreaRight" fmla="*/ 1017360 w 10666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7896240" y="380880"/>
            <a:ext cx="9428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umane Treatment of Butterf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andle all stages of the butterfly g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andle the containers g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ke sure the larvae and adults have enough food and space and the right temp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2280"/>
            <a:ext cx="8372520" cy="13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do we treat th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ies humanely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34120" y="2171880"/>
            <a:ext cx="3504960" cy="2247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772400" y="5791320"/>
            <a:ext cx="99072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601040" y="5257800"/>
            <a:ext cx="131436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0" y="228600"/>
            <a:ext cx="915336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do we do when th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y larvae arriv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9" name=""/>
          <p:cNvSpPr/>
          <p:nvPr/>
        </p:nvSpPr>
        <p:spPr>
          <a:xfrm>
            <a:off x="458280" y="1676520"/>
            <a:ext cx="803196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Key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y are there holes in the li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y is there filter paper under the li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y do we put medium in the culture vesse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y do we use the paintbrush to transfer the larva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25800" y="5334120"/>
            <a:ext cx="549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udents should realize that the culture vessels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igned to meet the larvae’s need for oxygen, foo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ater, and 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5334120"/>
            <a:ext cx="657360" cy="834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1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1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2388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lace a little medium in your culture vess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medium gives the larva food and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2578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38680" y="426708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4038480"/>
            <a:ext cx="1066680" cy="457200"/>
          </a:xfrm>
          <a:prstGeom prst="ellipse">
            <a:avLst/>
          </a:prstGeom>
          <a:solidFill>
            <a:srgbClr val="0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723920" y="4648320"/>
            <a:ext cx="228600" cy="1218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2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7772400" y="16002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924680" y="243828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2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 another culture vessel to pack the medium so that there are no air sp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f air spaces are left, the larva can crawl into those spots and become st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4952880"/>
            <a:ext cx="228600" cy="1676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662940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257800" y="4952520"/>
            <a:ext cx="228600" cy="1676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62520" y="4267080"/>
            <a:ext cx="228600" cy="1676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91120" y="594360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257800" y="4266720"/>
            <a:ext cx="228600" cy="1676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624852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71800" y="6400800"/>
            <a:ext cx="1523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30240" y="614664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3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eck the depth of the med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t should be 5 mm d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911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2578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911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6095880"/>
            <a:ext cx="1523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30240" y="58420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4120" y="59436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63244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43600" y="59436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943600" y="59432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05520" y="59580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5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17:38:41Z</dcterms:created>
  <dc:creator>PCSD</dc:creator>
  <dc:description/>
  <dc:language>en-US</dc:language>
  <cp:lastModifiedBy>Lancaster Central School District</cp:lastModifiedBy>
  <dcterms:modified xsi:type="dcterms:W3CDTF">2009-11-03T14:07:30Z</dcterms:modified>
  <cp:revision>37</cp:revision>
  <dc:subject/>
  <dc:title>Slide 1</dc:title>
</cp:coreProperties>
</file>