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A42A-B58E-4A50-8D52-9B7C7796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6C08-E547-4B2A-A9D4-A0B3EEE6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9BE9-80A1-4D35-89DB-C2DD6090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1F3A-133B-45E7-962B-58BE65CA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17DE-E7B2-4CD1-AF09-3967A20C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00F6-10A6-44E2-AFBA-9268431A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5222-AF18-4BB9-9444-D5DBAAF0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EAE0-3700-447A-8D64-335632EC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553D-BAE8-4855-A4D6-1A11231C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2089-2023-46A9-8C47-8FF291FB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8F1C-5D57-41B2-B575-B187BF3B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9C6D-876D-498B-957B-8F88CFAA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1B14-9771-482A-A746-24076F99DD3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F2EF-4D9F-4DE6-AA81-ABD599483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6.xml"/><Relationship Id="rId10" Type="http://schemas.openxmlformats.org/officeDocument/2006/relationships/slide" Target="slide28.xml"/><Relationship Id="rId11" Type="http://schemas.openxmlformats.org/officeDocument/2006/relationships/slide" Target="slide30.xml"/><Relationship Id="rId12" Type="http://schemas.openxmlformats.org/officeDocument/2006/relationships/slide" Target="slide32.xml"/><Relationship Id="rId13" Type="http://schemas.openxmlformats.org/officeDocument/2006/relationships/slide" Target="slide34.xml"/><Relationship Id="rId14" Type="http://schemas.openxmlformats.org/officeDocument/2006/relationships/slide" Target="slide36.xml"/><Relationship Id="rId15" Type="http://schemas.openxmlformats.org/officeDocument/2006/relationships/slide" Target="slide40.xml"/><Relationship Id="rId16" Type="http://schemas.openxmlformats.org/officeDocument/2006/relationships/slide" Target="slide44.xml"/><Relationship Id="rId17" Type="http://schemas.openxmlformats.org/officeDocument/2006/relationships/slide" Target="slide44.xml"/><Relationship Id="rId18" Type="http://schemas.openxmlformats.org/officeDocument/2006/relationships/slide" Target="slide48.xml"/><Relationship Id="rId19" Type="http://schemas.openxmlformats.org/officeDocument/2006/relationships/slide" Target="slide50.xml"/><Relationship Id="rId20" Type="http://schemas.openxmlformats.org/officeDocument/2006/relationships/slide" Target="slide2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4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6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7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8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9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0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Gues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,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3180-3E9A-4A1A-8091-9214D39E28D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take away liquid as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13CA-1E4F-4602-9613-ED9A86FCDCE2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7B83-EF29-4032-9BC1-9450433AF127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stores information and allows the user to access web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4AB3-4D4E-46F5-9166-35560167C3F6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u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7273-2B64-4C75-AEF5-582F33D92E8A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y varieties, usually involving one to four whe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E547-B419-4368-82F8-97611E0AC0A9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icyc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8730-3F33-4298-A27E-51BB13694847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d mainly to water dry 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2919-E58C-4C04-91CB-9EBCF48E5590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sprinkler or irrigation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CA79-D9EE-4A8F-AF50-B95E33E136F4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has gears and is used to measure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9FC-E607-4FED-A8C4-5A8E83FE6CE7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lo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4F4D-6487-4672-A8CB-07AA649DD42C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roup of objects that inte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E8D6-53D4-4B05-9846-88EB567D1268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de with a wooden spool, rubber band, and coffee stir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A251-17A0-4E24-A6D5-A2057658270D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poolmob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8E3E-C24F-44B6-B6AA-7738D8F00386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s acted on or influencing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23F9-BBA1-4303-B487-7FF6A4DCD729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tera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EEF6-2EAF-4DFC-AC16-2756F8A1D9C4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disappear in liquid by stir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9D04-9975-46D2-B697-D3D593422438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issol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92F1-B911-42CC-BEDA-268EAB0B1DAF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used to make a spool-mobile tra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7644-7545-4D06-ABA6-40FA2B3E2385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echanical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E32A-9AD7-4AA2-8194-D94C7D2CDA03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olored or colorless liquid that is cloudy or mil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D8EA-9084-426D-9031-520E9B9EBF68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uspen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C42B-35E1-44CE-88DE-F30DA444A4B4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26E9-0BAE-40A2-AF48-4726DCD2E6BF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haracteristic or trait used to describe an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6CAA-7343-410C-B0C3-F74C2091F9B4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per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D4C0-7561-4B33-A286-83916CB35615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blood vessels and art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9A0E-95D2-47DA-BCA8-72457E0E4A0E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circul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5CD5-36E6-46E4-A983-85BB49C36FA7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tibia, phalanges, and sp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8CCD-2682-4F07-8505-C8CE0625788E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skeletal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0B4D-0723-4D10-9C93-918E68F934AB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esophagus, stomach and both large and small intest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DAE7-99A0-487F-805D-82262EC90998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digestive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1930-6530-4436-BDCB-088E31024B08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deltoid, trapezius, and bic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0741-A4D5-429D-BB43-3D24CA6D2EE3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muscular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ED83-55AF-419F-AA4C-268C849C8476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thing that can be seen, touched, tasted or he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F430-8BC3-426D-BD84-4FEB8DBBF24B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lungs and the way we brea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4A40-FC91-4F2A-9D86-0347C7A72D78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respir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C078-90C1-4D7A-8631-F0D6D179DDD9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ter made up of two or more parts that keep their own character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E404-3E30-4A3C-959B-CFED85970038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ix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803D-AD6C-426B-B72E-665E36EFD299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mixture of two or more materials, [a clear liquid system, can be colored or colorless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DE3F-5315-463A-A79D-10ABD4043B2C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6F91-4F3F-4C2E-9959-8A7B44D87BFB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E956-1A05-4978-AA11-896A8EA445EA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o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8D38-758E-43EB-9B45-C1B9EE1F2ADD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a gas or vapor changes to a liqu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2F76-7C35-4FA4-80BA-AB2F430AC48D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ondens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678C-647C-4C56-B4E8-BA929BCBB5A3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obj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1BA9-0C88-437F-AB75-019D6A9A698D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dye that shows whether or not something is acid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2584-2A7F-4FEA-ABBA-BE683F354E4C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T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F219-27AB-456C-A8FB-366EA1E22A6C}" type="slidenum">
              <a:t>51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ducated guess as to what will happ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D0E-49AE-4F92-98D5-1DD98D2E6B11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redi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F853-ECC8-4518-8138-4282CA2F4E40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bility to do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BBF4-5749-4252-B30E-2EEB462E2736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61A2-61B8-4367-B832-BA356256A79F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 </cp:lastModifiedBy>
  <dcterms:modified xsi:type="dcterms:W3CDTF">2009-11-02T13:45:14Z</dcterms:modified>
  <cp:revision>33</cp:revision>
  <dc:subject/>
  <dc:title>Blank Jeopardy</dc:title>
</cp:coreProperties>
</file>