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680EA-23E4-4F6A-ABBC-9EA6843F5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914B-FD6F-451F-A24A-9044F1A0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D179-7AAD-449A-BC30-9C4582072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C210-7395-4496-98CE-43FA59D6F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3C31-CA79-4DF8-A1A5-39F4536B8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C29B-A533-42DB-AF9C-FE196E45E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AC9-AF10-4E15-B5A7-141959083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C1D6-1E96-4EA4-9E2A-7965DF891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C97D-6652-4A1B-88D0-9861E3680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24A0-E8AD-4A74-956A-8E619172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F058-5CCF-4126-867B-24B18213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0870-4942-420E-8A05-FA6CEB12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05443-452B-422A-8B0C-DA577A13CAB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B3B8-20BE-4FDB-844B-42B7C10DF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4390-8B0F-425B-82BD-1BA7C475DA6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770E-A102-4628-BA74-559B1EB0F6C6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53B8-6906-4666-9BA8-67D6034DF338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3351-2FEA-49AA-9E70-D9EB2095CA20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3CE2-6C3C-4CA4-A995-395D9222C2ED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5928-0456-4FF2-BEDE-90525AF4E5E7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E30-8D8E-4AB3-ACC6-19D07E0C9C8E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F697-51D2-4CB4-8987-CB8F4D1A4E22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9A4F-ACBE-4C40-9D4C-C41543C7CB6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AF52-0BE3-4D8B-8BAC-4BFCEA043BCD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19E-8BE9-4EB8-BC83-2A0852248930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B9560-4BA0-49B4-B98F-CE53943F94F8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26D0-6716-4B25-BA21-8A1D85E92433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1CB-3AC7-4D0F-AEAD-6ADFF63E6C15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2021-BCFF-4E7D-A2C5-D653FD8E21E6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FB08-F10B-4C3B-A4CE-5FD080CB6883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FEC0-B646-47AD-94DF-CC39F184BDBD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4E51-4D7E-4843-B55F-31A78C135789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325-2D41-47EF-9E65-E13BC6DB78DF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7523-ECD8-48E0-BB6E-BD5EC83843A9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A932-4D78-46A3-A512-8D4F2983430E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E97D-A7C0-411B-A751-7261F495D5E2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F591-7835-4F5C-B781-F42CC673B36E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CD07-896C-4546-8DD1-D94B76B2FE0B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D48C-C473-4ACC-B75A-D3A53DF95AE1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E5B1-A3F8-4343-8BA7-7854F374C908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9AEF-E428-4827-BB78-79BE65650004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A1B3-25E1-46A4-AF7B-51F973830BD5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57EE-D48C-418B-B3F0-62FA250D1BEB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183-BB3D-41A9-8E04-0DF345AEE8ED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F8B3-5712-43C4-B92C-7E582A8FCCA2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256-4161-4F6E-9062-79F4BAAE81DD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6118-A107-4810-97E2-FA8D05ADD3F3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A143-C27C-42E7-BB33-284C61D5DAEC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ED7E-8B91-4A0A-92AB-3E5DEDF4B3FB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D85-6C75-46EF-95E7-6D42FFE8CB45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549-4FC6-4017-B530-C06D3E094FA7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3C2E-5C2B-4E55-9427-738B10D7080A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BDE-583D-4ACA-9DB3-066A20D066F5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550-1B03-4312-A762-5CAC040526C2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6A0B-5276-4853-ACE0-CFDCCC8707C6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28D4-538E-4562-BA24-0F15273E2B57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A5FC-824C-434B-9112-22EBA07B3166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CF1D-A6A3-45F8-ACC0-A0F3A5934BBE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465B-4791-483C-AD43-50DAFB33D9F3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0B6-3ECE-45D5-A7BE-F4902E5E5AE5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349B-2D9F-4798-9726-646A6AF563B4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8BC0-3E1E-44FC-80FA-8D83FA198B85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06D9-92CB-4013-B3A7-36C7D2341560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D6F9-B80A-4832-A093-E3C8C9EC33AD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446B-6B89-43E9-8079-EF56E4E058C5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 </cp:lastModifiedBy>
  <dcterms:modified xsi:type="dcterms:W3CDTF">2009-11-02T13:45:14Z</dcterms:modified>
  <cp:revision>33</cp:revision>
  <dc:subject/>
  <dc:title>Blank Jeopardy</dc:title>
</cp:coreProperties>
</file>