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46E8-798E-4452-AB46-2E9FB8CD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B828-CBA7-4376-909B-2C6CB06E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1666-6DB7-421A-8A36-02D238EDC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5CBE-9958-4C1D-9946-7B044A10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7FD0-95F3-4D8B-A458-669A6A72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7492-5CB4-4895-8F8C-7353ED94A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777C-4090-4BE4-9D23-2703B9BB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85A3-CE25-4B32-9932-4897E705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0AA3-E9DC-49A8-ACAF-FA4A279C6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F9DC-61D0-417C-AC4B-3064714F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C9EC-BCC7-4000-BB7F-4928D97B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52E-5CF1-4A4F-9D20-4581093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D07E-2EA1-446B-8219-FF3818C65A4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B412-56D6-4B31-A9C1-55E2F786A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7CB1-7FF7-45FA-B3A3-1182C874EDAA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28E2-3312-474A-9A92-5A41536CB8F3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5EAF-2C85-4D9A-9F84-F8259ABB705D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A7D7-A2F5-47B1-8F54-F235A40CCA1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E7A0-1DB8-4B92-B851-BAE423E60880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BE47-A2A3-4F4F-889A-A8C25C0C1DC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D0A3-F550-4F4B-A2F4-CB37AB60A10B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201F-5AF9-46F0-AAFD-B4AD6524932A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BE4-B7D5-4AFE-9B81-989A08A447B2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3466-9DD2-432A-B48D-57BEF8834770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3700-0C5E-4824-9933-646679D72A1F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F11-120B-43BF-9DF6-4FA55E4E3E45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C4ED-7C67-4BFB-8C9C-8FEBF392F3AE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E398-9F59-429F-B4B2-45F361E19B9D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C148-2296-4D85-8589-37233FA0C2BD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A515-C7D7-48D2-97E0-4134C0E8E1E5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386A-4E58-4756-B653-932BE56BE20B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5BE-32E9-4CB2-8BF2-7AC8A6293E38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509D-C0E4-443F-9186-73AFFC7FD2B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8001-D9D3-4D71-BBF1-69A5BD4EFEC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73AF-5569-4F47-B744-D6DDBEC869BF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C902-4CF7-4358-9A59-22B8BBD725DD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75B9-BB96-4793-BD9E-937BABD09CA5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7A49-F692-47AA-89B8-8E09FF7AEDC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75C6-DF6D-4454-9A3C-DD6406233EC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87A5-384E-4071-BAD5-CBF75B97DCF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088-798B-4B8D-8ABD-9F220365F57C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EA00-EA82-4DC2-A4EB-67516F104D8C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5AB-94D0-4E78-802E-7A550F6D112C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F002-B10F-49C5-8001-86214A586392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C0DB-FC5E-49A2-B41B-401238CD9C20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AD29-941A-48F2-9004-9F1E6BA669E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D4BE-1CCA-44A7-925E-DF79992A13E9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5F14-17FF-4945-9836-26886734FA75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9096-D05D-4CBA-8AB3-D60401E24383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C9FC-E527-40AB-879B-2B84655E6074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F805-D9AE-4A89-A406-AC3699BBC1C1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518-FA13-4B4E-B18E-C6C945A3CEE6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7D9F-9CCB-4CC7-9765-E9C4F224299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4E2-823F-4161-933A-92BCBB5064BD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B4B6-8115-4F9F-9A88-F46E9F61C0FC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8442-1570-4378-8E57-40035A3AC9A2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463C-16FA-4D80-99C3-CA30D61603EA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B2211-BCB1-4307-866A-7D25ECE1AD5C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7071-4479-4A39-9B7B-F9686C8E30A3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707E-EAA1-4804-84DA-B3C2D922F0BD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99F0-5584-4511-A6CD-218734212C32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E1D8-2398-471C-A6A7-19E44AE4325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AEBA-1102-4A98-BDBE-83587983CAEE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1594-664A-4A6A-8271-1D641A44C55F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9905-F012-4EFA-9468-50CFB6A24CC6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LCSD</cp:lastModifiedBy>
  <dcterms:modified xsi:type="dcterms:W3CDTF">2009-11-03T15:18:36Z</dcterms:modified>
  <cp:revision>33</cp:revision>
  <dc:subject/>
  <dc:title>Blank Jeopardy</dc:title>
</cp:coreProperties>
</file>