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D41-D6F9-4829-AC94-47EE0047C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79BD-F420-4B9C-AFFB-8E2ECC09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9E75-109A-493A-A61E-30C674D4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421-91C5-44F7-B4A3-C52FE8B0E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0603E-90CC-4ABA-B46E-F909D85FE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2499-11A0-4CC5-881E-6776FCFC8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95E-B06A-4C26-9918-DE74FB4D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C5AEE-BDBB-4557-B59B-0AEA54A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492EC-C2E7-451C-99D7-148E03899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39BDC-F02D-4062-A898-87125F628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FB4BC-4563-4628-80B5-31ED0C611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DA07-8AE7-49DA-94DD-BB52A916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B5B49-0978-496B-A843-77C5F9EFA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DD5D6-2C8E-4947-90CA-FDFE16B70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21178-1D66-474A-A4A2-FE70BD2E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D9A06-6F83-4EAF-B30A-BF7A46C22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D2DE-1750-44CA-951A-B16946465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A9304-3EF4-4B64-B842-E3A7CABFB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2687C-797A-4CB3-B296-56658705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638-A1B9-423A-A067-4C831A685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B22B-A0CB-4BC3-A4A5-15602A74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D0CF-6719-4B00-8EEC-55C300086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1AC0-5AB5-4D5F-9945-B8E7C6CE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A8B-C392-45EC-8E90-05696E7A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A085B-4977-4676-8445-182A87D4DC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E8A06-3A91-4C08-8E56-64728E045B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tterfly Review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well do you know your definition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it called when an animal sheds its ski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olt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92280" y="22392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pupae" descr="pupae.png - pupae"/>
          <p:cNvPicPr/>
          <p:nvPr/>
        </p:nvPicPr>
        <p:blipFill>
          <a:blip r:embed="rId1"/>
          <a:stretch/>
        </p:blipFill>
        <p:spPr>
          <a:xfrm>
            <a:off x="5867280" y="2590920"/>
            <a:ext cx="2514600" cy="197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During the resting stage, when the larva is changing into an adult, it is called a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up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14880" y="24400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82940739_cf7d3093c8" descr=""/>
          <p:cNvPicPr/>
          <p:nvPr/>
        </p:nvPicPr>
        <p:blipFill>
          <a:blip r:embed="rId1"/>
          <a:stretch/>
        </p:blipFill>
        <p:spPr>
          <a:xfrm>
            <a:off x="4572000" y="2666880"/>
            <a:ext cx="3314880" cy="320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for the sense organ located on the head of an insec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enn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3767590556_410f0e9d35" descr=""/>
          <p:cNvPicPr/>
          <p:nvPr/>
        </p:nvPicPr>
        <p:blipFill>
          <a:blip r:embed="rId1"/>
          <a:stretch/>
        </p:blipFill>
        <p:spPr>
          <a:xfrm>
            <a:off x="4038480" y="2209680"/>
            <a:ext cx="4381560" cy="316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another name for the pupa of a butterfly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hrysal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006640" y="571680"/>
            <a:ext cx="9144000" cy="360"/>
          </a:xfrm>
          <a:prstGeom prst="rect">
            <a:avLst/>
          </a:prstGeom>
          <a:solidFill>
            <a:srgbClr val="ffff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4392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onarch_4" descr="monarch_4.jpg - chrysalis"/>
          <p:cNvPicPr/>
          <p:nvPr/>
        </p:nvPicPr>
        <p:blipFill>
          <a:blip r:embed="rId1"/>
          <a:stretch/>
        </p:blipFill>
        <p:spPr>
          <a:xfrm>
            <a:off x="4648320" y="1746360"/>
            <a:ext cx="3809880" cy="42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an animal that has 6 legs, a head, thorax, and abdomen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an02531_" descr=""/>
          <p:cNvPicPr/>
          <p:nvPr/>
        </p:nvPicPr>
        <p:blipFill>
          <a:blip r:embed="rId1"/>
          <a:stretch/>
        </p:blipFill>
        <p:spPr>
          <a:xfrm>
            <a:off x="4648320" y="1849320"/>
            <a:ext cx="3809880" cy="403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what a moth larva spins with silk that protects it when it becomes a pupa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4038120"/>
            <a:ext cx="3809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oco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-993600" y="-3898800"/>
            <a:ext cx="9150120" cy="14484240"/>
            <a:chOff x="-993600" y="-3898800"/>
            <a:chExt cx="9150120" cy="14484240"/>
          </a:xfrm>
        </p:grpSpPr>
        <p:grpSp>
          <p:nvGrpSpPr>
            <p:cNvPr id="105" name=""/>
            <p:cNvGrpSpPr/>
            <p:nvPr/>
          </p:nvGrpSpPr>
          <p:grpSpPr>
            <a:xfrm>
              <a:off x="-990360" y="-3895560"/>
              <a:ext cx="9143640" cy="14478120"/>
              <a:chOff x="-990360" y="-3895560"/>
              <a:chExt cx="9143640" cy="14478120"/>
            </a:xfrm>
          </p:grpSpPr>
          <p:sp>
            <p:nvSpPr>
              <p:cNvPr id="106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920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-990360" y="-3895560"/>
                <a:ext cx="9143640" cy="14478120"/>
              </a:xfrm>
              <a:prstGeom prst="rect">
                <a:avLst/>
              </a:prstGeom>
              <a:noFill/>
              <a:ln cap="sq"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-993600" y="-3898800"/>
              <a:ext cx="9150120" cy="14484240"/>
            </a:xfrm>
            <a:prstGeom prst="rect">
              <a:avLst/>
            </a:prstGeom>
            <a:noFill/>
            <a:ln cap="sq"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09" name="PrometheaCocoon" descr="Promethea Cocoon"/>
          <p:cNvPicPr/>
          <p:nvPr/>
        </p:nvPicPr>
        <p:blipFill>
          <a:blip r:embed="rId1"/>
          <a:stretch/>
        </p:blipFill>
        <p:spPr>
          <a:xfrm>
            <a:off x="5029200" y="2971800"/>
            <a:ext cx="26877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rear part of an insect?  (This is used to digest food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2895480"/>
            <a:ext cx="380988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bdom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an04187_" descr=""/>
          <p:cNvPicPr/>
          <p:nvPr/>
        </p:nvPicPr>
        <p:blipFill>
          <a:blip r:embed="rId1"/>
          <a:stretch/>
        </p:blipFill>
        <p:spPr>
          <a:xfrm>
            <a:off x="4648320" y="2924280"/>
            <a:ext cx="3809880" cy="188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9246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beginning stage of an animal that is made by the female is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380988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g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an01322_" descr=""/>
          <p:cNvPicPr/>
          <p:nvPr/>
        </p:nvPicPr>
        <p:blipFill>
          <a:blip r:embed="rId1"/>
          <a:stretch/>
        </p:blipFill>
        <p:spPr>
          <a:xfrm>
            <a:off x="4800600" y="3200400"/>
            <a:ext cx="3657600" cy="3327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larva of a butterfly or moth is also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rpill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an04198_" descr=""/>
          <p:cNvPicPr/>
          <p:nvPr/>
        </p:nvPicPr>
        <p:blipFill>
          <a:blip r:embed="rId1"/>
          <a:stretch/>
        </p:blipFill>
        <p:spPr>
          <a:xfrm>
            <a:off x="4648320" y="2905200"/>
            <a:ext cx="3809880" cy="19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name of the middle part of an insect where the wings and legs are found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641240"/>
            <a:ext cx="380988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ora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an04191_" descr=""/>
          <p:cNvPicPr/>
          <p:nvPr/>
        </p:nvPicPr>
        <p:blipFill>
          <a:blip r:embed="rId1"/>
          <a:stretch/>
        </p:blipFill>
        <p:spPr>
          <a:xfrm>
            <a:off x="4648320" y="2314440"/>
            <a:ext cx="3809880" cy="31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iff hairs on the larva are called what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440" y="2590920"/>
            <a:ext cx="3809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ta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an04221_" descr=""/>
          <p:cNvPicPr/>
          <p:nvPr/>
        </p:nvPicPr>
        <p:blipFill>
          <a:blip r:embed="rId1"/>
          <a:stretch/>
        </p:blipFill>
        <p:spPr>
          <a:xfrm>
            <a:off x="5559480" y="2057400"/>
            <a:ext cx="2214360" cy="403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7T16:33:56Z</dcterms:created>
  <dc:creator>LCSD</dc:creator>
  <dc:description/>
  <dc:language>en-US</dc:language>
  <cp:lastModifiedBy>LCSD</cp:lastModifiedBy>
  <dcterms:modified xsi:type="dcterms:W3CDTF">2009-11-03T14:27:40Z</dcterms:modified>
  <cp:revision>12</cp:revision>
  <dc:subject/>
  <dc:title>Butterfly Review</dc:title>
</cp:coreProperties>
</file>