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jpeg" ContentType="image/jpe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F0C0-679E-47AD-9314-82D8A1E38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E973-094F-4B57-95D0-D2D367875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5803-C804-4BE2-88A6-FC453A20B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9675-8167-455E-9CD6-C4CA4DE64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4947F-A4F4-44F0-B3C3-A317B1943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97693-47D3-4558-A952-6073DD735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564AC-0912-4D0D-871F-67C8B1A13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9BD55-1F9E-450A-92F6-281A8A760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8CAA0-DEB5-471D-A7E6-6D425D716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4D004-0D85-487B-A6F9-7C2C5B3B7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17700-1B3E-4E17-BE65-0278462CA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DDF7-1EE1-4968-88B4-7924936A3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E3EF3-E171-4D47-BC84-F483227C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B69E2-5A90-4822-BC18-1645C2EF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DBD5A-0ECA-42DF-9EFA-DCBE47E00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A990A-50E5-4167-B755-3211ABDA7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F0799-EA87-4225-A292-BC5C7AD4B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6DE9-DAEF-4C00-8B2E-359B03444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1BAA-08C2-4360-81D2-8B7D60385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47F3-DC04-4107-AAB8-F6586E67F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93AD-9812-4274-9924-76A59D7A2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9A71-0761-4942-9E38-315848F40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1898-F121-4611-8419-0C8358D1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5B13-3887-4AAB-865B-C261C42D1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mboo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8F1DC-B722-4BEB-A89A-4A74979F02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bamboo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72E8C-9B00-4D2B-B0ED-0A06A4AD1D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666000"/>
            <a:ext cx="7467480" cy="34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Caterpillar, Butterfly, or Moth?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I come out of a cocoon. </a:t>
            </a:r>
            <a:br>
              <a:rPr sz="4400"/>
            </a:b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4343400"/>
            <a:ext cx="3200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666000"/>
            <a:ext cx="7467480" cy="34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Caterpillar, Butterfly, or Moth?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I have wings and usually a long, thin body.</a:t>
            </a: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4343040"/>
            <a:ext cx="3657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utterf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666000"/>
            <a:ext cx="7467480" cy="34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Caterpillar, Butterfly, or Moth?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I have wings and a thick, furry body.</a:t>
            </a:r>
            <a:r>
              <a:rPr b="0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4343400"/>
            <a:ext cx="3200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666000"/>
            <a:ext cx="7467480" cy="34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Caterpillar, Butterfly, or Moth?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I usually spread my wings out when I rest.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4343400"/>
            <a:ext cx="3200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560" y="894600"/>
            <a:ext cx="7467480" cy="34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Caterpillar, Butterfly, or Moth?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003300"/>
                </a:solidFill>
                <a:latin typeface="Comic Sans MS"/>
              </a:rPr>
              <a:t>I eat a lot and shed my skin many times.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8" name=""/>
          <p:cNvSpPr/>
          <p:nvPr/>
        </p:nvSpPr>
        <p:spPr>
          <a:xfrm>
            <a:off x="762120" y="4800600"/>
            <a:ext cx="38862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rpill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560" y="894600"/>
            <a:ext cx="7467480" cy="34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The process of insects changing from eggs to adults is called what?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800600"/>
            <a:ext cx="5486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tamorph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12319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What part of the butterfly is used to suck nectar?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4190760"/>
            <a:ext cx="30862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osc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560" y="301680"/>
            <a:ext cx="74674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What part of an insect’s body is used to digest food?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3505320"/>
            <a:ext cx="36957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do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an02692_" descr=""/>
          <p:cNvPicPr/>
          <p:nvPr/>
        </p:nvPicPr>
        <p:blipFill>
          <a:blip r:embed="rId1"/>
          <a:stretch/>
        </p:blipFill>
        <p:spPr>
          <a:xfrm>
            <a:off x="4038480" y="3276720"/>
            <a:ext cx="3695760" cy="27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560" y="60696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What is an animal known as when it is fully grown?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3505320"/>
            <a:ext cx="36957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an01168_" descr=""/>
          <p:cNvPicPr/>
          <p:nvPr/>
        </p:nvPicPr>
        <p:blipFill>
          <a:blip r:embed="rId1"/>
          <a:stretch/>
        </p:blipFill>
        <p:spPr>
          <a:xfrm>
            <a:off x="4114800" y="3200400"/>
            <a:ext cx="369576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-3960"/>
            <a:ext cx="746748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The bristles or stiff hairs that help protect caterpillars from predators are known as what?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4038120"/>
            <a:ext cx="36957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ta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an04221_" descr=""/>
          <p:cNvPicPr/>
          <p:nvPr/>
        </p:nvPicPr>
        <p:blipFill>
          <a:blip r:embed="rId1"/>
          <a:stretch/>
        </p:blipFill>
        <p:spPr>
          <a:xfrm>
            <a:off x="4800600" y="2743200"/>
            <a:ext cx="2257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560" y="666720"/>
            <a:ext cx="74674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The first stage of an insect that is produced by the female is an . . . 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4038120"/>
            <a:ext cx="36957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g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aintedLadyEggs" descr=""/>
          <p:cNvPicPr/>
          <p:nvPr/>
        </p:nvPicPr>
        <p:blipFill>
          <a:blip r:embed="rId1"/>
          <a:stretch/>
        </p:blipFill>
        <p:spPr>
          <a:xfrm>
            <a:off x="2590920" y="2971800"/>
            <a:ext cx="48006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335960"/>
            <a:ext cx="746748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Caterpillar, Butterfly, or Moth?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003300"/>
                </a:solidFill>
                <a:latin typeface="Comic Sans MS"/>
              </a:rPr>
              <a:t>I fly mostly in the daytime.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4343400"/>
            <a:ext cx="3200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tterf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560" y="6832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Name in order the four stages of a butterfly’s life.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2819160"/>
            <a:ext cx="36957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g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ar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u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na00755_" descr=""/>
          <p:cNvPicPr/>
          <p:nvPr/>
        </p:nvPicPr>
        <p:blipFill>
          <a:blip r:embed="rId1"/>
          <a:stretch/>
        </p:blipFill>
        <p:spPr>
          <a:xfrm>
            <a:off x="4076640" y="2387520"/>
            <a:ext cx="3695760" cy="33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60" y="666000"/>
            <a:ext cx="7467480" cy="34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Caterpillar, Butterfly, or Moth?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I have thick, feathery antennae</a:t>
            </a:r>
            <a:r>
              <a:rPr b="0" i="1" lang="en-US" sz="4400" spc="-1" strike="noStrike">
                <a:solidFill>
                  <a:srgbClr val="0033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4343400"/>
            <a:ext cx="3200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o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669960"/>
            <a:ext cx="746748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Caterpillar, Butterfly, or Moth?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I have true legs and prolegs.</a:t>
            </a:r>
            <a:r>
              <a:rPr b="0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4343400"/>
            <a:ext cx="3200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aterpill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666000"/>
            <a:ext cx="7467480" cy="34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Caterpillar, Butterfly, or Moth?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I have wings that usually have bright, vivid colors.</a:t>
            </a:r>
            <a:r>
              <a:rPr b="0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4343400"/>
            <a:ext cx="3200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utterf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669960"/>
            <a:ext cx="746748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Caterpillar, Butterfly, or Moth?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	</a:t>
            </a:r>
            <a:r>
              <a:rPr b="0" i="1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I come out of a chrysalis.</a:t>
            </a:r>
            <a:r>
              <a:rPr b="0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4343400"/>
            <a:ext cx="3200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utterf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1335960"/>
            <a:ext cx="746748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Caterpillar, Butterfly, or Moth?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I fly mostly at night.</a:t>
            </a:r>
            <a:r>
              <a:rPr b="0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4343400"/>
            <a:ext cx="3200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666000"/>
            <a:ext cx="7467480" cy="34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Caterpillar, Butterfly, or Moth?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I usually fold my wings up when I rest</a:t>
            </a:r>
            <a:r>
              <a:rPr b="0" i="1" lang="en-US" sz="4400" spc="-1" strike="noStrike">
                <a:solidFill>
                  <a:srgbClr val="0033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4343400"/>
            <a:ext cx="3200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utterf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666000"/>
            <a:ext cx="7467480" cy="34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Caterpillar, Butterfly, or Moth?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I am also called the larva stage of the life cycle.</a:t>
            </a:r>
            <a:r>
              <a:rPr b="0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4343400"/>
            <a:ext cx="457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rpil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4T21:31:02Z</dcterms:created>
  <dc:creator>LCSD</dc:creator>
  <dc:description/>
  <dc:language>en-US</dc:language>
  <cp:lastModifiedBy>Lancaster Central School District</cp:lastModifiedBy>
  <dcterms:modified xsi:type="dcterms:W3CDTF">2009-11-03T14:25:39Z</dcterms:modified>
  <cp:revision>22</cp:revision>
  <dc:subject/>
  <dc:title>Caterpillar, Butterfly, Moth, or  Moth and Butterfly?</dc:title>
</cp:coreProperties>
</file>