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02FD-AFDA-4AC7-A7FF-3258B89C0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0341-8CD0-468D-97D8-EEFBBBA5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A6426-F61C-4019-891F-7C52F83FD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AC6D-8933-4C65-BA9A-6922B1E6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50A6-D50C-44F6-A219-F9CE9430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046-E295-4257-958D-5EBC4A04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F3B-E4D8-4184-8601-BFDD74A9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AE24-5BA3-4371-B626-F1FB426C4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941E-ED96-4E19-BFC0-E619B0303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652B-6F6B-48BB-B9FC-64789B43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8C9-DFEA-4B1A-BFE2-A892FC60D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550-47BD-47A3-BC34-D781D649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EA910-ED61-4C3A-B2AA-2B7EB30F1E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CSD</cp:lastModifiedBy>
  <dcterms:modified xsi:type="dcterms:W3CDTF">2009-11-03T17:24:46Z</dcterms:modified>
  <cp:revision>37</cp:revision>
  <dc:subject/>
  <dc:title>Slide 1</dc:title>
</cp:coreProperties>
</file>