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074-CCA7-4678-A3C7-492060A4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3B0-7215-4F8B-94A2-E8BEE9DA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E00-97EC-4CE3-B0AA-7195D05B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328-2053-43DD-8F97-18B384E3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217-BDD3-40D3-A752-B61947BC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E5A-87A6-410C-87E0-7B8D7BA8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6F7-56DF-4D1E-A1DE-A8FE6E25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699-0C5F-4B79-A815-5FE94B97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D39-71C4-400C-BE5C-68EA24A2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E48-7A6C-43AF-925C-364537B6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272-7AB8-4CA1-B0CA-1AE90BB2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9FA-457A-4999-A548-78AA8795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18EC-BA10-497A-8785-3B2584095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" Target="slide5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image" Target="../media/image1.jpeg"/><Relationship Id="rId10" Type="http://schemas.openxmlformats.org/officeDocument/2006/relationships/slide" Target="slide15.xml"/><Relationship Id="rId11" Type="http://schemas.openxmlformats.org/officeDocument/2006/relationships/image" Target="../media/image1.jpeg"/><Relationship Id="rId12" Type="http://schemas.openxmlformats.org/officeDocument/2006/relationships/slide" Target="slide16.xml"/><Relationship Id="rId13" Type="http://schemas.openxmlformats.org/officeDocument/2006/relationships/image" Target="../media/image1.jpeg"/><Relationship Id="rId14" Type="http://schemas.openxmlformats.org/officeDocument/2006/relationships/slide" Target="slide35.xm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.jpeg"/><Relationship Id="rId3" Type="http://schemas.openxmlformats.org/officeDocument/2006/relationships/slide" Target="slide30.xml"/><Relationship Id="rId4" Type="http://schemas.openxmlformats.org/officeDocument/2006/relationships/image" Target="../media/image1.jpeg"/><Relationship Id="rId5" Type="http://schemas.openxmlformats.org/officeDocument/2006/relationships/slide" Target="slide31.xml"/><Relationship Id="rId6" Type="http://schemas.openxmlformats.org/officeDocument/2006/relationships/image" Target="../media/image1.jpeg"/><Relationship Id="rId7" Type="http://schemas.openxmlformats.org/officeDocument/2006/relationships/slide" Target="slide32.xml"/><Relationship Id="rId8" Type="http://schemas.openxmlformats.org/officeDocument/2006/relationships/image" Target="../media/image1.jpeg"/><Relationship Id="rId9" Type="http://schemas.openxmlformats.org/officeDocument/2006/relationships/slide" Target="slide33.xml"/><Relationship Id="rId10" Type="http://schemas.openxmlformats.org/officeDocument/2006/relationships/image" Target="../media/image1.jpeg"/><Relationship Id="rId11" Type="http://schemas.openxmlformats.org/officeDocument/2006/relationships/slide" Target="slide34.xml"/><Relationship Id="rId12" Type="http://schemas.openxmlformats.org/officeDocument/2006/relationships/image" Target="../media/image1.jpeg"/><Relationship Id="rId13" Type="http://schemas.openxmlformats.org/officeDocument/2006/relationships/slide" Target="slide35.xm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924680" y="6019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 a paintbrush to gently place one painted lady butterfly larva in your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8862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647960" y="4419720"/>
            <a:ext cx="228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rite your name and date on both sides of the filter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the filter paper over top of the culture vessel and fold it over the edge of th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167616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4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81280" y="4648320"/>
            <a:ext cx="1676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 plastic lid on the culture vessel over the filter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lowly work your way around the edge of the plastic lid until the lid snaps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ilter paper and holes in the plastic lid let air into the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648320"/>
            <a:ext cx="175248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609588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0680" y="5257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 the culture vessel in a saf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sure to avoid temperature extremes like window sills, radiators, and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57150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24080" y="44193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4197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876560" y="44193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ense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lens magnifies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ight try to eat a lar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es a larva protect it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266760"/>
            <a:ext cx="73440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can we find out about the larva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 larvae eaten any of the fo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 animals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y made any waste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 if a larva has g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id your predictions compare with your observa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840" y="228600"/>
            <a:ext cx="840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tell how mu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arvae have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up Cages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k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copy pape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62000" y="38088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build a butterfly cag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600200"/>
            <a:ext cx="4191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nging Cag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copy paper box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9277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udents turn to page 8 of the activity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1600200" y="114300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6095880" y="11430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: Group C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Your cardboard box should be 12” by 9” by 18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the large piece of nylon netting into 6 pieces each measuring 15” by 24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267080"/>
            <a:ext cx="6248520" cy="22860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4100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142640" y="5105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105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4343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2577240" y="45324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1440" y="4913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box has flaps on the top where it was opened, cut them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ver any holes with tape, inside and out, so butterflies cannot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there are no sticky tape surfaces exposed inside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ide which side of the box will be the top of the cage and place box with cage top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one side of the cage for a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aw a 6” by 6” square on the center of that side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411480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7180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952880" y="5943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288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86400" y="3428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0" y="3544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5520" y="43070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” by 6”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57440" y="44956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84120" y="15382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you raise a butter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9000" y="24526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we treat butterflies huma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560" y="33670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 we do when the butterfly larvae arr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4840" y="4267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can we find out about the larva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7360" y="51814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tell how much the larvae have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4840" y="611028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build a butterfly c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6765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0120" y="11430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990360" cy="76176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7033" y="3794"/>
                </a:moveTo>
                <a:lnTo>
                  <a:pt x="21046" y="10800"/>
                </a:lnTo>
                <a:lnTo>
                  <a:pt x="70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91520" y="52578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ts continu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140508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1800" y="32767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23623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880" y="41911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1800" y="51055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61800" y="60199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81920" y="1785960"/>
            <a:ext cx="704880" cy="5000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805880" y="32004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through 3 sides of the square. The fourth side will act as the hi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380988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97180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952880" y="5638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5288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864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rot="16200000">
            <a:off x="6949080" y="3870720"/>
            <a:ext cx="1189080" cy="1218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613200" y="313524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squ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ut 3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257800" y="3581280"/>
            <a:ext cx="12952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two paper fasteners and a twist tie to make a door l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3200400"/>
            <a:ext cx="2666880" cy="3124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648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3560" y="46483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8760" y="351648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809880"/>
            <a:ext cx="9144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" y="5954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4876920"/>
            <a:ext cx="2057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de of c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61640" y="3516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029200" y="37339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ce the box on a table with the opening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y precut nylon netting over the o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masking tape to secure one side of the netting to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l netting tight to other side of the box opening and secure with t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pe the two remaining edges of the netting to the box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5181480"/>
            <a:ext cx="29718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46483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pening of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10080" y="487692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a hole ¾” by ¾” in the top of the cage for each pu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is where filter papers with hanging pupae will be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19112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52880" y="60195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95288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48640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5812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105160" y="3733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ld a box lid open side up for the top of the c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rap the uncut piece of netting around the lid so the edge of the netting is even with the top edge of the box 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sure the netting overlaps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etch tight and sta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4800600"/>
            <a:ext cx="2590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7220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7220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191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862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244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14600" y="548604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888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24480" y="464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29400" y="4419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781680" y="44956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6716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eat step 1 to attach bottom of c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inside of lid faces outside of cage, making stapl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2788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648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32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209680" y="5486040"/>
            <a:ext cx="8384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866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476760" y="4495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4197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ttom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2 paper fasteners through the netting where it over laps so that butterflies cannot escape and so students can reach inside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224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6172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97840" y="50403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419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525780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723920" y="4724280"/>
            <a:ext cx="22100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a ¾” by ¾” hole in the top for each pupa to be h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3505320"/>
            <a:ext cx="2590560" cy="304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7672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6728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867280" y="32000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2895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625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81280" y="31237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124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53080" y="3352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29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992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324480" y="312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2670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5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2440" y="30481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32767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cotton cord to hang the completed cage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426708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6728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581280" y="3886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3886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114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019920" y="4114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324480" y="38858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029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638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1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2819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56" y="384"/>
                  <a:pt x="512" y="0"/>
                  <a:pt x="720" y="0"/>
                </a:cubicBezTo>
                <a:cubicBezTo>
                  <a:pt x="928" y="0"/>
                  <a:pt x="1088" y="384"/>
                  <a:pt x="1248" y="76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32080" y="31352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3352680"/>
            <a:ext cx="12189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35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ould we find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akes a good experi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04920" y="1522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design an experiment to fi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t what might be in the culture mediu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800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352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105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3320" y="4608360"/>
            <a:ext cx="1739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ltur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800600"/>
            <a:ext cx="17524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3680" y="243828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happens when the larvae are fully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2240" y="327672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es an adult butterfly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8560" y="518148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 does the next generation of butterflies com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4160" y="6095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don’t all butterflies surv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8200" y="41911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adult butterflies f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5560" y="1339920"/>
            <a:ext cx="64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ould we design an experiment to find out what migh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culture med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169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129528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92468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5486400"/>
            <a:ext cx="1085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3302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2446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41590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80880" y="50734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0880" y="6019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77320" y="18288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7881840" y="3200400"/>
            <a:ext cx="1033560" cy="762120"/>
          </a:xfrm>
          <a:custGeom>
            <a:avLst/>
            <a:gdLst>
              <a:gd name="textAreaLeft" fmla="*/ 49320 w 1033560"/>
              <a:gd name="textAreaRight" fmla="*/ 984240 w 1033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90" h="21600">
                <a:moveTo>
                  <a:pt x="0" y="0"/>
                </a:moveTo>
                <a:lnTo>
                  <a:pt x="29290" y="0"/>
                </a:lnTo>
                <a:lnTo>
                  <a:pt x="29290" y="21600"/>
                </a:lnTo>
                <a:lnTo>
                  <a:pt x="0" y="21600"/>
                </a:lnTo>
                <a:close/>
              </a:path>
              <a:path fill="lightenLess" w="29290" h="21600">
                <a:moveTo>
                  <a:pt x="0" y="0"/>
                </a:moveTo>
                <a:lnTo>
                  <a:pt x="29290" y="0"/>
                </a:lnTo>
                <a:lnTo>
                  <a:pt x="27890" y="1400"/>
                </a:lnTo>
                <a:lnTo>
                  <a:pt x="1400" y="1400"/>
                </a:lnTo>
                <a:close/>
              </a:path>
              <a:path fill="darken" w="29290" h="21600">
                <a:moveTo>
                  <a:pt x="29290" y="0"/>
                </a:moveTo>
                <a:lnTo>
                  <a:pt x="29290" y="21600"/>
                </a:lnTo>
                <a:lnTo>
                  <a:pt x="27890" y="20200"/>
                </a:lnTo>
                <a:lnTo>
                  <a:pt x="27890" y="1400"/>
                </a:lnTo>
                <a:close/>
              </a:path>
              <a:path fill="darkenLess" w="29290" h="21600">
                <a:moveTo>
                  <a:pt x="2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90" y="20200"/>
                </a:lnTo>
                <a:close/>
              </a:path>
              <a:path fill="lighten" w="2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2468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this a chrysalis or coc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do the pupae eat at this s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pupa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larva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change from larva to pupa and pupa to adult cal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we transferring pupae to the c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304920"/>
            <a:ext cx="883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happens when the larvae are fully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 the butterfly wings exp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dult butterfly an in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880" y="457200"/>
            <a:ext cx="861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es an adult butterfly look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do butterflies uncoil their probosc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butterflies use their probosci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95240" y="457200"/>
            <a:ext cx="755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adult butterflies fe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ould happen to painted lady butterflies if they no longer laid eg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is the picture of the life stages called a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happens to an individual butterfly after it 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4760" y="130320"/>
            <a:ext cx="88106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ere does the next gen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butterflies come fro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n’t all eggs in nature develop into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it be good or bad if all eggs matu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00040" y="45720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 don't all butterflies surv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dom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rear part of the body of an insect which has organs for digesting food and for m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apt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y a plant or animal is made so it can meet its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u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ully grown stage of an animal when it’s able to 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nn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a sense organ on the head of an ins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tic potentia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quickly a plant or animal population can grow if all its young surv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terfl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ong with moths and skippers, the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cale covered wings. The easiest way to t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tterflies from their close relatives is by their club-sha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tenn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200400" y="380880"/>
            <a:ext cx="2457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pilla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larva of a butterfly or a m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ysal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another name for the pupa of a butterfly. The outer covering is made from its own s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co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overing made of silk spun by a moth larva to protect it when it becomes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metamorphosi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y some insects grow up. It includes egg, larva, pupa, and adult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was discovered from doing an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part of an experiment that stays the same and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 used for comparison with the changed part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7696080" y="3049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8487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g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ginning stage of an animal, made by a femal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test an idea by making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e process in which a plant or animal increases in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ront part of an insect with organs for sensing and e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e treat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eating an animal in ways that meet its life needs and do not cause it to feel uncomfortable, feel pain, or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c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animal with six legs, a head, thor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abdomen, and a hard outer layer but no b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96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8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v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 wingless, often worm-like, feeding and growing stage of an insect such as a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body parts used by an animal to move on the ground. Insect legs are found on the thorax and are joi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Cycl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changes in form plants and animals go through from young to ad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Sp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length of time a plant or animal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ny basic need of a plant or animal which is not being met very well and keeps that plant or animal from being more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conium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Waste formed in the pupa which shows up just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adult insect comes out of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438280" y="274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ta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sweet liquid made by some plants and eaten by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n animal which catches and eats other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osc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The long tube mouth of some kinds of insects such as butterf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p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resting stage of some insects in which a larva changes into an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769608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924680" y="1066680"/>
            <a:ext cx="83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e will be do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some of the questions below to have a conversation with your peers about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anyone in class ever raised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long do insects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life cycle of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a baby butterfly look like an adult butter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insects survive through the wi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we answer any of these questions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sing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28880" y="45720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you raise a Butterf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One of the sections of the body of some animals, insects and worms for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a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Bristles or stiff hairs which stick up from the skin of a l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ax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middle part of an insect where wings and legs ar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y part of an experiment which is changed to see how it changes the results of the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t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omething made by a plant or animal as it grows or uses energy which is not needed and must be gotten rid of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plant or animal to stay healt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5" name="">
            <a:hlinkClick r:id="" action="ppaction://hlinkshowjump?jump=endshow"/>
          </p:cNvPr>
          <p:cNvSpPr/>
          <p:nvPr/>
        </p:nvSpPr>
        <p:spPr>
          <a:xfrm>
            <a:off x="7848720" y="2286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896240" y="380880"/>
            <a:ext cx="942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umane Treatment of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all stages of the butterfly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the containers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sure the larvae and adults have enough food and space and the right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280"/>
            <a:ext cx="83725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we treat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 humane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2171880"/>
            <a:ext cx="350496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5791320"/>
            <a:ext cx="99072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01040" y="52578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228600"/>
            <a:ext cx="9153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 we do whe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larvae arr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8280" y="1676520"/>
            <a:ext cx="8031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are there holes in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is there filter paper under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put medium in the culture vess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use the paintbrush to transfer the larva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25800" y="5334120"/>
            <a:ext cx="54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udents should realize that the culture vessel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igned to meet the larvae’s need for oxygen, fo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ter, and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657360" cy="83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238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ce a little medium in your cultur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medium gives the larva food an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2670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038480"/>
            <a:ext cx="1066680" cy="45720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23920" y="4648320"/>
            <a:ext cx="2286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16002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924680" y="243828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another culture vessel to pack the medium so that there are no air sp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air spaces are left, the larva can crawl into those spots and become 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9528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6629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49525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2670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943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257800" y="42667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24852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64008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0240" y="614664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the depth of the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should be 5 mm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60958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0240" y="5842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5943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6324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5943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5943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5958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38:41Z</dcterms:created>
  <dc:creator>PCSD</dc:creator>
  <dc:description/>
  <dc:language>en-US</dc:language>
  <cp:lastModifiedBy>LCSD</cp:lastModifiedBy>
  <dcterms:modified xsi:type="dcterms:W3CDTF">2009-11-03T17:24:46Z</dcterms:modified>
  <cp:revision>37</cp:revision>
  <dc:subject/>
  <dc:title>Slide 1</dc:title>
</cp:coreProperties>
</file>