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8DD-86EA-4861-94C5-5617B982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AC02-B652-4C29-AE83-5C1E7D3B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96D-B5F7-43FC-B70D-C20F60DF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8712-45E3-4BEB-A69A-16DFB6F7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0B17-0CE5-400B-86A3-D03F5247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D970-0A06-4698-BD71-0EDFD3AD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6C62-F794-4CF0-A39B-4AE70555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7343-68F7-4267-8BB5-FB4C1800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87DA-9B7C-43DA-8F5F-E533AEEE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5C7F-F8A7-4A59-9BF8-0B7B5E15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A5D1-4B8B-45EE-BE4C-73C1650C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81E5-D348-44FD-A264-ED176B50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EAC3-551C-4465-BB9E-EE2B9C81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1AA1-6EBB-45DD-B1A1-D15ED06E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80DF-ACEE-4905-829B-D530661F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BA77-EF01-4D5B-B3D7-63983838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64DC-14A9-4A3B-830B-F25AE277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7C34-111A-4EE5-BE07-911E637D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CB2-C234-44F8-9520-757FE24D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088-5D6B-4C13-BF2E-F74ADCAD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28B7-E679-4C69-B35F-F4B32298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039-6C00-4DCC-98FC-40A29FE1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35C7-B48A-44B4-A10A-FF023F64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A54-8282-4A30-8169-987406B1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5204-A23E-4482-BD2F-760CD69AFE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8BEC-8A7F-472B-A1E0-7ADA08BDA8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empus Sans ITC"/>
              </a:rPr>
              <a:t>Butterflies-Learning Goal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Life cycle of the butterf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Characteristics of butterflies and moth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Butterfly body pa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Interdependence among plants and butterfl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5:34:17Z</dcterms:created>
  <dc:creator> </dc:creator>
  <dc:description/>
  <dc:language>en-US</dc:language>
  <cp:lastModifiedBy>Lancaster Central School District</cp:lastModifiedBy>
  <dcterms:modified xsi:type="dcterms:W3CDTF">2009-11-03T14:39:38Z</dcterms:modified>
  <cp:revision>2</cp:revision>
  <dc:subject/>
  <dc:title>Butterflies-Learning Goals</dc:title>
</cp:coreProperties>
</file>