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3CA4-1C39-4416-9F46-4D2C99043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AED8-5B0B-4268-8F54-98CCF9C5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956F-C34C-4E4D-8914-D0FA434FF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F4AB-D169-4227-93CC-CE7924776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FB4F0-C002-48E4-9B9F-87AC3375F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12FC-D937-4EF4-B6C7-53088542C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6049D-0647-4C54-A0FD-0973FF42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4072C-8898-4BA0-8B06-A04670B3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042A4-8929-4261-9E09-60692F4B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F839-BF22-4DEA-B7BD-24E5FA99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9915-A9AE-4888-B879-7B0D01A3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C543-D392-4FBE-89E7-C78AF4965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FFDA0-540A-428B-B7BD-887F30FD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DD48C-77B0-4A10-9F28-223E58CE4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DF53-9B15-4E2F-9013-E0C4242F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890D0-FCA1-4CD9-8F0D-ED0230E0D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BDEFD-BE12-4AB0-8C8C-3E2A07AF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A3D7-018C-43DC-8356-FD43582E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B1B2-D0F8-4DCF-9867-F7A7CDDE8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DA5E-223B-48C5-A85B-DF439213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8ADF-F03B-4636-B1FE-68D940F96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9262-2A41-40EE-8287-5C9611CE6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77E-37A1-46DF-98EC-A270B877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7542-C6CB-4279-A5CF-260A8E85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7DCF8-F197-46CE-99A6-C94AE64950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FC9E-AA31-4CA7-939F-96B1BEDF9F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empus Sans ITC"/>
              </a:rPr>
              <a:t>Butterflies-Learning Goal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Life cycle of the butterfly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Characteristics of butterflies and moth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Butterfly body par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mpus Sans ITC"/>
              </a:rPr>
              <a:t>Interdependence among plants and butterfli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5:34:17Z</dcterms:created>
  <dc:creator> </dc:creator>
  <dc:description/>
  <dc:language>en-US</dc:language>
  <cp:lastModifiedBy>Lancaster Central School District</cp:lastModifiedBy>
  <dcterms:modified xsi:type="dcterms:W3CDTF">2009-11-03T14:39:38Z</dcterms:modified>
  <cp:revision>2</cp:revision>
  <dc:subject/>
  <dc:title>Butterflies-Learning Goals</dc:title>
</cp:coreProperties>
</file>