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493-991E-41B1-AAB1-C2880F1A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0E5-C76C-43D0-ACBC-2B4A90F8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953-6BD4-4F97-820D-7E4040A2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A1D-4F31-417A-9E1F-C980E279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D25-CFD9-41E3-851F-53034529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813-5603-413A-AAF3-6B1E9AF0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239-5D3B-4C7C-8207-8AF59423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B6E-F7C5-49BC-8365-555600A8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60D-934F-44AA-ABC7-51475063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649-AF58-40BA-BFFE-11FE6E21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BFB-79BD-4C72-BBB0-E9D15D5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8C9-1219-43C9-84FC-07FD1F6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CBB8-BA42-46E1-B91A-75B2BC0E3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ancaster Central School District</cp:lastModifiedBy>
  <dcterms:modified xsi:type="dcterms:W3CDTF">2009-11-03T14:07:30Z</dcterms:modified>
  <cp:revision>37</cp:revision>
  <dc:subject/>
  <dc:title>Slide 1</dc:title>
</cp:coreProperties>
</file>